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wmf" ContentType="image/x-wmf"/>
  <Override PartName="/ppt/media/image11.wmf" ContentType="image/x-wmf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B1AA-E7E8-4408-ADDC-C899F1DD3F1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CDA5-1344-440F-A57A-6F768AF3053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8866-CE0F-4EA2-BB40-95574831C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1FE2-8DF8-4546-B1C8-9D9D767D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E261-C882-4707-86ED-FEB5E978B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99E3-EBDC-4205-8744-CE22B58EA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BC4B-A3B2-45F6-981C-6349A357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BB5E-EA19-435C-9B33-BC230776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9785-6E0C-47F2-9BC3-B10A186C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9A70-6112-49A3-A510-9B84DD60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FBDD-CB83-4765-861F-2D4053AF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E781-75FF-4A28-8270-FC116098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4ADD-5EF1-4BDA-BBD4-D50534F4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6DDE-C503-455C-A20A-91FA0BEB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4685-B86F-44FB-8EBF-365E64457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0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4"/>
          <p:cNvSpPr txBox="1"/>
          <p:nvPr/>
        </p:nvSpPr>
        <p:spPr>
          <a:xfrm>
            <a:off x="1835280" y="692280"/>
            <a:ext cx="475272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微软雅黑"/>
              </a:rPr>
              <a:t>敕勒歌</a:t>
            </a:r>
            <a:endParaRPr b="1" lang="en-US" sz="72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微软雅黑"/>
              <a:ea typeface="微软雅黑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3203640" y="300996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北朝民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1827000" y="6093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Oval 2"/>
          <p:cNvSpPr/>
          <p:nvPr/>
        </p:nvSpPr>
        <p:spPr>
          <a:xfrm>
            <a:off x="179280" y="2565360"/>
            <a:ext cx="1006560" cy="719280"/>
          </a:xfrm>
          <a:prstGeom prst="ellipse">
            <a:avLst/>
          </a:prstGeom>
          <a:solidFill>
            <a:srgbClr val="00ffcc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3"/>
          <p:cNvSpPr/>
          <p:nvPr/>
        </p:nvSpPr>
        <p:spPr>
          <a:xfrm>
            <a:off x="250920" y="189000"/>
            <a:ext cx="1008000" cy="647640"/>
          </a:xfrm>
          <a:prstGeom prst="ellipse">
            <a:avLst/>
          </a:prstGeom>
          <a:solidFill>
            <a:srgbClr val="00ffcc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250920" y="189000"/>
            <a:ext cx="16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思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332000" y="404640"/>
            <a:ext cx="82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几幅图描写了什么，各有什么特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1979640" y="981000"/>
            <a:ext cx="59770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——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蓝蓝的，像个巨大的蒙古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——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美与广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——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有风才能出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79280" y="256536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讨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900000" y="3573360"/>
            <a:ext cx="76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诗中为什么不写人，而是强调、渲染天地苍茫，上下一片？在这样的背景下，“风吹草地见牛羊”带给你怎样的感觉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826920" y="4724280"/>
            <a:ext cx="7632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突出草原的浩瀚苍茫的自然特征。“见牛羊”句暗示了人的存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油然涌起一种生机感、喜悦感、悠然自在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900000" y="981000"/>
            <a:ext cx="9352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Arial"/>
              </a:rPr>
              <a:t>天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Arial"/>
              </a:rPr>
              <a:t>草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Arial"/>
              </a:rPr>
              <a:t>牛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057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7"/>
          <p:cNvSpPr/>
          <p:nvPr/>
        </p:nvSpPr>
        <p:spPr>
          <a:xfrm>
            <a:off x="179280" y="0"/>
            <a:ext cx="5867640" cy="18730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417528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说说你的看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24000" y="2360160"/>
            <a:ext cx="8820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敕勒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一首民歌，描绘了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抒写了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诗歌在写景上有什么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j0299125"/>
          <p:cNvPicPr/>
          <p:nvPr/>
        </p:nvPicPr>
        <p:blipFill>
          <a:blip r:embed="rId2"/>
          <a:stretch/>
        </p:blipFill>
        <p:spPr>
          <a:xfrm>
            <a:off x="6372360" y="3500280"/>
            <a:ext cx="1846080" cy="30258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2"/>
          <p:cNvSpPr/>
          <p:nvPr/>
        </p:nvSpPr>
        <p:spPr>
          <a:xfrm>
            <a:off x="971640" y="537372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动态与静态相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66"/>
                </a:solidFill>
                <a:latin typeface="Arial"/>
              </a:rPr>
              <a:t>收获交流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敕勒.mp3" descr=""/>
          <p:cNvPicPr/>
          <p:nvPr/>
        </p:nvPicPr>
        <p:blipFill>
          <a:blip r:embed="rId2"/>
          <a:stretch/>
        </p:blipFill>
        <p:spPr>
          <a:xfrm>
            <a:off x="39528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97" name="文本框 1"/>
          <p:cNvSpPr/>
          <p:nvPr/>
        </p:nvSpPr>
        <p:spPr>
          <a:xfrm>
            <a:off x="2262240" y="1990800"/>
            <a:ext cx="584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89235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684360" y="27082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敕勒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"/>
          <p:cNvSpPr/>
          <p:nvPr/>
        </p:nvSpPr>
        <p:spPr>
          <a:xfrm>
            <a:off x="1835280" y="1268280"/>
            <a:ext cx="287280" cy="3382920"/>
          </a:xfrm>
          <a:custGeom>
            <a:avLst/>
            <a:gdLst>
              <a:gd name="textAreaLeft" fmla="*/ 183600 w 287280"/>
              <a:gd name="textAreaRight" fmla="*/ 287640 w 287280"/>
              <a:gd name="textAreaTop" fmla="*/ 87840 h 3382920"/>
              <a:gd name="textAreaBottom" fmla="*/ 3295080 h 338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050920" y="2781360"/>
            <a:ext cx="568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124000" y="1628640"/>
            <a:ext cx="280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268360" y="112536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敕勒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2268360" y="16286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阴山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2195640" y="2133720"/>
            <a:ext cx="165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天似穹庐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2195640" y="27082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笼盖四野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2195640" y="328464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天苍苍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2195640" y="378936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野茫茫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2124000" y="429264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风吹草低见牛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3"/>
          <p:cNvSpPr/>
          <p:nvPr/>
        </p:nvSpPr>
        <p:spPr>
          <a:xfrm>
            <a:off x="3419640" y="1268280"/>
            <a:ext cx="287280" cy="576360"/>
          </a:xfrm>
          <a:custGeom>
            <a:avLst/>
            <a:gdLst>
              <a:gd name="textAreaLeft" fmla="*/ 0 w 287280"/>
              <a:gd name="textAreaRight" fmla="*/ 103680 w 28728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31"/>
                </a:lnTo>
                <a:cubicBezTo>
                  <a:pt x="10800" y="9931"/>
                  <a:pt x="16200" y="10830"/>
                  <a:pt x="21600" y="10830"/>
                </a:cubicBezTo>
                <a:cubicBezTo>
                  <a:pt x="16200" y="10830"/>
                  <a:pt x="10800" y="11730"/>
                  <a:pt x="10800" y="1262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3851280" y="134136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3780000" y="1341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90033"/>
                </a:solidFill>
                <a:latin typeface="Arial"/>
              </a:rPr>
              <a:t>地理位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6"/>
          <p:cNvSpPr/>
          <p:nvPr/>
        </p:nvSpPr>
        <p:spPr>
          <a:xfrm>
            <a:off x="3635280" y="2276640"/>
            <a:ext cx="289080" cy="720720"/>
          </a:xfrm>
          <a:custGeom>
            <a:avLst/>
            <a:gdLst>
              <a:gd name="textAreaLeft" fmla="*/ 0 w 289080"/>
              <a:gd name="textAreaRight" fmla="*/ 104400 w 28908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7"/>
          <p:cNvSpPr/>
          <p:nvPr/>
        </p:nvSpPr>
        <p:spPr>
          <a:xfrm>
            <a:off x="3924360" y="2060640"/>
            <a:ext cx="3097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</a:rPr>
              <a:t>草原天空的壮阔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</a:rPr>
              <a:t>对家乡、草原的热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8"/>
          <p:cNvSpPr/>
          <p:nvPr/>
        </p:nvSpPr>
        <p:spPr>
          <a:xfrm>
            <a:off x="4211640" y="3357720"/>
            <a:ext cx="289080" cy="1223640"/>
          </a:xfrm>
          <a:custGeom>
            <a:avLst/>
            <a:gdLst>
              <a:gd name="textAreaLeft" fmla="*/ 0 w 289080"/>
              <a:gd name="textAreaRight" fmla="*/ 104400 w 289080"/>
              <a:gd name="textAreaTop" fmla="*/ 31680 h 1223640"/>
              <a:gd name="textAreaBottom" fmla="*/ 1191960 h 122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4522680" y="3483000"/>
            <a:ext cx="2952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</a:rPr>
              <a:t>壮阔无比、生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</a:rPr>
              <a:t>勃勃的草原景象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0"/>
          <p:cNvSpPr/>
          <p:nvPr/>
        </p:nvSpPr>
        <p:spPr>
          <a:xfrm>
            <a:off x="6877080" y="1773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Arial"/>
              </a:rPr>
              <a:t>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1"/>
          <p:cNvSpPr/>
          <p:nvPr/>
        </p:nvSpPr>
        <p:spPr>
          <a:xfrm>
            <a:off x="7164360" y="2492280"/>
            <a:ext cx="0" cy="1008000"/>
          </a:xfrm>
          <a:prstGeom prst="line">
            <a:avLst/>
          </a:prstGeom>
          <a:ln cap="sq" w="12600">
            <a:solidFill>
              <a:srgbClr val="ff00ff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6877080" y="3645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Arial"/>
              </a:rPr>
              <a:t>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23"/>
          <p:cNvSpPr/>
          <p:nvPr/>
        </p:nvSpPr>
        <p:spPr>
          <a:xfrm>
            <a:off x="6659640" y="1484280"/>
            <a:ext cx="216000" cy="1224000"/>
          </a:xfrm>
          <a:custGeom>
            <a:avLst/>
            <a:gdLst>
              <a:gd name="textAreaLeft" fmla="*/ 0 w 216000"/>
              <a:gd name="textAreaRight" fmla="*/ 7812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9B38-C078-4554-84D2-627F7274587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044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0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我想起了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1258920" y="1268280"/>
            <a:ext cx="58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辽阔旷野，茫茫草原，空旷的土地、洁白的浮云、嘹亮的牧歌，处处充满浓郁的魅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6"/>
          <p:cNvSpPr/>
          <p:nvPr/>
        </p:nvSpPr>
        <p:spPr>
          <a:xfrm>
            <a:off x="0" y="0"/>
            <a:ext cx="9144000" cy="6858000"/>
          </a:xfrm>
          <a:prstGeom prst="foldedCorner">
            <a:avLst>
              <a:gd name="adj" fmla="val 12500"/>
            </a:avLst>
          </a:prstGeom>
          <a:solidFill>
            <a:srgbClr val="caaaf4"/>
          </a:solidFill>
          <a:ln w="93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你能告诉我吗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生字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     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见（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通假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重点实词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敕勒川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穹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苍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笼盖四野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1" descr="w003"/>
          <p:cNvPicPr/>
          <p:nvPr/>
        </p:nvPicPr>
        <p:blipFill>
          <a:blip r:embed="rId1"/>
          <a:stretch/>
        </p:blipFill>
        <p:spPr>
          <a:xfrm>
            <a:off x="6804000" y="549360"/>
            <a:ext cx="1509840" cy="1509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7164360" y="0"/>
            <a:ext cx="863640" cy="6858000"/>
          </a:xfrm>
          <a:prstGeom prst="rect">
            <a:avLst/>
          </a:prstGeom>
          <a:solidFill>
            <a:srgbClr val="f8a6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549360"/>
            <a:ext cx="9144000" cy="718920"/>
          </a:xfrm>
          <a:prstGeom prst="rect">
            <a:avLst/>
          </a:prstGeom>
          <a:solidFill>
            <a:srgbClr val="f8a6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诵读诗歌    合作交流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39640" y="1484280"/>
            <a:ext cx="843624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诗中写了哪些内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可以表现天高地阔的比喻很多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诗人为什么选择穹庐？这其中包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了草原牧民的什么情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ibbon2Sharp"/>
          <p:cNvSpPr/>
          <p:nvPr/>
        </p:nvSpPr>
        <p:spPr>
          <a:xfrm>
            <a:off x="6372360" y="189000"/>
            <a:ext cx="2438280" cy="1371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700" y="8400"/>
                </a:lnTo>
                <a:lnTo>
                  <a:pt x="0" y="16800"/>
                </a:lnTo>
                <a:lnTo>
                  <a:pt x="5400" y="16800"/>
                </a:lnTo>
                <a:lnTo>
                  <a:pt x="5400" y="19200"/>
                </a:lnTo>
                <a:lnTo>
                  <a:pt x="13500" y="19200"/>
                </a:lnTo>
                <a:lnTo>
                  <a:pt x="13500" y="21600"/>
                </a:lnTo>
                <a:lnTo>
                  <a:pt x="21600" y="21600"/>
                </a:lnTo>
                <a:lnTo>
                  <a:pt x="18900" y="13200"/>
                </a:lnTo>
                <a:lnTo>
                  <a:pt x="21600" y="4800"/>
                </a:lnTo>
                <a:lnTo>
                  <a:pt x="16200" y="4800"/>
                </a:lnTo>
                <a:lnTo>
                  <a:pt x="16200" y="2400"/>
                </a:lnTo>
                <a:lnTo>
                  <a:pt x="8100" y="2400"/>
                </a:lnTo>
                <a:lnTo>
                  <a:pt x="8100" y="0"/>
                </a:lnTo>
                <a:lnTo>
                  <a:pt x="0" y="0"/>
                </a:lnTo>
                <a:close/>
              </a:path>
              <a:path fill="none" w="21600" h="21600">
                <a:moveTo>
                  <a:pt x="8100" y="2400"/>
                </a:moveTo>
                <a:lnTo>
                  <a:pt x="5400" y="2400"/>
                </a:lnTo>
                <a:lnTo>
                  <a:pt x="5400" y="16800"/>
                </a:lnTo>
              </a:path>
              <a:path fill="none" w="21600" h="21600">
                <a:moveTo>
                  <a:pt x="8100" y="0"/>
                </a:moveTo>
                <a:lnTo>
                  <a:pt x="5400" y="2400"/>
                </a:lnTo>
              </a:path>
              <a:path fill="none" w="21600" h="21600">
                <a:moveTo>
                  <a:pt x="13500" y="19200"/>
                </a:moveTo>
                <a:lnTo>
                  <a:pt x="16200" y="19200"/>
                </a:lnTo>
                <a:lnTo>
                  <a:pt x="16200" y="4800"/>
                </a:lnTo>
              </a:path>
              <a:path fill="none" w="21600" h="21600">
                <a:moveTo>
                  <a:pt x="13500" y="21600"/>
                </a:moveTo>
                <a:lnTo>
                  <a:pt x="16200" y="19200"/>
                </a:lnTo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j0291984"/>
          <p:cNvPicPr/>
          <p:nvPr/>
        </p:nvPicPr>
        <p:blipFill>
          <a:blip r:embed="rId1"/>
          <a:stretch/>
        </p:blipFill>
        <p:spPr>
          <a:xfrm>
            <a:off x="7093080" y="1628640"/>
            <a:ext cx="1728720" cy="17020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9"/>
          <p:cNvSpPr/>
          <p:nvPr/>
        </p:nvSpPr>
        <p:spPr>
          <a:xfrm>
            <a:off x="324000" y="4365720"/>
            <a:ext cx="6192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穹庐是草原的特点，用牧民们日日相伴的最为亲近的生活居所来比喻，非常亲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包含了草原牧民热爱自己的家园，赞美辽阔大草原的情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755640" y="2122560"/>
            <a:ext cx="468000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位置、景色、生活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T05-00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87640" y="2205000"/>
            <a:ext cx="4038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 苍 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4"/>
          <p:cNvSpPr txBox="1"/>
          <p:nvPr/>
        </p:nvSpPr>
        <p:spPr>
          <a:xfrm>
            <a:off x="179280" y="260280"/>
            <a:ext cx="388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欣赏探究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1"/>
          <p:cNvPicPr/>
          <p:nvPr/>
        </p:nvPicPr>
        <p:blipFill>
          <a:blip r:embed="rId1"/>
          <a:stretch/>
        </p:blipFill>
        <p:spPr>
          <a:xfrm>
            <a:off x="0" y="0"/>
            <a:ext cx="9144000" cy="71769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>
            <a:hlinkClick r:id="rId2" action="ppaction://hlinksldjump"/>
          </p:cNvPr>
          <p:cNvSpPr/>
          <p:nvPr/>
        </p:nvSpPr>
        <p:spPr>
          <a:xfrm>
            <a:off x="2744280" y="411336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99ff"/>
                </a:solidFill>
                <a:latin typeface="Times New Roman"/>
                <a:ea typeface="华文行楷"/>
              </a:rPr>
              <a:t>野茫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ao"/>
          <p:cNvPicPr/>
          <p:nvPr/>
        </p:nvPicPr>
        <p:blipFill>
          <a:blip r:embed="rId1"/>
          <a:stretch/>
        </p:blipFill>
        <p:spPr>
          <a:xfrm>
            <a:off x="0" y="0"/>
            <a:ext cx="9144000" cy="70279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2729520" y="449568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>
                <a:solidFill>
                  <a:srgbClr val="ff99ff"/>
                </a:solidFill>
                <a:latin typeface="Times New Roman"/>
                <a:ea typeface="华文行楷"/>
              </a:rPr>
              <a:t>风吹草低见牛羊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2T13:12:3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25:44Z</dcterms:modified>
  <cp:revision>3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