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9E5D-1C28-4473-A366-350F073811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FDB2-ED0D-4CA5-AA10-334956D0F9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01E-4924-4EC6-B723-363D75FA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154-4E71-44A2-80C2-2C58D301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E42-4FB1-484F-878B-79A1E592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AD6-5696-41A1-95BF-F0FF942E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9D6-AFEF-4F95-8881-716DA6A1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7C9-C2CD-480F-95DF-D6F6EF3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2EB-B39A-47A6-A70D-2F6536CC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41C-23EF-4596-955D-6B93729F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934A-8D8A-4F99-825B-BE640B49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11C-2317-43B3-8750-31F95C4A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A45-C1F1-4916-BA2E-1BF34E26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4A0-5D7C-4C25-9A39-CCDCB7C6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7319-DAB0-4C02-AED1-B3A3DF0A8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143440" y="609480"/>
            <a:ext cx="46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 </a:t>
            </a: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秋寻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697040" y="594360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58640" y="3127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中秋寻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905120" y="18288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2592360" y="177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盼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30120" y="2758680"/>
            <a:ext cx="848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快出去寻月吧。”我们跑出门去，院子里白光光的。院子的中央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ā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有棵粗粗的桂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u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树，桂花还没有开，却有了累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ě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］累的骨朵儿了。我们抬头看着天空，星儿似乎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比平日少了许多。月亮正在头顶，明显大多了，也圆多了，清清晰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晰看见里边有了什么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609480" y="152280"/>
            <a:ext cx="3810240" cy="1905120"/>
          </a:xfrm>
          <a:prstGeom prst="cloudCallout">
            <a:avLst>
              <a:gd name="adj1" fmla="val -55750"/>
              <a:gd name="adj2" fmla="val 69916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孩子们一听到盼望已久的月亮进来了，特别惊喜，他们会怎样做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590920" y="3657600"/>
            <a:ext cx="304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523880" y="41148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8640" y="3127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中秋寻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905120" y="18288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592360" y="177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盼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92360" y="27543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66760" y="3156120"/>
            <a:ext cx="86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70000" y="1312200"/>
            <a:ext cx="8602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奶奶，那月亮上是什么呢？”我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是桂树，孩子。”奶奶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家你看着我，我看着你，似乎我们已经在月宫里，那月桂分明就是我们身后的这一棵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奶奶瞧着我们，笑了：“傻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h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孩子，那里边已经有人了呢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谁？”我们都吃惊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嫦娥。”奶奶说，“月亮里，地该是银铺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p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的，墙该是玉砌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q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的，那么好个地方，配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住的也该是十分漂亮的女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三妹乐了：“啊，月亮是属于我们女孩儿的了！”看着她的狂样儿，我们便争执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h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起来，每个人都说月亮是属于自己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80880" y="4724280"/>
            <a:ext cx="3429000" cy="1752840"/>
          </a:xfrm>
          <a:prstGeom prst="cloudCallout">
            <a:avLst>
              <a:gd name="adj1" fmla="val -54259"/>
              <a:gd name="adj2" fmla="val 6684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孩子们与奶奶在院中谈论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58640" y="3127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中秋寻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905120" y="18288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592360" y="177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盼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92360" y="27543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592360" y="3660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议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66760" y="21038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奶奶从屋里端了一壶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甜酒出来，给我们每人倒了一小杯，说：“孩子们，瞧瞧你们的酒杯里，都有一个月亮哩！”我们都看着酒杯，果真里边也有一个小小的月亮，一动不动的，手刚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ā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一动，它便微微地颤起来。大家都喝下肚去，月亮就在每一个人的心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奶奶说：“月亮是每个人的，你们再去找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们来了兴趣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q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竟寻出了院门，来到一条小河边。河水灿灿地闪着银光。我们从沙滩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ā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上跑过去，弟弟妹妹刚站到河边，就大呼小叫了：“月亮在这儿！月亮在这儿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2895480" y="2819520"/>
            <a:ext cx="5715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04920" y="320040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4724280" y="1905120"/>
            <a:ext cx="3886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380880" y="2362320"/>
            <a:ext cx="1905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52280" y="1676520"/>
            <a:ext cx="3429000" cy="1752480"/>
          </a:xfrm>
          <a:prstGeom prst="cloudCallout">
            <a:avLst>
              <a:gd name="adj1" fmla="val -48750"/>
              <a:gd name="adj2" fmla="val 80435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孩子们在沙滩找到了月亮吗？它在哪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828800" y="4952880"/>
            <a:ext cx="6781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57200" y="533412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458640" y="3127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中秋寻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1905120" y="18288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92360" y="177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盼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92360" y="27543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92360" y="3660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议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92360" y="4643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寻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28600" y="134136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家都看着天上，我突然在弟弟妹妹的眼睛里看见了小小的月亮。我想，我的眼睛里也一定会有的。正像奶奶说的那样：它是属于我们每个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看着天上白光光的月亮，我觉得，那无边无际的天空也是我们的了，那月亮不就是我们按在天空上的印章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324480" y="2666880"/>
            <a:ext cx="2133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304920" y="3124080"/>
            <a:ext cx="82296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304920" y="3505320"/>
            <a:ext cx="1143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8640" y="3127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中秋寻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1905120" y="18288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592360" y="177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盼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592360" y="27543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看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592360" y="3660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议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592360" y="4643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寻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581280" y="1828800"/>
            <a:ext cx="304920" cy="3276720"/>
          </a:xfrm>
          <a:custGeom>
            <a:avLst/>
            <a:gdLst>
              <a:gd name="textAreaLeft" fmla="*/ 0 w 304920"/>
              <a:gd name="textAreaRight" fmla="*/ 11016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344840" y="3127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努力追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707160" y="312732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美好属于每个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5638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1523880" y="1752480"/>
            <a:ext cx="6134400" cy="31244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作者中秋寻月寻到了什么？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们又寻到了什么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190512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组内自由读课文，将课文读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组长带读生字、生词，并教会每位组员字形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义，写出词语的近义词和反义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小组内，组长和组员一起讨论并划出作者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哪些地方寻找到了月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31800" y="457200"/>
            <a:ext cx="3848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小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1432800" y="2514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央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432800" y="3657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英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19000" y="2514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桂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319000" y="3657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挂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32800" y="2514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刚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432800" y="3657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冈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19000" y="2514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趣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319000" y="3657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取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432800" y="2514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滩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432800" y="3657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难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19000" y="2514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镜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19000" y="3657600"/>
            <a:ext cx="292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境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3464280" y="91440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句子，在括号里写上与下划线的词意思相近的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03120" y="380988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我们都看着酒杯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果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里边也有一个小小的月亮。（　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830600" y="1919160"/>
            <a:ext cx="55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看着她的狂样儿，我们便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争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起来。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AF4E-91A6-4CB0-AB3A-B3E352A5B1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297080" y="20415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款款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125880" y="204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镜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031000" y="20415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中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935760" y="204156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傻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220760" y="40384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争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125880" y="40384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兴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5031000" y="40384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沙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859800" y="40384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累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1698480" y="5494320"/>
            <a:ext cx="55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033000" y="12114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清清晰晰：清清楚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176000" y="249876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争执：争论中各持己见，不肯相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842560" y="396252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兴趣：喜好的情绪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33000" y="52578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无边无际：没有边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09680" y="4460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330120" y="2739960"/>
            <a:ext cx="848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中秋的晚上，我们在院子里盼着月亮，好久却不见出来，便坐回屋里，缠奶奶说故事。奶奶的故事真多，说过一个又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突然，奶奶说：“月亮进来了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们一看，是呀，那月亮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ku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款地，悄悄地溜进来，出现在窗前的穿衣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jì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上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快出去寻月吧。”我们跑出门去，院子里白光光的。院子的中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yā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有棵粗粗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u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树，桂花还没有开，却有了累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ě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］累的骨朵儿了。我们抬头看着天空，星儿似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比平日少了许多。月亮正在头顶，明显大多了，也圆多了，清清晰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x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晰看见里边有了什么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917160" y="276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秋寻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270000" y="793440"/>
            <a:ext cx="860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奶奶，那月亮上是什么呢？”我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是桂树，孩子。”奶奶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家你看着我，我看着你，似乎我们已经在月宫里，那月桂分明就是我们身后的这一棵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奶奶瞧着我们，笑了：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sh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孩子，那里边已经有人了呢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谁？”我们都吃惊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嫦娥。”奶奶说，“月亮里，地该是银铺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pū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的，墙该是玉砌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q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的，那么好个地方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pè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住的也该是十分漂亮的女子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266760" y="208944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三妹乐了：“啊，月亮是属于我们女孩儿的了！”看着她的狂样儿，我们便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zh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起来，每个人都说月亮是属于自己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奶奶从屋里端了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h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甜酒出来，给我们每人倒了一小杯，说：“孩子们，瞧瞧你们的酒杯里，都有一个月亮哩！”我们都看着酒杯，果真里边也有一个小小的月亮，一动不动的，手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ɡā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一动，它便微微地颤起来。大家都喝下肚去，月亮就在每一个人的心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奶奶说：“月亮是每个人的，你们再去找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们来了兴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q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竟寻出了院门，来到一条小河边。河水灿灿地闪着银光。我们从沙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tā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上跑过去，弟弟妹妹刚站到河边，就大呼小叫了：“月亮在这儿！月亮在这儿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228600" y="134136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家都看着天上，我突然在弟弟妹妹的眼睛里看见了小小的月亮。我想，我的眼睛里也一定会有的。正像奶奶说的那样：它是属于我们每个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看着天上白光光的月亮，我觉得，那无边无际的天空也是我们的了，那月亮不就是我们按在天空上的印章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30120" y="2682360"/>
            <a:ext cx="848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中秋的晚上，我们在院子里盼着月亮，好久却不见出来，便坐回屋里，缠奶奶说故事。奶奶的故事真多，说过一个又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突然，奶奶说：“月亮进来了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们一看，是呀，那月亮款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kuǎ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款地，悄悄地溜进来，出现在窗前的穿衣镜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jì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上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917160" y="276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秋寻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934320" y="3124080"/>
            <a:ext cx="14475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57200" y="358128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5334120" y="380880"/>
            <a:ext cx="3429000" cy="1981440"/>
          </a:xfrm>
          <a:prstGeom prst="cloudCallout">
            <a:avLst>
              <a:gd name="adj1" fmla="val 51712"/>
              <a:gd name="adj2" fmla="val 725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月亮进来了！”是什么意思？“月亮”是怎样进来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209680" y="4495680"/>
            <a:ext cx="5334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3:19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5:02Z</dcterms:modified>
  <cp:revision>9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