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6.png" ContentType="image/png"/>
  <Override PartName="/ppt/media/image5.png" ContentType="image/png"/>
  <Override PartName="/ppt/media/image10.png" ContentType="image/png"/>
  <Override PartName="/ppt/media/Global.wav" ContentType="audio/x-wav"/>
  <Override PartName="/ppt/media/msg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FEA-BA25-4897-A180-AC4D0EE7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910-630E-45E1-A42F-D0856D38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5BF-D0E5-432B-AB60-6C22A9E0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A0E-2F9C-4B5B-B30B-4BA2FB40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756-B464-4493-890B-69001AD0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5E2-C620-47DB-8754-CEFE30FC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B0A-449D-4261-9A1C-6C618112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525-33D3-44CE-9CF8-ADDF7C25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938-A062-439B-8B8A-06A67B9F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264-A96C-46A0-B1A4-1523709E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84A-F396-4DEA-BB1A-B6FB3594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D2A-8BE7-475E-AD37-D5571972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73F5-EA0C-44A9-8BF4-BDBBEB34DA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oba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" Target="slide7.xml"/><Relationship Id="rId6" Type="http://schemas.openxmlformats.org/officeDocument/2006/relationships/image" Target="../media/image5.png"/><Relationship Id="rId7" Type="http://schemas.openxmlformats.org/officeDocument/2006/relationships/slide" Target="slide4.xml"/><Relationship Id="rId8" Type="http://schemas.openxmlformats.org/officeDocument/2006/relationships/image" Target="../media/image6.png"/><Relationship Id="rId9" Type="http://schemas.openxmlformats.org/officeDocument/2006/relationships/slide" Target="slide9.xml"/><Relationship Id="rId10" Type="http://schemas.openxmlformats.org/officeDocument/2006/relationships/image" Target="../media/image7.png"/><Relationship Id="rId11" Type="http://schemas.openxmlformats.org/officeDocument/2006/relationships/slide" Target="slide8.xml"/><Relationship Id="rId12" Type="http://schemas.openxmlformats.org/officeDocument/2006/relationships/image" Target="../media/image8.png"/><Relationship Id="rId13" Type="http://schemas.openxmlformats.org/officeDocument/2006/relationships/audio" Target="../media/msg.wav"/><Relationship Id="rId14" Type="http://schemas.openxmlformats.org/officeDocument/2006/relationships/audio" Target="../media/msg.wav"/><Relationship Id="rId15" Type="http://schemas.openxmlformats.org/officeDocument/2006/relationships/audio" Target="../media/msg.wav"/><Relationship Id="rId16" Type="http://schemas.openxmlformats.org/officeDocument/2006/relationships/audio" Target="../media/msg.wav"/><Relationship Id="rId17" Type="http://schemas.openxmlformats.org/officeDocument/2006/relationships/audio" Target="../media/msg.wav"/><Relationship Id="rId18" Type="http://schemas.openxmlformats.org/officeDocument/2006/relationships/audio" Target="../media/msg.wav"/><Relationship Id="rId19" Type="http://schemas.openxmlformats.org/officeDocument/2006/relationships/audio" Target="../media/msg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image" Target="../media/image10.png"/><Relationship Id="rId5" Type="http://schemas.openxmlformats.org/officeDocument/2006/relationships/audio" Target="../media/msg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10.png"/><Relationship Id="rId5" Type="http://schemas.openxmlformats.org/officeDocument/2006/relationships/audio" Target="../media/msg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image" Target="../media/image10.png"/><Relationship Id="rId5" Type="http://schemas.openxmlformats.org/officeDocument/2006/relationships/audio" Target="../media/msg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10.png"/><Relationship Id="rId5" Type="http://schemas.openxmlformats.org/officeDocument/2006/relationships/audio" Target="../media/msg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10.png"/><Relationship Id="rId6" Type="http://schemas.openxmlformats.org/officeDocument/2006/relationships/audio" Target="../media/msg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audio" Target="../media/ms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1937880"/>
            <a:ext cx="61675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竹 石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2266920" y="1001880"/>
            <a:ext cx="4627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1836360" y="551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  <p:sndAc>
      <p:stSnd>
        <p:snd r:embed="rId1" name="Globa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96FF-2C9E-45E8-BE29-7C6CAFCB09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e40e8c3779a76c110b55a9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408560" y="84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26420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24000" y="1341360"/>
            <a:ext cx="7777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简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郑燮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93-176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字克柔，号板桥，兴化（今江苏省兴化县）人，清代著名书画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未标题-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89440" y="4365720"/>
            <a:ext cx="1218960" cy="40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未标题-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76720" y="4365720"/>
            <a:ext cx="1219320" cy="409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未标题-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948360" y="4365720"/>
            <a:ext cx="1219320" cy="40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未标题-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00000" y="4365720"/>
            <a:ext cx="1219320" cy="40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22222222222222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940360" y="5300640"/>
            <a:ext cx="1220760" cy="409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1111111111111111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979640" y="5300640"/>
            <a:ext cx="1220760" cy="40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13" name="msg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s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s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s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ms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ms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ms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lide0005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未标题-1"/>
          <p:cNvPicPr/>
          <p:nvPr/>
        </p:nvPicPr>
        <p:blipFill>
          <a:blip r:embed="rId2"/>
          <a:stretch/>
        </p:blipFill>
        <p:spPr>
          <a:xfrm>
            <a:off x="360360" y="801720"/>
            <a:ext cx="16192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4500720" y="1916280"/>
            <a:ext cx="42480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竹  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      郑 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xi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咬 定 青 山 不 放 松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 根 原 在 破 岩 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磨 万 击 还 坚 劲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尔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 西 南 北 风。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1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272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5651640" y="2276640"/>
            <a:ext cx="1225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5" name="msg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7"/>
          <p:cNvSpPr/>
          <p:nvPr/>
        </p:nvSpPr>
        <p:spPr>
          <a:xfrm>
            <a:off x="1990800" y="2916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lide0005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4500720" y="1197000"/>
            <a:ext cx="424800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竹  石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      郑 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xi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咬 定 青 山 不 放 松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 根 原 在 破 岩 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磨 万 击 还 坚 劲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尔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 西 南 北 风。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未标题-2"/>
          <p:cNvPicPr/>
          <p:nvPr/>
        </p:nvPicPr>
        <p:blipFill>
          <a:blip r:embed="rId2"/>
          <a:stretch/>
        </p:blipFill>
        <p:spPr>
          <a:xfrm>
            <a:off x="360360" y="801720"/>
            <a:ext cx="1619280" cy="539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2103480" y="5013360"/>
            <a:ext cx="67690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① 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竹石：扎根在石缝中的竹子。诗人是著名画家，他画的竹子特　　　　　　　　　　　　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　　　　别有名，这是他题写在竹石画上的一道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② 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任：任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③ 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尔：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1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2720" y="5877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5" name="msg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" descr="slide0003_image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未标题-3"/>
          <p:cNvPicPr/>
          <p:nvPr/>
        </p:nvPicPr>
        <p:blipFill>
          <a:blip r:embed="rId2"/>
          <a:stretch/>
        </p:blipFill>
        <p:spPr>
          <a:xfrm>
            <a:off x="360360" y="801720"/>
            <a:ext cx="1619280" cy="539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"/>
          <p:cNvSpPr/>
          <p:nvPr/>
        </p:nvSpPr>
        <p:spPr>
          <a:xfrm>
            <a:off x="106200" y="1773360"/>
            <a:ext cx="4753080" cy="7038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是一首是在竹石图上的题画诗，作者咏的是竹石，但已不是对自然界竹石的一般描写，而是蕴含了作者深刻的思想感情。作者以物喻人，实写竹子，赞颂的却是人。诗人屹立的青山，坚硬的岩石为背景而基础，说竹子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咬定青山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立根破岩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磨万击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坚劲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则正是这个历经风吹雨打的竹子和竹子所象征的人的真实写照。因此，可以说，诗歌通过歌咏竹石，塑造了一个百折不挠，顶天立地的强者的光辉形象。全诗清新流畅，感情真挚，语言虽然通俗但意义深刻而意味深长。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1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2720" y="5877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5" name="msg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slide0005_background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64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066680" y="1631880"/>
            <a:ext cx="7467840" cy="104436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0278"/>
                </a:solidFill>
                <a:latin typeface="Times New Roman"/>
                <a:ea typeface="楷体_GB2312"/>
              </a:rPr>
              <a:t>　　因为郑板桥的画特别有名气，所以到他家里索要字画的人很多。传说有几名无能的朝廷大臣，曾经一起向郑板桥要画。郑板桥为他们画了一幅水墨画的</a:t>
            </a:r>
            <a:r>
              <a:rPr b="1" lang="en-US" sz="2400" spc="-1" strike="noStrike">
                <a:solidFill>
                  <a:srgbClr val="100278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100278"/>
                </a:solidFill>
                <a:latin typeface="Times New Roman"/>
                <a:ea typeface="楷体_GB2312"/>
              </a:rPr>
              <a:t>竹子</a:t>
            </a:r>
            <a:r>
              <a:rPr b="1" lang="en-US" sz="2400" spc="-1" strike="noStrike">
                <a:solidFill>
                  <a:srgbClr val="100278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100278"/>
                </a:solidFill>
                <a:latin typeface="Times New Roman"/>
                <a:ea typeface="楷体_GB2312"/>
              </a:rPr>
              <a:t>，还特意题字“竹苞”。大臣们以为这是夸奖自己将像竹子一样，“节节高”而升官，十分满意。但是聪明人却明白了这文字的真正含义。你能猜猜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042920" y="4941720"/>
            <a:ext cx="7489800" cy="53280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提示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，可以看成是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，请分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未标题-4"/>
          <p:cNvPicPr/>
          <p:nvPr/>
        </p:nvPicPr>
        <p:blipFill>
          <a:blip r:embed="rId2"/>
          <a:stretch/>
        </p:blipFill>
        <p:spPr>
          <a:xfrm>
            <a:off x="360360" y="801720"/>
            <a:ext cx="1619280" cy="53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1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2720" y="5877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5" name="msg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slide0005_background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64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7034040" y="60840"/>
            <a:ext cx="1686240" cy="71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000" spc="-1" strike="noStrike">
                <a:solidFill>
                  <a:srgbClr val="100278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100278"/>
                </a:solidFill>
                <a:latin typeface="Arial"/>
                <a:ea typeface="楷体_GB2312"/>
              </a:rPr>
              <a:t>假如根会说话，咬定青山不放松的根会说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00278"/>
                </a:solidFill>
                <a:latin typeface="Arial"/>
                <a:ea typeface="楷体_GB2312"/>
              </a:rPr>
              <a:t>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竹石图副本"/>
          <p:cNvPicPr/>
          <p:nvPr/>
        </p:nvPicPr>
        <p:blipFill>
          <a:blip r:embed="rId2"/>
          <a:stretch/>
        </p:blipFill>
        <p:spPr>
          <a:xfrm>
            <a:off x="2627280" y="476280"/>
            <a:ext cx="3600360" cy="5871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592200" y="169380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166760" y="2125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111111111111111111"/>
          <p:cNvPicPr/>
          <p:nvPr/>
        </p:nvPicPr>
        <p:blipFill>
          <a:blip r:embed="rId3"/>
          <a:stretch/>
        </p:blipFill>
        <p:spPr>
          <a:xfrm>
            <a:off x="360360" y="801720"/>
            <a:ext cx="1619280" cy="53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18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32720" y="5877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6" name="msg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826920" y="1540800"/>
            <a:ext cx="763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加下画线的字注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下面词语在诗句中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要求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竹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作者是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的诗人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。题目的意思是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。这也是一首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。全诗通过咏诵立根破岩中的劲竹，含蓄的表达了诗人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 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了解这位诗人的其他作品吗？选择两首抄下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222222222222222"/>
          <p:cNvPicPr/>
          <p:nvPr/>
        </p:nvPicPr>
        <p:blipFill>
          <a:blip r:embed="rId1"/>
          <a:stretch/>
        </p:blipFill>
        <p:spPr>
          <a:xfrm>
            <a:off x="360360" y="801720"/>
            <a:ext cx="1619280" cy="53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1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272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1"/>
          <p:cNvSpPr/>
          <p:nvPr/>
        </p:nvSpPr>
        <p:spPr>
          <a:xfrm>
            <a:off x="2532240" y="117648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4" name="msg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9:25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8:57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2</vt:r8>
  </property>
</Properties>
</file>