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png" ContentType="image/png"/>
  <Override PartName="/ppt/media/type.wav" ContentType="audio/x-wav"/>
  <Override PartName="/ppt/media/image16.jpeg" ContentType="image/jpeg"/>
  <Override PartName="/ppt/media/ZR522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5.jpeg" ContentType="image/jpeg"/>
  <Override PartName="/ppt/media/image28.jpeg" ContentType="image/jpeg"/>
  <Override PartName="/ppt/media/image30.png" ContentType="image/png"/>
  <Override PartName="/ppt/media/image29.jpeg" ContentType="image/jpeg"/>
  <Override PartName="/ppt/media/image31.png" ContentType="image/png"/>
  <Override PartName="/ppt/media/image11.jpeg" ContentType="image/jpeg"/>
  <Override PartName="/ppt/media/image33.jpeg" ContentType="image/jpeg"/>
  <Override PartName="/ppt/media/image42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44.jpeg" ContentType="image/jpeg"/>
  <Override PartName="/ppt/media/image46.jpeg" ContentType="image/jpeg"/>
  <Override PartName="/ppt/media/image17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3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applause.wav" ContentType="audio/x-wav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ECF6-3133-4711-B8E2-35CB9D9BE8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8924-9F06-4D5B-A71B-A3884CDACB7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49F-8EB4-4259-87B0-1234AD60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6E0-D64E-4433-A68A-719D49A6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D9F-9014-4A00-8375-ED8FD192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052-DCFD-47A0-8EA2-CBC65513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3ED-6626-4FC4-BD10-9AF90BC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8DE-2916-481B-8468-C951EFF5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F67E-6A97-4148-A34B-79CD29FD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6E8-52EF-494D-BC7D-C3139E23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7FC-0D48-4535-ADA1-D0E70135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334-741D-4A2C-8A9C-D082ED4F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86B-594B-43B3-8689-88EB5E5C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7D0F-B72E-4470-9102-2D7C0B51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D0F7-8593-428F-8711-E39DCD4825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3.xm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slide" Target="slide9.xml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0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audio" Target="../media/ZR522.WAV"/><Relationship Id="rId9" Type="http://schemas.openxmlformats.org/officeDocument/2006/relationships/audio" Target="../media/ZR522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" Target="slide23.xml"/><Relationship Id="rId4" Type="http://schemas.openxmlformats.org/officeDocument/2006/relationships/slide" Target="slide17.xml"/><Relationship Id="rId5" Type="http://schemas.openxmlformats.org/officeDocument/2006/relationships/image" Target="../media/image43.jpeg"/><Relationship Id="rId6" Type="http://schemas.openxmlformats.org/officeDocument/2006/relationships/hyperlink" Target="file:///tmp/home/.config/libreoffice/4/user/gallery/test.wav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23.xml"/><Relationship Id="rId3" Type="http://schemas.openxmlformats.org/officeDocument/2006/relationships/hyperlink" Target="file:///tmp/home/.config/libreoffice/4/user/gallery/test.wav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3.xml"/><Relationship Id="rId3" Type="http://schemas.openxmlformats.org/officeDocument/2006/relationships/hyperlink" Target="file:///tmp/home/.config/libreoffice/4/user/gallery/test.wav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" Target="slide23.xml"/><Relationship Id="rId3" Type="http://schemas.openxmlformats.org/officeDocument/2006/relationships/hyperlink" Target="file:///tmp/home/.config/libreoffice/4/user/gallery/test.wav" TargetMode="Externa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9.xml"/><Relationship Id="rId3" Type="http://schemas.openxmlformats.org/officeDocument/2006/relationships/slide" Target="slide14.xml"/><Relationship Id="rId4" Type="http://schemas.openxmlformats.org/officeDocument/2006/relationships/slide" Target="slide17.xm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4424131111560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990720" y="1371600"/>
            <a:ext cx="73468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00206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植物妈妈有办法</a:t>
            </a:r>
            <a:endParaRPr b="1" lang="en-US" sz="8000" spc="-1" strike="noStrike">
              <a:ln w="0">
                <a:noFill/>
              </a:ln>
              <a:solidFill>
                <a:srgbClr val="00206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540800" y="57690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降落伞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2004424131111560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54080" y="0"/>
            <a:ext cx="637920" cy="32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 action="ppaction://hlinksldjump"/>
              </a:rPr>
              <a:t>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 action="ppaction://hlinksldjump"/>
              </a:rPr>
              <a:t>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 action="ppaction://hlinksldjump"/>
              </a:rPr>
              <a:t>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xll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fe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1125360"/>
            <a:ext cx="4317840" cy="4318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未标题-2"/>
          <p:cNvPicPr/>
          <p:nvPr/>
        </p:nvPicPr>
        <p:blipFill>
          <a:blip r:embed="rId4"/>
          <a:stretch/>
        </p:blipFill>
        <p:spPr>
          <a:xfrm>
            <a:off x="3532320" y="38098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未标题-2"/>
          <p:cNvPicPr/>
          <p:nvPr/>
        </p:nvPicPr>
        <p:blipFill>
          <a:blip r:embed="rId5"/>
          <a:stretch/>
        </p:blipFill>
        <p:spPr>
          <a:xfrm>
            <a:off x="4051440" y="34290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未标题-2"/>
          <p:cNvPicPr/>
          <p:nvPr/>
        </p:nvPicPr>
        <p:blipFill>
          <a:blip r:embed="rId6"/>
          <a:stretch/>
        </p:blipFill>
        <p:spPr>
          <a:xfrm>
            <a:off x="4572000" y="301464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未标题-2"/>
          <p:cNvPicPr/>
          <p:nvPr/>
        </p:nvPicPr>
        <p:blipFill>
          <a:blip r:embed="rId7"/>
          <a:stretch/>
        </p:blipFill>
        <p:spPr>
          <a:xfrm>
            <a:off x="5029200" y="260208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未标题-2"/>
          <p:cNvPicPr/>
          <p:nvPr/>
        </p:nvPicPr>
        <p:blipFill>
          <a:blip r:embed="rId8"/>
          <a:stretch/>
        </p:blipFill>
        <p:spPr>
          <a:xfrm>
            <a:off x="5638680" y="20574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未标题-2"/>
          <p:cNvPicPr/>
          <p:nvPr/>
        </p:nvPicPr>
        <p:blipFill>
          <a:blip r:embed="rId9"/>
          <a:stretch/>
        </p:blipFill>
        <p:spPr>
          <a:xfrm>
            <a:off x="6172200" y="16002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未标题-2"/>
          <p:cNvPicPr/>
          <p:nvPr/>
        </p:nvPicPr>
        <p:blipFill>
          <a:blip r:embed="rId10"/>
          <a:stretch/>
        </p:blipFill>
        <p:spPr>
          <a:xfrm>
            <a:off x="6705720" y="106668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未标题-2"/>
          <p:cNvPicPr/>
          <p:nvPr/>
        </p:nvPicPr>
        <p:blipFill>
          <a:blip r:embed="rId11"/>
          <a:stretch/>
        </p:blipFill>
        <p:spPr>
          <a:xfrm>
            <a:off x="5410080" y="5367240"/>
            <a:ext cx="533520" cy="424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未标题-2"/>
          <p:cNvPicPr/>
          <p:nvPr/>
        </p:nvPicPr>
        <p:blipFill>
          <a:blip r:embed="rId12"/>
          <a:stretch/>
        </p:blipFill>
        <p:spPr>
          <a:xfrm>
            <a:off x="6019920" y="482292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未标题-2"/>
          <p:cNvPicPr/>
          <p:nvPr/>
        </p:nvPicPr>
        <p:blipFill>
          <a:blip r:embed="rId13"/>
          <a:stretch/>
        </p:blipFill>
        <p:spPr>
          <a:xfrm>
            <a:off x="655308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未标题-2"/>
          <p:cNvPicPr/>
          <p:nvPr/>
        </p:nvPicPr>
        <p:blipFill>
          <a:blip r:embed="rId14"/>
          <a:stretch/>
        </p:blipFill>
        <p:spPr>
          <a:xfrm>
            <a:off x="7086600" y="383220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未标题-2"/>
          <p:cNvPicPr/>
          <p:nvPr/>
        </p:nvPicPr>
        <p:blipFill>
          <a:blip r:embed="rId15"/>
          <a:stretch/>
        </p:blipFill>
        <p:spPr>
          <a:xfrm>
            <a:off x="2554200" y="3429000"/>
            <a:ext cx="1040040" cy="82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未标题-2"/>
          <p:cNvPicPr/>
          <p:nvPr/>
        </p:nvPicPr>
        <p:blipFill>
          <a:blip r:embed="rId16"/>
          <a:stretch/>
        </p:blipFill>
        <p:spPr>
          <a:xfrm>
            <a:off x="3075120" y="3014640"/>
            <a:ext cx="1039680" cy="827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未标题-2"/>
          <p:cNvPicPr/>
          <p:nvPr/>
        </p:nvPicPr>
        <p:blipFill>
          <a:blip r:embed="rId17"/>
          <a:stretch/>
        </p:blipFill>
        <p:spPr>
          <a:xfrm>
            <a:off x="3532320" y="260208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未标题-2"/>
          <p:cNvPicPr/>
          <p:nvPr/>
        </p:nvPicPr>
        <p:blipFill>
          <a:blip r:embed="rId18"/>
          <a:stretch/>
        </p:blipFill>
        <p:spPr>
          <a:xfrm>
            <a:off x="4141800" y="20574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未标题-2"/>
          <p:cNvPicPr/>
          <p:nvPr/>
        </p:nvPicPr>
        <p:blipFill>
          <a:blip r:embed="rId19"/>
          <a:stretch/>
        </p:blipFill>
        <p:spPr>
          <a:xfrm>
            <a:off x="4675320" y="1600200"/>
            <a:ext cx="1039680" cy="82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未标题-2"/>
          <p:cNvPicPr/>
          <p:nvPr/>
        </p:nvPicPr>
        <p:blipFill>
          <a:blip r:embed="rId20"/>
          <a:stretch/>
        </p:blipFill>
        <p:spPr>
          <a:xfrm>
            <a:off x="5208480" y="1066680"/>
            <a:ext cx="1040040" cy="82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未标题-2"/>
          <p:cNvPicPr/>
          <p:nvPr/>
        </p:nvPicPr>
        <p:blipFill>
          <a:blip r:embed="rId21"/>
          <a:stretch/>
        </p:blipFill>
        <p:spPr>
          <a:xfrm>
            <a:off x="5056200" y="4365720"/>
            <a:ext cx="533520" cy="42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2" descr="未标题-2"/>
          <p:cNvPicPr/>
          <p:nvPr/>
        </p:nvPicPr>
        <p:blipFill>
          <a:blip r:embed="rId22"/>
          <a:stretch/>
        </p:blipFill>
        <p:spPr>
          <a:xfrm>
            <a:off x="5589720" y="3832200"/>
            <a:ext cx="533160" cy="42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3" descr="未标题-2"/>
          <p:cNvPicPr/>
          <p:nvPr/>
        </p:nvPicPr>
        <p:blipFill>
          <a:blip r:embed="rId23"/>
          <a:stretch/>
        </p:blipFill>
        <p:spPr>
          <a:xfrm>
            <a:off x="4202280" y="4092480"/>
            <a:ext cx="1409400" cy="1121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未标题-2"/>
          <p:cNvPicPr/>
          <p:nvPr/>
        </p:nvPicPr>
        <p:blipFill>
          <a:blip r:embed="rId24"/>
          <a:stretch/>
        </p:blipFill>
        <p:spPr>
          <a:xfrm>
            <a:off x="4722840" y="367812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未标题-2"/>
          <p:cNvPicPr/>
          <p:nvPr/>
        </p:nvPicPr>
        <p:blipFill>
          <a:blip r:embed="rId25"/>
          <a:stretch/>
        </p:blipFill>
        <p:spPr>
          <a:xfrm>
            <a:off x="5180040" y="3265560"/>
            <a:ext cx="1409760" cy="1120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未标题-2"/>
          <p:cNvPicPr/>
          <p:nvPr/>
        </p:nvPicPr>
        <p:blipFill>
          <a:blip r:embed="rId26"/>
          <a:stretch/>
        </p:blipFill>
        <p:spPr>
          <a:xfrm>
            <a:off x="5789520" y="27208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7" descr="未标题-2"/>
          <p:cNvPicPr/>
          <p:nvPr/>
        </p:nvPicPr>
        <p:blipFill>
          <a:blip r:embed="rId27"/>
          <a:stretch/>
        </p:blipFill>
        <p:spPr>
          <a:xfrm>
            <a:off x="6323040" y="2263680"/>
            <a:ext cx="1409760" cy="1121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8" descr="未标题-2"/>
          <p:cNvPicPr/>
          <p:nvPr/>
        </p:nvPicPr>
        <p:blipFill>
          <a:blip r:embed="rId28"/>
          <a:stretch/>
        </p:blipFill>
        <p:spPr>
          <a:xfrm>
            <a:off x="6858000" y="1730520"/>
            <a:ext cx="1407960" cy="1120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9" descr="未标题-2"/>
          <p:cNvPicPr/>
          <p:nvPr/>
        </p:nvPicPr>
        <p:blipFill>
          <a:blip r:embed="rId29"/>
          <a:stretch/>
        </p:blipFill>
        <p:spPr>
          <a:xfrm>
            <a:off x="6324480" y="5181480"/>
            <a:ext cx="723960" cy="57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0" descr="未标题-2"/>
          <p:cNvPicPr/>
          <p:nvPr/>
        </p:nvPicPr>
        <p:blipFill>
          <a:blip r:embed="rId30"/>
          <a:stretch/>
        </p:blipFill>
        <p:spPr>
          <a:xfrm>
            <a:off x="6858000" y="4648320"/>
            <a:ext cx="723960" cy="5745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31">
            <a:hlinkClick r:id="rId31" action="ppaction://hlinksldjump"/>
          </p:cNvPr>
          <p:cNvSpPr/>
          <p:nvPr/>
        </p:nvSpPr>
        <p:spPr>
          <a:xfrm>
            <a:off x="8352000" y="616572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75"/>
                            </p:stCondLst>
                            <p:childTnLst>
                              <p:par>
                                <p:cTn id="13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"/>
                            </p:stCondLst>
                            <p:childTnLst>
                              <p:par>
                                <p:cTn id="13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25"/>
                            </p:stCondLst>
                            <p:childTnLst>
                              <p:par>
                                <p:cTn id="14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"/>
                            </p:stCondLst>
                            <p:childTnLst>
                              <p:par>
                                <p:cTn id="14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75"/>
                            </p:stCondLst>
                            <p:childTnLst>
                              <p:par>
                                <p:cTn id="14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50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450"/>
                            </p:stCondLst>
                            <p:childTnLst>
                              <p:par>
                                <p:cTn id="15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25"/>
                            </p:stCondLst>
                            <p:childTnLst>
                              <p:par>
                                <p:cTn id="15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00"/>
                            </p:stCondLst>
                            <p:childTnLst>
                              <p:par>
                                <p:cTn id="15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75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175"/>
                            </p:stCondLst>
                            <p:childTnLst>
                              <p:par>
                                <p:cTn id="16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250"/>
                            </p:stCondLst>
                            <p:childTnLst>
                              <p:par>
                                <p:cTn id="16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325"/>
                            </p:stCondLst>
                            <p:childTnLst>
                              <p:par>
                                <p:cTn id="17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400"/>
                            </p:stCondLst>
                            <p:childTnLst>
                              <p:par>
                                <p:cTn id="17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75"/>
                            </p:stCondLst>
                            <p:childTnLst>
                              <p:par>
                                <p:cTn id="17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50"/>
                            </p:stCondLst>
                            <p:childTnLst>
                              <p:par>
                                <p:cTn id="1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50"/>
                            </p:stCondLst>
                            <p:childTnLst>
                              <p:par>
                                <p:cTn id="18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125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625"/>
                            </p:stCondLst>
                            <p:childTnLst>
                              <p:par>
                                <p:cTn id="18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700"/>
                            </p:stCondLst>
                            <p:childTnLst>
                              <p:par>
                                <p:cTn id="19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775"/>
                            </p:stCondLst>
                            <p:childTnLst>
                              <p:par>
                                <p:cTn id="19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850"/>
                            </p:stCondLst>
                            <p:childTnLst>
                              <p:par>
                                <p:cTn id="19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925"/>
                            </p:stCondLst>
                            <p:childTnLst>
                              <p:par>
                                <p:cTn id="20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575"/>
                            </p:stCondLst>
                            <p:childTnLst>
                              <p:par>
                                <p:cTn id="2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20040" y="490680"/>
            <a:ext cx="12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请选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627200" y="1571760"/>
            <a:ext cx="485640" cy="703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imes New Roman"/>
              </a:rPr>
              <a:t>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484360" y="1557360"/>
            <a:ext cx="60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骑、坐                          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14600" y="2468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趁、就着                   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482920" y="3357720"/>
            <a:ext cx="637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算术中指一个数使另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个数变成若干倍       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168560" y="4216320"/>
            <a:ext cx="12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填  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403280" y="4869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蒲公英妈妈为孩子准备了（           ），（          ）， 孩子（       ）离开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156360" y="494172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降落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52432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乘着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8959680" y="479736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7401600" y="2421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599800" y="5373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纷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3419640" y="692280"/>
            <a:ext cx="626400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妈妈准备了降落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娃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微风轻轻一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乘着风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纷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56f50709ba0601c863d986ff"/>
          <p:cNvPicPr/>
          <p:nvPr/>
        </p:nvPicPr>
        <p:blipFill>
          <a:blip r:embed="rId2"/>
          <a:stretch/>
        </p:blipFill>
        <p:spPr>
          <a:xfrm>
            <a:off x="324000" y="765000"/>
            <a:ext cx="2874960" cy="215748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sp>
        <p:nvSpPr>
          <p:cNvPr id="161" name="Text Box 5"/>
          <p:cNvSpPr/>
          <p:nvPr/>
        </p:nvSpPr>
        <p:spPr>
          <a:xfrm>
            <a:off x="0" y="3357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孩子飞到了（      ），有的孩子飞到了（      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987640" y="3860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的孩子飞到了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987640" y="4508640"/>
            <a:ext cx="244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四海为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0" y="5300640"/>
            <a:ext cx="9396360" cy="2208240"/>
            <a:chOff x="0" y="5300640"/>
            <a:chExt cx="9396360" cy="2208240"/>
          </a:xfrm>
        </p:grpSpPr>
        <p:sp>
          <p:nvSpPr>
            <p:cNvPr id="165" name="Text Box 2"/>
            <p:cNvSpPr/>
            <p:nvPr/>
          </p:nvSpPr>
          <p:spPr>
            <a:xfrm>
              <a:off x="0" y="5300640"/>
              <a:ext cx="93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99"/>
                  </a:solidFill>
                  <a:latin typeface="楷体_GB2312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2268360" y="6400800"/>
              <a:ext cx="223236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1066680" y="0"/>
            <a:ext cx="7086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给孩子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穿上带刺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铠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走到田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p3p3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69" name="Oval 6">
            <a:hlinkClick r:id="rId2" action="ppaction://hlinksldjump"/>
          </p:cNvPr>
          <p:cNvSpPr/>
          <p:nvPr/>
        </p:nvSpPr>
        <p:spPr>
          <a:xfrm>
            <a:off x="8686800" y="6324480"/>
            <a:ext cx="228600" cy="152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8001000" y="128736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7543800" y="128736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7620120" y="1135080"/>
            <a:ext cx="609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20060408212840212"/>
          <p:cNvPicPr/>
          <p:nvPr/>
        </p:nvPicPr>
        <p:blipFill>
          <a:blip r:embed="rId1"/>
          <a:stretch/>
        </p:blipFill>
        <p:spPr>
          <a:xfrm>
            <a:off x="0" y="0"/>
            <a:ext cx="58453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80000" y="259920"/>
            <a:ext cx="35640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古代铠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6d2c3426a653a3018b82a128"/>
          <p:cNvPicPr/>
          <p:nvPr/>
        </p:nvPicPr>
        <p:blipFill>
          <a:blip r:embed="rId2"/>
          <a:stretch/>
        </p:blipFill>
        <p:spPr>
          <a:xfrm>
            <a:off x="0" y="34920"/>
            <a:ext cx="10117080" cy="6823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9_5602_e5e3086fc8e6532"/>
          <p:cNvPicPr/>
          <p:nvPr/>
        </p:nvPicPr>
        <p:blipFill>
          <a:blip r:embed="rId3"/>
          <a:stretch/>
        </p:blipFill>
        <p:spPr>
          <a:xfrm>
            <a:off x="611280" y="0"/>
            <a:ext cx="6702480" cy="7316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0080617_9deb1bbf742b41e7f53aj2mmbk6c2O1i"/>
          <p:cNvPicPr/>
          <p:nvPr/>
        </p:nvPicPr>
        <p:blipFill>
          <a:blip r:embed="rId4"/>
          <a:stretch/>
        </p:blipFill>
        <p:spPr>
          <a:xfrm>
            <a:off x="0" y="0"/>
            <a:ext cx="1011708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兔"/>
          <p:cNvPicPr/>
          <p:nvPr/>
        </p:nvPicPr>
        <p:blipFill>
          <a:blip r:embed="rId1"/>
          <a:stretch/>
        </p:blipFill>
        <p:spPr>
          <a:xfrm>
            <a:off x="7954920" y="0"/>
            <a:ext cx="118908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兔苍二"/>
          <p:cNvPicPr/>
          <p:nvPr/>
        </p:nvPicPr>
        <p:blipFill>
          <a:blip r:embed="rId2"/>
          <a:stretch/>
        </p:blipFill>
        <p:spPr>
          <a:xfrm>
            <a:off x="2286000" y="3429000"/>
            <a:ext cx="185724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兔"/>
          <p:cNvPicPr/>
          <p:nvPr/>
        </p:nvPicPr>
        <p:blipFill>
          <a:blip r:embed="rId3"/>
          <a:stretch/>
        </p:blipFill>
        <p:spPr>
          <a:xfrm>
            <a:off x="7391520" y="304920"/>
            <a:ext cx="1411200" cy="1447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兔"/>
          <p:cNvPicPr/>
          <p:nvPr/>
        </p:nvPicPr>
        <p:blipFill>
          <a:blip r:embed="rId4"/>
          <a:stretch/>
        </p:blipFill>
        <p:spPr>
          <a:xfrm>
            <a:off x="6861240" y="533520"/>
            <a:ext cx="156060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兔"/>
          <p:cNvPicPr/>
          <p:nvPr/>
        </p:nvPicPr>
        <p:blipFill>
          <a:blip r:embed="rId5"/>
          <a:stretch/>
        </p:blipFill>
        <p:spPr>
          <a:xfrm>
            <a:off x="6019920" y="838080"/>
            <a:ext cx="1708200" cy="1752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兔"/>
          <p:cNvPicPr/>
          <p:nvPr/>
        </p:nvPicPr>
        <p:blipFill>
          <a:blip r:embed="rId6"/>
          <a:stretch/>
        </p:blipFill>
        <p:spPr>
          <a:xfrm>
            <a:off x="4952880" y="1676520"/>
            <a:ext cx="1708200" cy="1752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兔"/>
          <p:cNvPicPr/>
          <p:nvPr/>
        </p:nvPicPr>
        <p:blipFill>
          <a:blip r:embed="rId7"/>
          <a:stretch/>
        </p:blipFill>
        <p:spPr>
          <a:xfrm>
            <a:off x="3718080" y="2286000"/>
            <a:ext cx="1707840" cy="1752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兔苍二"/>
          <p:cNvPicPr/>
          <p:nvPr/>
        </p:nvPicPr>
        <p:blipFill>
          <a:blip r:embed="rId8"/>
          <a:stretch/>
        </p:blipFill>
        <p:spPr>
          <a:xfrm>
            <a:off x="1677960" y="3733920"/>
            <a:ext cx="193212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兔苍二"/>
          <p:cNvPicPr/>
          <p:nvPr/>
        </p:nvPicPr>
        <p:blipFill>
          <a:blip r:embed="rId9"/>
          <a:stretch/>
        </p:blipFill>
        <p:spPr>
          <a:xfrm>
            <a:off x="920880" y="3886200"/>
            <a:ext cx="2154240" cy="2209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苍二"/>
          <p:cNvPicPr/>
          <p:nvPr/>
        </p:nvPicPr>
        <p:blipFill>
          <a:blip r:embed="rId10"/>
          <a:stretch/>
        </p:blipFill>
        <p:spPr>
          <a:xfrm>
            <a:off x="2916360" y="1549440"/>
            <a:ext cx="5682960" cy="5308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3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苍耳妈妈为孩子准备了（                    ）， 孩子（                              ）离开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5364000" y="551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带刺的铠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619280" y="59500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挂住动物的皮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716360" y="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0" y="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苍耳妈妈有个好办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给孩子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上带刺的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铠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要挂住动物的皮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就能走到田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609480" y="0"/>
            <a:ext cx="7778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让豆荚晒在太阳底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啪的一声，豆荚炸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蹦着跳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开了妈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p4p4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196" name="Oval 5">
            <a:hlinkClick r:id="rId2" action="ppaction://hlinksldjump"/>
          </p:cNvPr>
          <p:cNvSpPr/>
          <p:nvPr/>
        </p:nvSpPr>
        <p:spPr>
          <a:xfrm>
            <a:off x="8534520" y="6477120"/>
            <a:ext cx="214200" cy="191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2127960" y="561960"/>
            <a:ext cx="5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ji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2560" y="14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670120" y="2424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è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豆荚"/>
          <p:cNvPicPr/>
          <p:nvPr/>
        </p:nvPicPr>
        <p:blipFill>
          <a:blip r:embed="rId1"/>
          <a:stretch/>
        </p:blipFill>
        <p:spPr>
          <a:xfrm>
            <a:off x="2700360" y="1484280"/>
            <a:ext cx="6443640" cy="450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太阳"/>
          <p:cNvPicPr/>
          <p:nvPr/>
        </p:nvPicPr>
        <p:blipFill>
          <a:blip r:embed="rId2"/>
          <a:stretch/>
        </p:blipFill>
        <p:spPr>
          <a:xfrm>
            <a:off x="6443640" y="260280"/>
            <a:ext cx="2032200" cy="2108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豆荚开2"/>
          <p:cNvPicPr/>
          <p:nvPr/>
        </p:nvPicPr>
        <p:blipFill>
          <a:blip r:embed="rId3"/>
          <a:stretch/>
        </p:blipFill>
        <p:spPr>
          <a:xfrm>
            <a:off x="3851280" y="5157720"/>
            <a:ext cx="1181160" cy="507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豆荚开3"/>
          <p:cNvPicPr/>
          <p:nvPr/>
        </p:nvPicPr>
        <p:blipFill>
          <a:blip r:embed="rId4"/>
          <a:stretch/>
        </p:blipFill>
        <p:spPr>
          <a:xfrm>
            <a:off x="4284720" y="5373720"/>
            <a:ext cx="1447920" cy="80640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2" descr=""/>
          <p:cNvPicPr/>
          <p:nvPr/>
        </p:nvPicPr>
        <p:blipFill>
          <a:blip r:embed="rId5"/>
          <a:stretch/>
        </p:blipFill>
        <p:spPr>
          <a:xfrm>
            <a:off x="3132000" y="5373720"/>
            <a:ext cx="371520" cy="3906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3" descr=""/>
          <p:cNvPicPr/>
          <p:nvPr/>
        </p:nvPicPr>
        <p:blipFill>
          <a:blip r:embed="rId6"/>
          <a:stretch/>
        </p:blipFill>
        <p:spPr>
          <a:xfrm>
            <a:off x="2987640" y="5877000"/>
            <a:ext cx="371520" cy="39060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" descr=""/>
          <p:cNvPicPr/>
          <p:nvPr/>
        </p:nvPicPr>
        <p:blipFill>
          <a:blip r:embed="rId7"/>
          <a:stretch/>
        </p:blipFill>
        <p:spPr>
          <a:xfrm>
            <a:off x="2195640" y="5445000"/>
            <a:ext cx="371520" cy="39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0" y="476280"/>
            <a:ext cx="7416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豌豆妈妈为孩子准备了（             ）， 让孩子（                            ），豆荚炸开，孩子（                   ）离开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4932360" y="333360"/>
            <a:ext cx="14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豆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979640" y="836640"/>
            <a:ext cx="32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晒在太阳底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484360" y="1341360"/>
            <a:ext cx="22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蹦着跳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763640" y="69228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2195640" y="19162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0" y="285264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豌豆妈妈更有办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让豆荚晒在太阳底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啪的一声，豆荚炸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蹦着跳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离开了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R5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R52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457200" y="4572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V="1">
            <a:off x="2743200" y="380880"/>
            <a:ext cx="990720" cy="571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743200" y="990720"/>
            <a:ext cx="121932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886200" y="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降落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4114800" y="9144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风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838080" y="28954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990720" y="46483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 flipV="1">
            <a:off x="2666880" y="28191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743200" y="3352680"/>
            <a:ext cx="129528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2971800" y="4724280"/>
            <a:ext cx="114300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2971800" y="51814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4191120" y="22096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带刺的铠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4267080" y="342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物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4267080" y="42670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豆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4708440" y="51148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4191120" y="54100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晒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8"/>
          <p:cNvPicPr/>
          <p:nvPr/>
        </p:nvPicPr>
        <p:blipFill>
          <a:blip r:embed="rId1"/>
          <a:stretch/>
        </p:blipFill>
        <p:spPr>
          <a:xfrm>
            <a:off x="0" y="5445000"/>
            <a:ext cx="504036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0" y="157464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旅   啥   英   降   乘   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洼   豆  荚    炸    观   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46920" y="866880"/>
            <a:ext cx="6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l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763640" y="86688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427640" y="866880"/>
            <a:ext cx="22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jià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777080" y="795240"/>
            <a:ext cx="23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ji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39640" y="30272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w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1835280" y="29541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d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59280" y="2954160"/>
            <a:ext cx="135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ji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4788000" y="3027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7885080" y="29541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</a:t>
            </a:r>
            <a:r>
              <a:rPr b="0" lang="en-US" sz="4400" spc="-1" strike="noStrike">
                <a:solidFill>
                  <a:srgbClr val="ff0066"/>
                </a:solidFill>
                <a:latin typeface="宋体"/>
                <a:ea typeface="楷体_GB2312"/>
              </a:rPr>
              <a:t>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300720" y="2997360"/>
            <a:ext cx="140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u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142800" y="858960"/>
            <a:ext cx="12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yīn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905440" y="831960"/>
            <a:ext cx="18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é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28"/>
          <p:cNvPicPr/>
          <p:nvPr/>
        </p:nvPicPr>
        <p:blipFill>
          <a:blip r:embed="rId2"/>
          <a:stretch/>
        </p:blipFill>
        <p:spPr>
          <a:xfrm>
            <a:off x="4356000" y="5445000"/>
            <a:ext cx="5040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2.77778E-007 0 L 0.00399 -0.15255 E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43000" y="838080"/>
            <a:ext cx="875808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很多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仔细细地观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许许多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知识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粗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>
            <a:hlinkClick r:id="rId2" action="ppaction://hlinksldjump"/>
          </p:cNvPr>
          <p:cNvSpPr/>
          <p:nvPr/>
        </p:nvSpPr>
        <p:spPr>
          <a:xfrm>
            <a:off x="1162080" y="583416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到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Q_MARK2"/>
          <p:cNvPicPr/>
          <p:nvPr/>
        </p:nvPicPr>
        <p:blipFill>
          <a:blip r:embed="rId3"/>
          <a:stretch/>
        </p:blipFill>
        <p:spPr>
          <a:xfrm>
            <a:off x="1332000" y="530064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361520" y="5373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细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924360" y="2708280"/>
            <a:ext cx="216036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3203640" y="3860640"/>
            <a:ext cx="230508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214280" y="928800"/>
            <a:ext cx="7429680" cy="55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许许多多          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开开心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安安静静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干干净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快快乐乐           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平平安安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00789133524218_2"/>
          <p:cNvPicPr/>
          <p:nvPr/>
        </p:nvPicPr>
        <p:blipFill>
          <a:blip r:embed="rId1"/>
          <a:stretch/>
        </p:blipFill>
        <p:spPr>
          <a:xfrm>
            <a:off x="4788000" y="0"/>
            <a:ext cx="3450960" cy="28670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32400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还知道那些植物妈妈传播种子的办法呢？我们去搜集搜集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采用的办法很多很多：可以细心观察，可以查阅课外书，可以上网搜索，可以问问别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"/>
          <p:cNvSpPr/>
          <p:nvPr/>
        </p:nvSpPr>
        <p:spPr>
          <a:xfrm>
            <a:off x="784080" y="5891040"/>
            <a:ext cx="61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468360" y="-457200"/>
          <a:ext cx="8351640" cy="6594480"/>
        </p:xfrm>
        <a:graphic>
          <a:graphicData uri="http://schemas.openxmlformats.org/drawingml/2006/table">
            <a:tbl>
              <a:tblPr/>
              <a:tblGrid>
                <a:gridCol w="4668480"/>
                <a:gridCol w="3683160"/>
              </a:tblGrid>
              <a:tr h="4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为小诗配的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　　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凤仙花妈妈很聪明，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它给孩子穿上一件容易破的衣裳，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小朋友用手一碰，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孩子们就蹦着跳着离开妈妈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719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　　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椰子树妈妈有办法，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它把家安在大海边，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只要孩子成熟了落下来，</a:t>
                      </a:r>
                      <a:br>
                        <a:rPr sz="1800"/>
                      </a:b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　就能跟着海水到岸边发芽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500" spc="-1" strike="noStrike">
                          <a:solidFill>
                            <a:srgbClr val="333333"/>
                          </a:solidFill>
                          <a:latin typeface="宋体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　　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石榴妈妈的胆子挺大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她不怕小鸟吃掉娃娃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娃娃在鸟肚子里睡上一觉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就会钻出来落户安家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500" spc="-1" strike="noStrike">
                          <a:solidFill>
                            <a:srgbClr val="333333"/>
                          </a:solidFill>
                          <a:latin typeface="宋体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1"/>
          <p:cNvSpPr/>
          <p:nvPr/>
        </p:nvSpPr>
        <p:spPr>
          <a:xfrm>
            <a:off x="0" y="-227160"/>
            <a:ext cx="184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5" descr="凤仙"/>
          <p:cNvPicPr/>
          <p:nvPr/>
        </p:nvPicPr>
        <p:blipFill>
          <a:blip r:embed="rId1"/>
          <a:stretch/>
        </p:blipFill>
        <p:spPr>
          <a:xfrm>
            <a:off x="5148360" y="981000"/>
            <a:ext cx="3671640" cy="1584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椰"/>
          <p:cNvPicPr/>
          <p:nvPr/>
        </p:nvPicPr>
        <p:blipFill>
          <a:blip r:embed="rId2"/>
          <a:stretch/>
        </p:blipFill>
        <p:spPr>
          <a:xfrm>
            <a:off x="5148360" y="2781360"/>
            <a:ext cx="3671640" cy="158436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27">
            <a:hlinkClick r:id="rId3" action="ppaction://hlinksldjump"/>
          </p:cNvPr>
          <p:cNvSpPr/>
          <p:nvPr/>
        </p:nvSpPr>
        <p:spPr>
          <a:xfrm>
            <a:off x="1447920" y="762120"/>
            <a:ext cx="2514600" cy="1143000"/>
          </a:xfrm>
          <a:custGeom>
            <a:avLst/>
            <a:gdLst>
              <a:gd name="textAreaLeft" fmla="*/ 73800 w 2514600"/>
              <a:gd name="textAreaRight" fmla="*/ 2440800 w 2514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47512" h="21600">
                <a:moveTo>
                  <a:pt x="0" y="0"/>
                </a:moveTo>
                <a:lnTo>
                  <a:pt x="47512" y="0"/>
                </a:lnTo>
                <a:lnTo>
                  <a:pt x="47512" y="21600"/>
                </a:lnTo>
                <a:lnTo>
                  <a:pt x="0" y="21600"/>
                </a:lnTo>
                <a:close/>
              </a:path>
              <a:path fill="lightenLess" w="47512" h="21600">
                <a:moveTo>
                  <a:pt x="0" y="0"/>
                </a:moveTo>
                <a:lnTo>
                  <a:pt x="47512" y="0"/>
                </a:lnTo>
                <a:lnTo>
                  <a:pt x="46112" y="1400"/>
                </a:lnTo>
                <a:lnTo>
                  <a:pt x="1400" y="1400"/>
                </a:lnTo>
                <a:close/>
              </a:path>
              <a:path fill="darken" w="47512" h="21600">
                <a:moveTo>
                  <a:pt x="47512" y="0"/>
                </a:moveTo>
                <a:lnTo>
                  <a:pt x="47512" y="21600"/>
                </a:lnTo>
                <a:lnTo>
                  <a:pt x="46112" y="20200"/>
                </a:lnTo>
                <a:lnTo>
                  <a:pt x="46112" y="1400"/>
                </a:lnTo>
                <a:close/>
              </a:path>
              <a:path fill="darkenLess" w="47512" h="21600">
                <a:moveTo>
                  <a:pt x="47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2" y="20200"/>
                </a:lnTo>
                <a:close/>
              </a:path>
              <a:path fill="lighten" w="47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12" h="21600">
                <a:moveTo>
                  <a:pt x="16749" y="10800"/>
                </a:moveTo>
                <a:lnTo>
                  <a:pt x="30762" y="3794"/>
                </a:lnTo>
                <a:lnTo>
                  <a:pt x="3076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大笑破肚皮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48360" y="4365720"/>
            <a:ext cx="3671640" cy="177156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29">
            <a:hlinkClick r:id="rId6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8406"/>
                </a:moveTo>
                <a:lnTo>
                  <a:pt x="11818" y="8406"/>
                </a:lnTo>
                <a:lnTo>
                  <a:pt x="16240" y="3794"/>
                </a:lnTo>
                <a:lnTo>
                  <a:pt x="16240" y="17806"/>
                </a:lnTo>
                <a:lnTo>
                  <a:pt x="11818" y="13194"/>
                </a:lnTo>
                <a:lnTo>
                  <a:pt x="7388" y="13194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21401" y="10800"/>
                </a:lnTo>
              </a:path>
              <a:path fill="darken" w="28789" h="21600">
                <a:moveTo>
                  <a:pt x="17893" y="8406"/>
                </a:moveTo>
                <a:lnTo>
                  <a:pt x="21401" y="5639"/>
                </a:lnTo>
              </a:path>
              <a:path fill="darken" w="28789" h="21600">
                <a:moveTo>
                  <a:pt x="17893" y="13194"/>
                </a:moveTo>
                <a:lnTo>
                  <a:pt x="21401" y="15961"/>
                </a:lnTo>
              </a:path>
            </a:pathLst>
          </a:custGeom>
          <a:solidFill>
            <a:srgbClr val="99cc00"/>
          </a:solidFill>
          <a:ln w="9360">
            <a:solidFill>
              <a:srgbClr val="d1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1371600" y="762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中华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095880" y="1371600"/>
            <a:ext cx="2743200" cy="775440"/>
          </a:xfrm>
          <a:prstGeom prst="rect">
            <a:avLst/>
          </a:prstGeom>
          <a:solidFill>
            <a:srgbClr val="d1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82800" bIns="82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    </a:t>
            </a:r>
            <a:r>
              <a:rPr b="1" lang="zh-CN" sz="4000" spc="-1" strike="noStrike">
                <a:solidFill>
                  <a:srgbClr val="6600cc"/>
                </a:solidFill>
                <a:latin typeface="Times New Roman"/>
                <a:ea typeface="黑体"/>
              </a:rPr>
              <a:t>如图中所示，槭树的果具双翅，像长了翅膀的鸟，将其中的种子带向远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zzcb004a"/>
          <p:cNvPicPr/>
          <p:nvPr/>
        </p:nvPicPr>
        <p:blipFill>
          <a:blip r:embed="rId1"/>
          <a:stretch/>
        </p:blipFill>
        <p:spPr>
          <a:xfrm>
            <a:off x="380880" y="2286000"/>
            <a:ext cx="5394600" cy="362268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5">
            <a:hlinkClick r:id="rId2" action="ppaction://hlinksldjump"/>
          </p:cNvPr>
          <p:cNvSpPr/>
          <p:nvPr/>
        </p:nvSpPr>
        <p:spPr>
          <a:xfrm>
            <a:off x="1752480" y="762120"/>
            <a:ext cx="2514600" cy="1218960"/>
          </a:xfrm>
          <a:custGeom>
            <a:avLst/>
            <a:gdLst>
              <a:gd name="textAreaLeft" fmla="*/ 78840 w 2514600"/>
              <a:gd name="textAreaRight" fmla="*/ 2435760 w 25146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4552" h="21600">
                <a:moveTo>
                  <a:pt x="0" y="0"/>
                </a:moveTo>
                <a:lnTo>
                  <a:pt x="44552" y="0"/>
                </a:lnTo>
                <a:lnTo>
                  <a:pt x="44552" y="21600"/>
                </a:lnTo>
                <a:lnTo>
                  <a:pt x="0" y="21600"/>
                </a:lnTo>
                <a:close/>
              </a:path>
              <a:path fill="lightenLess" w="44552" h="21600">
                <a:moveTo>
                  <a:pt x="0" y="0"/>
                </a:moveTo>
                <a:lnTo>
                  <a:pt x="44552" y="0"/>
                </a:lnTo>
                <a:lnTo>
                  <a:pt x="43152" y="1400"/>
                </a:lnTo>
                <a:lnTo>
                  <a:pt x="1400" y="1400"/>
                </a:lnTo>
                <a:close/>
              </a:path>
              <a:path fill="darken" w="44552" h="21600">
                <a:moveTo>
                  <a:pt x="44552" y="0"/>
                </a:moveTo>
                <a:lnTo>
                  <a:pt x="44552" y="21600"/>
                </a:lnTo>
                <a:lnTo>
                  <a:pt x="43152" y="20200"/>
                </a:lnTo>
                <a:lnTo>
                  <a:pt x="43152" y="1400"/>
                </a:lnTo>
                <a:close/>
              </a:path>
              <a:path fill="darkenLess" w="44552" h="21600">
                <a:moveTo>
                  <a:pt x="4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52" y="20200"/>
                </a:lnTo>
                <a:close/>
              </a:path>
              <a:path fill="lighten" w="4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52" h="21600">
                <a:moveTo>
                  <a:pt x="15270" y="10800"/>
                </a:moveTo>
                <a:lnTo>
                  <a:pt x="29282" y="3794"/>
                </a:lnTo>
                <a:lnTo>
                  <a:pt x="29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>
            <a:hlinkClick r:id="rId3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8406"/>
                </a:moveTo>
                <a:lnTo>
                  <a:pt x="11818" y="8406"/>
                </a:lnTo>
                <a:lnTo>
                  <a:pt x="16240" y="3794"/>
                </a:lnTo>
                <a:lnTo>
                  <a:pt x="16240" y="17806"/>
                </a:lnTo>
                <a:lnTo>
                  <a:pt x="11818" y="13194"/>
                </a:lnTo>
                <a:lnTo>
                  <a:pt x="7388" y="13194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21401" y="10800"/>
                </a:lnTo>
              </a:path>
              <a:path fill="darken" w="28789" h="21600">
                <a:moveTo>
                  <a:pt x="17893" y="8406"/>
                </a:moveTo>
                <a:lnTo>
                  <a:pt x="21401" y="5639"/>
                </a:lnTo>
              </a:path>
              <a:path fill="darken" w="28789" h="21600">
                <a:moveTo>
                  <a:pt x="17893" y="13194"/>
                </a:moveTo>
                <a:lnTo>
                  <a:pt x="21401" y="15961"/>
                </a:lnTo>
              </a:path>
            </a:pathLst>
          </a:custGeom>
          <a:solidFill>
            <a:srgbClr val="99cc00"/>
          </a:solidFill>
          <a:ln w="9360">
            <a:solidFill>
              <a:srgbClr val="d1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371600" y="53352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喷</a:t>
            </a: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5486400" y="228600"/>
            <a:ext cx="3657600" cy="1373760"/>
          </a:xfrm>
          <a:prstGeom prst="rect">
            <a:avLst/>
          </a:prstGeom>
          <a:solidFill>
            <a:srgbClr val="d1f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        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黑体"/>
              </a:rPr>
              <a:t>请看这一株属于葫芦科的植物，已经结了一个带毛刺的小“瓜”，你可知道此“瓜”的奥秘吗？当瓜成熟时，稍有触动此“瓜”便会脱落，并从顶端将“瓜”内的种子连同粘液一起喷射出去，射程可达５米以外，喷瓜也因此而得名。大自然中喷瓜传播种子的本领已经达到了登峰造极的水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G:\我的文件夹\下载文件\喷瓜.files\zzcb007a.jpg"/>
          <p:cNvPicPr/>
          <p:nvPr/>
        </p:nvPicPr>
        <p:blipFill>
          <a:blip r:embed="rId1"/>
          <a:stretch/>
        </p:blipFill>
        <p:spPr>
          <a:xfrm>
            <a:off x="228600" y="2209680"/>
            <a:ext cx="5165640" cy="357516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7">
            <a:hlinkClick r:id="rId2" action="ppaction://hlinksldjump"/>
          </p:cNvPr>
          <p:cNvSpPr/>
          <p:nvPr/>
        </p:nvSpPr>
        <p:spPr>
          <a:xfrm>
            <a:off x="1981080" y="68580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3692" y="10800"/>
                </a:moveTo>
                <a:lnTo>
                  <a:pt x="27705" y="3794"/>
                </a:lnTo>
                <a:lnTo>
                  <a:pt x="2770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>
            <a:hlinkClick r:id="rId3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8406"/>
                </a:moveTo>
                <a:lnTo>
                  <a:pt x="11818" y="8406"/>
                </a:lnTo>
                <a:lnTo>
                  <a:pt x="16240" y="3794"/>
                </a:lnTo>
                <a:lnTo>
                  <a:pt x="16240" y="17806"/>
                </a:lnTo>
                <a:lnTo>
                  <a:pt x="11818" y="13194"/>
                </a:lnTo>
                <a:lnTo>
                  <a:pt x="7388" y="13194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21401" y="10800"/>
                </a:lnTo>
              </a:path>
              <a:path fill="darken" w="28789" h="21600">
                <a:moveTo>
                  <a:pt x="17893" y="8406"/>
                </a:moveTo>
                <a:lnTo>
                  <a:pt x="21401" y="5639"/>
                </a:lnTo>
              </a:path>
              <a:path fill="darken" w="28789" h="21600">
                <a:moveTo>
                  <a:pt x="17893" y="13194"/>
                </a:moveTo>
                <a:lnTo>
                  <a:pt x="21401" y="15961"/>
                </a:lnTo>
              </a:path>
            </a:pathLst>
          </a:custGeom>
          <a:solidFill>
            <a:srgbClr val="99cc00"/>
          </a:solidFill>
          <a:ln w="9360">
            <a:solidFill>
              <a:srgbClr val="d1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510552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红皮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zzcb001a"/>
          <p:cNvPicPr/>
          <p:nvPr/>
        </p:nvPicPr>
        <p:blipFill>
          <a:blip r:embed="rId1"/>
          <a:stretch/>
        </p:blipFill>
        <p:spPr>
          <a:xfrm>
            <a:off x="1295280" y="990720"/>
            <a:ext cx="3105360" cy="47908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4724280" y="1600200"/>
            <a:ext cx="3962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您知道春天柳絮飞扬的奥秘吗？抓一团柳絮仔细观察会发现里面有些小颗粒，那是柳树的种子，柳树就是靠柳絮的飞扬把种子传播到远处去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>
            <a:hlinkClick r:id="rId2" action="ppaction://hlinksldjump"/>
          </p:cNvPr>
          <p:cNvSpPr/>
          <p:nvPr/>
        </p:nvSpPr>
        <p:spPr>
          <a:xfrm>
            <a:off x="5410080" y="533520"/>
            <a:ext cx="2514600" cy="838080"/>
          </a:xfrm>
          <a:custGeom>
            <a:avLst/>
            <a:gdLst>
              <a:gd name="textAreaLeft" fmla="*/ 54000 w 2514600"/>
              <a:gd name="textAreaRight" fmla="*/ 2460600 w 2514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4791" h="21600">
                <a:moveTo>
                  <a:pt x="0" y="0"/>
                </a:moveTo>
                <a:lnTo>
                  <a:pt x="64791" y="0"/>
                </a:lnTo>
                <a:lnTo>
                  <a:pt x="64791" y="21600"/>
                </a:lnTo>
                <a:lnTo>
                  <a:pt x="0" y="21600"/>
                </a:lnTo>
                <a:close/>
              </a:path>
              <a:path fill="lightenLess" w="64791" h="21600">
                <a:moveTo>
                  <a:pt x="0" y="0"/>
                </a:moveTo>
                <a:lnTo>
                  <a:pt x="64791" y="0"/>
                </a:lnTo>
                <a:lnTo>
                  <a:pt x="63391" y="1400"/>
                </a:lnTo>
                <a:lnTo>
                  <a:pt x="1400" y="1400"/>
                </a:lnTo>
                <a:close/>
              </a:path>
              <a:path fill="darken" w="64791" h="21600">
                <a:moveTo>
                  <a:pt x="64791" y="0"/>
                </a:moveTo>
                <a:lnTo>
                  <a:pt x="64791" y="21600"/>
                </a:lnTo>
                <a:lnTo>
                  <a:pt x="63391" y="20200"/>
                </a:lnTo>
                <a:lnTo>
                  <a:pt x="63391" y="1400"/>
                </a:lnTo>
                <a:close/>
              </a:path>
              <a:path fill="darkenLess" w="64791" h="21600">
                <a:moveTo>
                  <a:pt x="64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91" y="20200"/>
                </a:lnTo>
                <a:close/>
              </a:path>
              <a:path fill="lighten" w="64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91" h="21600">
                <a:moveTo>
                  <a:pt x="25389" y="10800"/>
                </a:moveTo>
                <a:lnTo>
                  <a:pt x="39402" y="3794"/>
                </a:lnTo>
                <a:lnTo>
                  <a:pt x="3940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">
            <a:hlinkClick r:id="rId3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8406"/>
                </a:moveTo>
                <a:lnTo>
                  <a:pt x="10025" y="8406"/>
                </a:lnTo>
                <a:lnTo>
                  <a:pt x="14447" y="3794"/>
                </a:lnTo>
                <a:lnTo>
                  <a:pt x="14447" y="17806"/>
                </a:lnTo>
                <a:lnTo>
                  <a:pt x="10025" y="13194"/>
                </a:lnTo>
                <a:lnTo>
                  <a:pt x="5595" y="13194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19608" y="10800"/>
                </a:lnTo>
              </a:path>
              <a:path fill="darken" w="25203" h="21600">
                <a:moveTo>
                  <a:pt x="16100" y="8406"/>
                </a:moveTo>
                <a:lnTo>
                  <a:pt x="19608" y="5639"/>
                </a:lnTo>
              </a:path>
              <a:path fill="darken" w="25203" h="21600">
                <a:moveTo>
                  <a:pt x="16100" y="13194"/>
                </a:moveTo>
                <a:lnTo>
                  <a:pt x="19608" y="15961"/>
                </a:lnTo>
              </a:path>
            </a:pathLst>
          </a:custGeom>
          <a:solidFill>
            <a:srgbClr val="99cc00"/>
          </a:solidFill>
          <a:ln w="9360">
            <a:solidFill>
              <a:srgbClr val="d1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762120" y="1752480"/>
            <a:ext cx="784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用老师介绍的方法去收集植物妈妈传播种子的资料，可以仿照课文的表达方式写成小诗，也可以画成图画，下一节课在班上交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介绍植物的相关书籍文章来读读。希望同学们多观察，多探索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950760" y="725400"/>
            <a:ext cx="408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扩展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1B0-7CA9-438D-86ED-31CF865075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11280" y="952560"/>
            <a:ext cx="7113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旅   啥   英   降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乘   甲   洼   豆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   炸   观   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429840" y="189000"/>
            <a:ext cx="7293960" cy="5158440"/>
            <a:chOff x="429840" y="189000"/>
            <a:chExt cx="7293960" cy="5158440"/>
          </a:xfrm>
        </p:grpSpPr>
        <p:sp>
          <p:nvSpPr>
            <p:cNvPr id="68" name="Rectangle 4"/>
            <p:cNvSpPr/>
            <p:nvPr/>
          </p:nvSpPr>
          <p:spPr>
            <a:xfrm>
              <a:off x="737640" y="230400"/>
              <a:ext cx="71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l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2237760" y="23040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sh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3886560" y="189000"/>
              <a:ext cx="130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yīn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6249240" y="231840"/>
              <a:ext cx="14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jiàn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429840" y="2492640"/>
              <a:ext cx="180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chén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172760" y="2494080"/>
              <a:ext cx="97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宋体"/>
                </a:rPr>
                <a:t>w</a:t>
              </a:r>
              <a:r>
                <a:rPr b="1" lang="en-US" sz="4400" spc="-1" strike="noStrike">
                  <a:solidFill>
                    <a:srgbClr val="0000ff"/>
                  </a:solidFill>
                  <a:latin typeface="Arial"/>
                </a:rPr>
                <a:t>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5918040" y="2494080"/>
              <a:ext cx="1209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dòu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2194920" y="4581720"/>
              <a:ext cx="110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zh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3981240" y="4581720"/>
              <a:ext cx="153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ɡuā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70040" y="4583160"/>
              <a:ext cx="78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ji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4"/>
            <p:cNvSpPr/>
            <p:nvPr/>
          </p:nvSpPr>
          <p:spPr>
            <a:xfrm>
              <a:off x="6063840" y="4583160"/>
              <a:ext cx="110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ch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5"/>
            <p:cNvSpPr/>
            <p:nvPr/>
          </p:nvSpPr>
          <p:spPr>
            <a:xfrm>
              <a:off x="2387520" y="2494080"/>
              <a:ext cx="784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宋体"/>
                </a:rPr>
                <a:t>jiǎ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058171759168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09480" y="1257480"/>
            <a:ext cx="9072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行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娃   山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洼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耳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豆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观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识    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落伞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刺的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甲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忘却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信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纷出发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跳着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办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 flipV="1">
            <a:off x="3059280" y="766440"/>
            <a:ext cx="266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331640" y="1341000"/>
            <a:ext cx="6740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孩子如果已经长大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就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告别妈妈，四海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牛马有脚，鸟有翅膀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植物要旅行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靠啥办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076720" y="3860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86" name="Picture 7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8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草地"/>
          <p:cNvPicPr/>
          <p:nvPr/>
        </p:nvPicPr>
        <p:blipFill>
          <a:blip r:embed="rId1"/>
          <a:stretch/>
        </p:blipFill>
        <p:spPr>
          <a:xfrm>
            <a:off x="647640" y="4851360"/>
            <a:ext cx="7993080" cy="1476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30200" y="2821680"/>
            <a:ext cx="856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粗心的小朋友得（     ）不到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长大了，得（     ）离开自己的妈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的种子找到了新家，看，它们长得（     ）多好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蒲公英"/>
          <p:cNvPicPr/>
          <p:nvPr/>
        </p:nvPicPr>
        <p:blipFill>
          <a:blip r:embed="rId2"/>
          <a:stretch/>
        </p:blipFill>
        <p:spPr>
          <a:xfrm>
            <a:off x="900000" y="476280"/>
            <a:ext cx="1257480" cy="111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蒲公英"/>
          <p:cNvPicPr/>
          <p:nvPr/>
        </p:nvPicPr>
        <p:blipFill>
          <a:blip r:embed="rId3"/>
          <a:stretch/>
        </p:blipFill>
        <p:spPr>
          <a:xfrm>
            <a:off x="2771640" y="692280"/>
            <a:ext cx="1257480" cy="1114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蒲公英"/>
          <p:cNvPicPr/>
          <p:nvPr/>
        </p:nvPicPr>
        <p:blipFill>
          <a:blip r:embed="rId4"/>
          <a:stretch/>
        </p:blipFill>
        <p:spPr>
          <a:xfrm>
            <a:off x="1619280" y="1341360"/>
            <a:ext cx="1257120" cy="111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得1"/>
          <p:cNvPicPr/>
          <p:nvPr/>
        </p:nvPicPr>
        <p:blipFill>
          <a:blip r:embed="rId5"/>
          <a:stretch/>
        </p:blipFill>
        <p:spPr>
          <a:xfrm>
            <a:off x="1258920" y="765000"/>
            <a:ext cx="183672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94" name="Picture 8" descr="得2"/>
          <p:cNvPicPr/>
          <p:nvPr/>
        </p:nvPicPr>
        <p:blipFill>
          <a:blip r:embed="rId6"/>
          <a:stretch/>
        </p:blipFill>
        <p:spPr>
          <a:xfrm>
            <a:off x="2014560" y="1628640"/>
            <a:ext cx="183672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95" name="Picture 9" descr="得3"/>
          <p:cNvPicPr/>
          <p:nvPr/>
        </p:nvPicPr>
        <p:blipFill>
          <a:blip r:embed="rId7"/>
          <a:stretch/>
        </p:blipFill>
        <p:spPr>
          <a:xfrm>
            <a:off x="3132000" y="981000"/>
            <a:ext cx="1836720" cy="54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96" name="Rectangle 10"/>
          <p:cNvSpPr/>
          <p:nvPr/>
        </p:nvSpPr>
        <p:spPr>
          <a:xfrm>
            <a:off x="4140360" y="263700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140360" y="342900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468360" y="486900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2222E-006 L -0.07656 0.6206 E">
                                      <p:cBhvr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6 L 0.12014 0.36899 E">
                                      <p:cBhvr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48148E-006 L 0.24236 0.16968 E">
                                      <p:cBhvr>
                                        <p:cTn id="105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922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孩子如果已经长大， 就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告别妈妈，四海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276440" y="136836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wé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9640" y="3716280"/>
            <a:ext cx="822960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因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唐老师生了重病，所以我们都应该伸出援助之手帮助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47720" y="297504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wè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0"/>
          <p:cNvSpPr/>
          <p:nvPr/>
        </p:nvSpPr>
        <p:spPr>
          <a:xfrm>
            <a:off x="1600200" y="265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24课-3"/>
          <p:cNvPicPr/>
          <p:nvPr/>
        </p:nvPicPr>
        <p:blipFill>
          <a:blip r:embed="rId1"/>
          <a:stretch/>
        </p:blipFill>
        <p:spPr>
          <a:xfrm>
            <a:off x="0" y="0"/>
            <a:ext cx="571500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5867280" y="533520"/>
            <a:ext cx="28195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蒲公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943600" y="2895480"/>
            <a:ext cx="19051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苍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095880" y="5181480"/>
            <a:ext cx="20574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豌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p3p3"/>
          <p:cNvPicPr/>
          <p:nvPr/>
        </p:nvPicPr>
        <p:blipFill>
          <a:blip r:embed="rId5"/>
          <a:stretch/>
        </p:blipFill>
        <p:spPr>
          <a:xfrm>
            <a:off x="0" y="2133720"/>
            <a:ext cx="571500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p4p4"/>
          <p:cNvPicPr/>
          <p:nvPr/>
        </p:nvPicPr>
        <p:blipFill>
          <a:blip r:embed="rId6"/>
          <a:stretch/>
        </p:blipFill>
        <p:spPr>
          <a:xfrm>
            <a:off x="0" y="4648320"/>
            <a:ext cx="5715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C:\Documents and Settings\baixiuli\My Documents\编辑\2年级\成文件\七单元\21植物妈妈有办法\《植物妈妈有办法》图1.jpg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371600" y="304920"/>
            <a:ext cx="6889680" cy="26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蒲公英妈妈准备了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降落伞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把它送给自己的娃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只要微风轻轻一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孩子们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乘着风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纷纷出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02:15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43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