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applause.wav" ContentType="audio/x-wav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hammer.wav" ContentType="audio/x-wav"/>
  <Override PartName="/ppt/media/image14.png" ContentType="image/png"/>
  <Override PartName="/ppt/media/image13.jpeg" ContentType="image/jpeg"/>
  <Override PartName="/ppt/media/image4.png" ContentType="image/png"/>
  <Override PartName="/ppt/media/image1.jpeg" ContentType="image/jpeg"/>
  <Override PartName="/ppt/media/push.wav" ContentType="audio/x-wav"/>
  <Override PartName="/ppt/media/image2.jpeg" ContentType="image/jpeg"/>
  <Override PartName="/ppt/media/image3.jpeg" ContentType="image/jpeg"/>
  <Override PartName="/ppt/media/image6.png" ContentType="image/png"/>
  <Override PartName="/ppt/media/image15.gif" ContentType="image/gif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DD03-C35F-4CA5-8194-22C51AEBDC6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FB0C-47D4-4BD5-8CBE-7AC60DB488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9EA7-61CA-4AF0-8AE3-EBA4243B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17B8-791E-48C1-8676-10DFE468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C82F-4E28-457A-88D2-10842C70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BE0-96F7-4D55-BC7C-D2613B16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9E3E-65A4-421F-BD20-5F3D3D1B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99D1-74E5-4120-9E06-C6A665EB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8D61-6A58-40DC-BE33-2AF35CE3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D359-3C0D-469C-8458-0D4F066B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CB02-B5C8-4756-9476-D95CD026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B2E4-82F6-4E9E-B212-4B999713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5119-B294-4FDC-AF4E-32EA11E3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7416-5151-497F-B80A-4241D942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DB60-7E33-4354-94AB-8F8BB962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4CAE-8B39-4FD8-9C64-19278BFB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AD80-0DA9-451A-BB19-695F436B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E04E-FEAE-41CC-8CBE-29FD7B63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2D82-DA81-4425-88D9-BC112B8F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AD4BC-CF8B-4213-A57E-E1AC5939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1F63D-2A10-400A-942E-DC39DDDD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BE063-C284-4706-A32B-7457DAB0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39113-A7BA-4F0F-B747-0D07EDDD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27CC0-680A-4818-9887-18955069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332-C19D-4C0B-838D-2D60CAED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11A15-37C9-46BB-9828-D58747F2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07850-4DB0-4F1C-B6E9-DBC873EC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3BFD9-DBB3-4585-AD04-160027D0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0A916-C43B-498C-94D4-656201C2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A8188-0E03-4BE9-B1DD-2D1C30C4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F51CF-8819-4E78-A1BB-66C5279A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A07DE-D9C6-43D6-8BAA-1A752E84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EE5-BC38-427A-890A-5A3B8D6D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2D15-17E5-43A2-A1FD-557A45FE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08C-CFBA-4B1A-8AB2-0E7907FA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FEA-4F14-42A3-92D8-D73D78F0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EDF-2F1D-4BE9-850D-E6BE9C8C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DCE-1F52-499E-8002-5E1DC685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C9A9-5FF3-4ADD-8B19-E7F588A7B18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EF27-B324-45F7-8709-C4EF732CA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38CD-2ECC-4ACE-858C-1281D40AE81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audio" Target="../media/hammer.wav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只要翻过那座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WordArt 3"/>
          <p:cNvSpPr txBox="1"/>
          <p:nvPr/>
        </p:nvSpPr>
        <p:spPr>
          <a:xfrm>
            <a:off x="1033560" y="1384200"/>
            <a:ext cx="6697440" cy="14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中宋"/>
              </a:rPr>
              <a:t>只要翻过那座山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中宋"/>
              <a:ea typeface="华文中宋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4788000" y="46594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c000"/>
                </a:solidFill>
                <a:latin typeface="Arial"/>
                <a:ea typeface="宋体"/>
              </a:rPr>
              <a:t>日本   杉美树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"/>
          <p:cNvSpPr/>
          <p:nvPr/>
        </p:nvSpPr>
        <p:spPr>
          <a:xfrm>
            <a:off x="1596240" y="588636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7"/>
          <p:cNvSpPr/>
          <p:nvPr/>
        </p:nvSpPr>
        <p:spPr>
          <a:xfrm>
            <a:off x="4572000" y="2708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ff00ff"/>
                </a:solidFill>
                <a:latin typeface="Arial"/>
                <a:ea typeface="华文新魏"/>
              </a:rPr>
              <a:t>少年是如何战胜困难的？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2997360"/>
            <a:ext cx="86756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Arial"/>
                <a:ea typeface="长城行楷体"/>
              </a:rPr>
              <a:t>  </a:t>
            </a:r>
            <a:r>
              <a:rPr b="1" lang="zh-CN" sz="4700" spc="-1" strike="noStrike">
                <a:solidFill>
                  <a:srgbClr val="000000"/>
                </a:solidFill>
                <a:latin typeface="Arial"/>
                <a:ea typeface="长城行楷体"/>
              </a:rPr>
              <a:t>少年坚信“只要翻过那座山，就能看见大海”，于是一次又一次聚积力量爬山，战胜翻山中的困难。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-360" y="692280"/>
            <a:ext cx="86756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Arial"/>
                <a:ea typeface="长城行楷体"/>
              </a:rPr>
              <a:t>“</a:t>
            </a:r>
            <a:r>
              <a:rPr b="1" lang="zh-CN" sz="4700" spc="-1" strike="noStrike">
                <a:solidFill>
                  <a:srgbClr val="000000"/>
                </a:solidFill>
                <a:latin typeface="Arial"/>
                <a:ea typeface="长城行楷体"/>
              </a:rPr>
              <a:t>只要翻过那座山，就能看见大海”在文中出现了几次？每次表达的意思是什么？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476280" y="3316320"/>
            <a:ext cx="812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这句话在课文中出现了三次。第一次是作为祖母的话出现的，它是少年翻山的原因；第二次是少年鼓励自己战胜困难时出现的，它是少年对自己的鼓励和鞭策；第三次是一只海鸥将一片白色的羽毛送到了少年手里，少年获得了希望和动力，坚定了战胜困难的信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539640" y="333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755640" y="1268280"/>
            <a:ext cx="6912000" cy="581400"/>
          </a:xfrm>
          <a:prstGeom prst="rect">
            <a:avLst/>
          </a:prstGeom>
          <a:noFill/>
          <a:ln w="9360">
            <a:solidFill>
              <a:srgbClr val="9ed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1139760" y="128592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这句话的作用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539640" y="2565360"/>
            <a:ext cx="7561440" cy="581400"/>
          </a:xfrm>
          <a:prstGeom prst="rect">
            <a:avLst/>
          </a:prstGeom>
          <a:noFill/>
          <a:ln w="9360">
            <a:solidFill>
              <a:srgbClr val="9ed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从立意上看，它表现了文章的主旨。从结构上看，它是 贯穿全文的线索。从刻画人物上看，它表现了少年坚定执着的性格。从语言表达上看，它运用了反复的修辞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图片2"/>
          <p:cNvPicPr/>
          <p:nvPr/>
        </p:nvPicPr>
        <p:blipFill>
          <a:blip r:embed="rId1"/>
          <a:stretch/>
        </p:blipFill>
        <p:spPr>
          <a:xfrm>
            <a:off x="0" y="-33480"/>
            <a:ext cx="9166320" cy="68914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244080" y="1052640"/>
            <a:ext cx="86756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Arial"/>
                <a:ea typeface="长城行楷体"/>
              </a:rPr>
              <a:t>  </a:t>
            </a:r>
            <a:r>
              <a:rPr b="1" lang="zh-CN" sz="4700" spc="-1" strike="noStrike">
                <a:solidFill>
                  <a:srgbClr val="000000"/>
                </a:solidFill>
                <a:latin typeface="Arial"/>
                <a:ea typeface="长城行楷体"/>
              </a:rPr>
              <a:t>读末句，思考：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Arial"/>
                <a:ea typeface="长城行楷体"/>
              </a:rPr>
              <a:t>         </a:t>
            </a:r>
            <a:r>
              <a:rPr b="1" lang="zh-CN" sz="4700" spc="-1" strike="noStrike">
                <a:solidFill>
                  <a:srgbClr val="000000"/>
                </a:solidFill>
                <a:latin typeface="Arial"/>
                <a:ea typeface="长城行楷体"/>
              </a:rPr>
              <a:t>少年能看到大海吗？你想对他说什么呢？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971640" y="112536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只要翻过那座山，就能看见大海”这句话表现了文章的主旨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258920" y="2852640"/>
            <a:ext cx="6624720" cy="10688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楷体_GB2312"/>
              </a:rPr>
              <a:t>只要满怀坚定不移的信念，就能战胜困难和自我，实现自己的人生理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1187280" y="1557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说说你受到的启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1116000" y="2708280"/>
            <a:ext cx="6912000" cy="106884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我们应该像少年一样，为目标而坚定信念，不断地战胜困难，超越自我，最终达到理想的彼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-360" y="620280"/>
            <a:ext cx="86756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合作探究：“大海”、 “山峦”和“海鸥” 有什么样的象征意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2709720"/>
            <a:ext cx="864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海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生的理想、目标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山峦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通往理想路上的一道道障碍、一个个关卡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海鸥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希望的使者、幸福的向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500" spc="-1" strike="noStrike">
                <a:solidFill>
                  <a:srgbClr val="ff00ff"/>
                </a:solidFill>
                <a:latin typeface="Arial"/>
                <a:ea typeface="华文新魏"/>
              </a:rPr>
              <a:t>课堂思考</a:t>
            </a:r>
            <a:endParaRPr b="1" lang="en-US" sz="6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4868640"/>
            <a:ext cx="91440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Arial"/>
                <a:ea typeface="长城新艺体"/>
              </a:rPr>
              <a:t>你心中有大海吗？你打算怎样找到心中的大海？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dur="indefinite" nodeType="after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dur="indefinite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afterEffect" fill="remove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{11AEA9F6-F7AE-4A99-A284-AA8FBF7CC6A7}0"/>
          <p:cNvPicPr/>
          <p:nvPr/>
        </p:nvPicPr>
        <p:blipFill>
          <a:blip r:embed="rId1"/>
          <a:stretch/>
        </p:blipFill>
        <p:spPr>
          <a:xfrm>
            <a:off x="0" y="-287280"/>
            <a:ext cx="9144000" cy="71499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1331640" y="1413000"/>
            <a:ext cx="67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400" spc="-1" strike="noStrike">
                <a:solidFill>
                  <a:srgbClr val="ffffcc"/>
                </a:solidFill>
                <a:latin typeface="Arial"/>
                <a:ea typeface="华文行楷"/>
              </a:rPr>
              <a:t>用</a:t>
            </a:r>
            <a:r>
              <a:rPr b="1" lang="zh-CN" sz="8600" spc="-1" strike="noStrike">
                <a:solidFill>
                  <a:srgbClr val="ff0000"/>
                </a:solidFill>
                <a:latin typeface="Arial"/>
              </a:rPr>
              <a:t>自信、坚持</a:t>
            </a:r>
            <a:r>
              <a:rPr b="1" lang="zh-CN" sz="8600" spc="-1" strike="noStrike">
                <a:solidFill>
                  <a:srgbClr val="00ff00"/>
                </a:solidFill>
                <a:latin typeface="Arial"/>
                <a:ea typeface="方正少儿简体"/>
              </a:rPr>
              <a:t>铸就</a:t>
            </a:r>
            <a:r>
              <a:rPr b="1" lang="zh-CN" sz="8600" spc="-1" strike="noStrike">
                <a:solidFill>
                  <a:srgbClr val="ff0000"/>
                </a:solidFill>
                <a:latin typeface="Arial"/>
              </a:rPr>
              <a:t>  辉煌！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丁香花.mp3" descr=""/>
          <p:cNvPicPr/>
          <p:nvPr/>
        </p:nvPicPr>
        <p:blipFill>
          <a:blip r:embed="rId2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4"/>
          <p:cNvSpPr/>
          <p:nvPr/>
        </p:nvSpPr>
        <p:spPr>
          <a:xfrm>
            <a:off x="684360" y="33336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励志类名言警句集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539640" y="1413000"/>
            <a:ext cx="835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最可怕的敌人，就是没有坚定的信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困难坎坷是人们的生活教科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平凡的脚步也可以走完伟大的行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大可能的事也许今天会实现，根本不可能的事也许明天会实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成功与不成功之间有时距离很短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只要后者再向前几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3" name="applause.wav"/>
      </p:stSnd>
    </p:sndAc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264675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只要翻过那座山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638676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500" spc="-1" strike="noStrike">
                <a:solidFill>
                  <a:srgbClr val="00ff00"/>
                </a:solidFill>
                <a:latin typeface="Arial"/>
                <a:ea typeface="华文行楷"/>
              </a:rPr>
              <a:t>无限风光在险峰</a:t>
            </a:r>
            <a:endParaRPr b="1" lang="en-US" sz="6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160" y="3499920"/>
            <a:ext cx="705312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ff99"/>
                </a:solidFill>
                <a:latin typeface="方正姚体"/>
                <a:ea typeface="方正姚体"/>
              </a:rPr>
              <a:t>    </a:t>
            </a:r>
            <a:r>
              <a:rPr b="1" lang="zh-CN" sz="4300" spc="-1" strike="noStrike">
                <a:solidFill>
                  <a:srgbClr val="ffff99"/>
                </a:solidFill>
                <a:latin typeface="方正姚体"/>
                <a:ea typeface="方正姚体"/>
              </a:rPr>
              <a:t>要欣赏到美的风光，一定得有战胜困难、勇攀险峰的坚定信念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4"/>
          <p:cNvSpPr/>
          <p:nvPr/>
        </p:nvSpPr>
        <p:spPr>
          <a:xfrm>
            <a:off x="1332000" y="31417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 </a:t>
            </a:r>
            <a:r>
              <a:rPr b="1" lang="en-US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线形标注 3 4"/>
          <p:cNvSpPr/>
          <p:nvPr/>
        </p:nvSpPr>
        <p:spPr>
          <a:xfrm>
            <a:off x="684360" y="260280"/>
            <a:ext cx="2808000" cy="10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50"/>
                </a:moveTo>
                <a:lnTo>
                  <a:pt x="-3600" y="4050"/>
                </a:lnTo>
                <a:lnTo>
                  <a:pt x="-3600" y="21600"/>
                </a:lnTo>
                <a:lnTo>
                  <a:pt x="5343" y="33543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幼圆"/>
                <a:ea typeface="幼圆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1042920" y="1700280"/>
            <a:ext cx="6913800" cy="106884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人只要有着远大的理想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坚定的信念，就能克服千难万险，战神彷徨与动摇，坚持不懈地攀登通往理想世界的高峰。正如泰戈尔说的“天空中没有留下鸟的痕迹，但是我已经飞过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900" spc="-1" strike="noStrike">
                <a:solidFill>
                  <a:srgbClr val="ff00ff"/>
                </a:solidFill>
                <a:latin typeface="Arial"/>
                <a:ea typeface="华文新魏"/>
              </a:rPr>
              <a:t>作业</a:t>
            </a:r>
            <a:endParaRPr b="1" lang="en-US" sz="5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11280" y="206064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cc3300"/>
                </a:solidFill>
                <a:latin typeface="Arial"/>
                <a:ea typeface="华文隶书"/>
              </a:rPr>
              <a:t>收集有关励志的故事。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2"/>
          <p:cNvPicPr/>
          <p:nvPr/>
        </p:nvPicPr>
        <p:blipFill>
          <a:blip r:embed="rId1"/>
          <a:stretch/>
        </p:blipFill>
        <p:spPr>
          <a:xfrm>
            <a:off x="2100240" y="5013360"/>
            <a:ext cx="1244520" cy="1476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图片6"/>
          <p:cNvPicPr/>
          <p:nvPr/>
        </p:nvPicPr>
        <p:blipFill>
          <a:blip r:embed="rId2"/>
          <a:stretch/>
        </p:blipFill>
        <p:spPr>
          <a:xfrm flipH="1">
            <a:off x="2722680" y="404640"/>
            <a:ext cx="10792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"/>
                            </p:stCondLst>
                            <p:childTnLst>
                              <p:par>
                                <p:cTn id="3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使用规范说明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3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3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1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62A9-8FAB-4BF1-A31F-943FDE325F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图片2"/>
          <p:cNvPicPr/>
          <p:nvPr/>
        </p:nvPicPr>
        <p:blipFill>
          <a:blip r:embed="rId1"/>
          <a:stretch/>
        </p:blipFill>
        <p:spPr>
          <a:xfrm>
            <a:off x="0" y="-6480"/>
            <a:ext cx="8820000" cy="66312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42472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ff"/>
                </a:solidFill>
                <a:latin typeface="Arial"/>
                <a:ea typeface="华文新魏"/>
              </a:rPr>
              <a:t>1.</a:t>
            </a:r>
            <a:r>
              <a:rPr b="0" lang="zh-CN" sz="4300" spc="-1" strike="noStrike">
                <a:solidFill>
                  <a:srgbClr val="ff00ff"/>
                </a:solidFill>
                <a:latin typeface="Arial"/>
                <a:ea typeface="华文新魏"/>
              </a:rPr>
              <a:t>自由朗读课文，读准字音，读通顺句子，理解词语。</a:t>
            </a:r>
            <a:br>
              <a:rPr sz="4300"/>
            </a:b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360" y="407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9999"/>
                </a:solidFill>
                <a:latin typeface="Arial"/>
                <a:ea typeface="长城行楷体"/>
              </a:rPr>
              <a:t>2.</a:t>
            </a:r>
            <a:r>
              <a:rPr b="1" lang="zh-CN" sz="4700" spc="-1" strike="noStrike">
                <a:solidFill>
                  <a:srgbClr val="669999"/>
                </a:solidFill>
                <a:latin typeface="Arial"/>
                <a:ea typeface="长城行楷体"/>
              </a:rPr>
              <a:t>想象画面。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"/>
          <p:cNvSpPr/>
          <p:nvPr/>
        </p:nvSpPr>
        <p:spPr>
          <a:xfrm>
            <a:off x="2214720" y="5510160"/>
            <a:ext cx="53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684360" y="476280"/>
            <a:ext cx="2663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900000" y="249228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屁        鸥         瞪         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900000" y="162864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2627280" y="162864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ō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4211640" y="15573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è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6372360" y="14842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ù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826920" y="3716280"/>
            <a:ext cx="42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多音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62000" y="53737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哄骗    起哄     颤抖    打颤      扇风     扇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179280" y="4797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ǒ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692360" y="4797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ò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3276720" y="4724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4788000" y="4653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h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6156360" y="4653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7740720" y="4653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图片2"/>
          <p:cNvPicPr/>
          <p:nvPr/>
        </p:nvPicPr>
        <p:blipFill>
          <a:blip r:embed="rId1"/>
          <a:stretch/>
        </p:blipFill>
        <p:spPr>
          <a:xfrm>
            <a:off x="0" y="-6480"/>
            <a:ext cx="8820000" cy="6631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108000" y="1052640"/>
            <a:ext cx="9036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笼罩：像笼子似的罩在上面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百感交集：各种各样的感触或感慨同时出现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蓦地：出乎意料地，突然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凝视：聚精会神地看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聚拢：汇聚合拢起来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瞬间：转眼之间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腾飞：飞腾；迅速崛起和发展，比喻飞跃进步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3.</a:t>
            </a:r>
            <a:r>
              <a:rPr b="0" lang="zh-CN" sz="3900" spc="-1" strike="noStrike">
                <a:solidFill>
                  <a:srgbClr val="330066"/>
                </a:solidFill>
                <a:latin typeface="Arial"/>
              </a:rPr>
              <a:t>理解词语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7"/>
          <p:cNvSpPr/>
          <p:nvPr/>
        </p:nvSpPr>
        <p:spPr>
          <a:xfrm>
            <a:off x="4356000" y="38401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1692360" y="105732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同学们边听读边想象，想象人物活动的画面、细节和人物的内心感受，看你脑中出现了一组怎样的画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22__只要翻过那座山.mp3" descr="22__只要翻过那座山"/>
          <p:cNvPicPr/>
          <p:nvPr/>
        </p:nvPicPr>
        <p:blipFill>
          <a:blip r:embed="rId2"/>
          <a:stretch/>
        </p:blipFill>
        <p:spPr>
          <a:xfrm>
            <a:off x="7381800" y="5607000"/>
            <a:ext cx="57492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28955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8820000" cy="66340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0" y="476280"/>
            <a:ext cx="88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幅：清晨，在被青草湿气笼罩的崎岖山道上，一个少年正一刻不停地赶路。他呼呼地喘着粗气，脸上、背上滚满汗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幅：离山顶只有几步了，少年开始快跑起来。然而站在山顶向下望去，前方仍是像波浪一样上下起伏，望不到边的山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幅：少年继续赶路，几乎是手脚并用地爬上一座又一座山顶，然而前方仍然是望不到边的起伏的山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四幅：少年猛地一屁股坐在路旁，垂头丧气、疲惫不堪地想着。突然，一只海鸥掠过，像一道亮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五幅：少年蓦地站起来，望着前面的山道及山道上方淡蓝色的天空。猛然间，一片雪白的羽毛翩然落下，落入少年伸出的双手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六幅：少年手中紧握着小小的羽毛，沿着山道缓缓爬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0" y="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描述画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34920" y="691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500" spc="-1" strike="noStrike">
                <a:solidFill>
                  <a:srgbClr val="ff00ff"/>
                </a:solidFill>
                <a:latin typeface="Arial"/>
                <a:ea typeface="华文新魏"/>
              </a:rPr>
              <a:t>文章内容</a:t>
            </a:r>
            <a:endParaRPr b="1" lang="en-US" sz="6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332000" y="2421000"/>
            <a:ext cx="7020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Arial"/>
                <a:ea typeface="长城行楷体"/>
              </a:rPr>
              <a:t>  </a:t>
            </a:r>
            <a:r>
              <a:rPr b="1" lang="zh-CN" sz="5100" spc="-1" strike="noStrike">
                <a:solidFill>
                  <a:srgbClr val="ff0000"/>
                </a:solidFill>
                <a:latin typeface="Arial"/>
                <a:ea typeface="长城行楷体"/>
              </a:rPr>
              <a:t>记叙了少年在翻山的   过程中战胜困难和自我的艰难历程。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8820000" cy="66340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ff00ff"/>
                </a:solidFill>
                <a:latin typeface="Arial"/>
                <a:ea typeface="华文新魏"/>
              </a:rPr>
              <a:t>少年翻山的过程中遇到了哪些困难？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3290400"/>
            <a:ext cx="63482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  <a:ea typeface="长城行楷体"/>
              </a:rPr>
              <a:t>1.</a:t>
            </a:r>
            <a:r>
              <a:rPr b="1" lang="zh-CN" sz="4700" spc="-1" strike="noStrike">
                <a:solidFill>
                  <a:srgbClr val="000000"/>
                </a:solidFill>
                <a:latin typeface="Arial"/>
                <a:ea typeface="长城行楷体"/>
              </a:rPr>
              <a:t>环境方面的困难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539640" y="4941720"/>
            <a:ext cx="43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我的困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1:55:2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7:25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