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amera.wav" ContentType="audio/x-wav"/>
  <Override PartName="/ppt/media/image7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type.wav" ContentType="audio/x-wav"/>
  <Override PartName="/ppt/media/image5.jpeg" ContentType="image/jpeg"/>
  <Override PartName="/ppt/media/image10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F7F6-96B9-4BA3-BAB7-CB8AEB314B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8E2B-DEFF-4A53-8127-F68FBB835A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7A8-1505-4FD4-B5A5-D32D827E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A57-EC75-4322-A09B-74F0EBD0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B6B-B5A0-48F1-BDD3-966B2FA8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670-CD90-4BC9-A98C-EF2C558C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311-3DC2-4163-ABD6-F46B1D57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7A2-BC7C-4DC7-9627-7E6006A5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B1E-00F6-41F2-BED0-6FD01581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866-F3AE-437D-A568-A067FDCA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73E-18C7-43BF-B9FC-8551F3DC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35E-D599-4BAC-BCDC-C409ACE3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7BD-01FE-48D3-95B5-BA2962E3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2C8-32B6-4F74-B50E-63F59386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F14B-0264-46A3-9C50-6EAC3DEFFB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月光山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303640" y="1125360"/>
            <a:ext cx="453672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楷体"/>
              </a:rPr>
              <a:t>走月亮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270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20081052335154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39640" y="260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稻穗低垂着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1835280" y="1413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丽的山村月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66560" y="3068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和阿妈走月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3132000" y="404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走月亮</a:t>
            </a:r>
            <a:endParaRPr b="1" lang="en-US" sz="2400" spc="1" strike="noStrike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1619280" y="1486080"/>
            <a:ext cx="216000" cy="446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763640" y="2349360"/>
            <a:ext cx="12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溪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月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2771640" y="206064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692360" y="436572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田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月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2771640" y="3860640"/>
            <a:ext cx="216000" cy="19465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6520"/>
              <a:gd name="textAreaBottom" fmla="*/ 1896120 h 194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916360" y="206064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看到：鹅卵石布满河床、小水塘、水塘抱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916360" y="242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：溪水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916360" y="27813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闻到：山草和野花的香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916360" y="313992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到：“我”和阿妈在溪边的情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2916360" y="53737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到：种油菜、种蚕豆、找兔草、吹蒲公英、        栽水稻的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916360" y="378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看到：修补过的村道，果子挂满枝头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2916360" y="4221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：秋虫唱歌、夜鸟拍翅、鱼儿跳跃、              沟水汩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843280" y="4976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闻到：果子的香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08103019985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24000" y="36417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啊，在我仰起脸看阿妈的时候，我突然看见，美丽的月亮牵着那些闪闪烁烁的小星星，好像也在天上走着，走着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月光曲.mp3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468360" y="263520"/>
            <a:ext cx="7018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有时，阿妈给我讲月亮的故事，讲古老的传说；有时，却什么也不讲，只是静静的走着，走着。</a:t>
            </a:r>
            <a:r>
              <a:rPr b="1" lang="zh-CN" sz="2800" spc="-1" strike="noStrike">
                <a:solidFill>
                  <a:srgbClr val="99ff66"/>
                </a:solidFill>
                <a:latin typeface="华文楷体"/>
                <a:ea typeface="华文楷体"/>
              </a:rPr>
              <a:t>阿妈温暖的手拉着我，我嗅得见阿妈身上的气息。</a:t>
            </a:r>
            <a:r>
              <a:rPr b="1" lang="zh-CN" sz="2800" spc="-1" strike="noStrike">
                <a:solidFill>
                  <a:srgbClr val="fb8190"/>
                </a:solidFill>
                <a:latin typeface="华文楷体"/>
                <a:ea typeface="华文楷体"/>
              </a:rPr>
              <a:t>走过月光闪闪的溪岸，走过石拱桥；走过月影团团的果园，走过庄稼地和菜地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331598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1332000" y="14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丽的山村月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79280" y="3068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和阿妈走月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15"/>
          <p:cNvSpPr txBox="1"/>
          <p:nvPr/>
        </p:nvSpPr>
        <p:spPr>
          <a:xfrm>
            <a:off x="3132000" y="40464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走月亮</a:t>
            </a:r>
            <a:endParaRPr b="1" lang="en-US" sz="2400" spc="1" strike="noStrike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260360" y="1486080"/>
            <a:ext cx="216000" cy="50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1040 h 5040000"/>
              <a:gd name="textAreaBottom" fmla="*/ 4908960 h 50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332000" y="234936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溪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月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2411280" y="206064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332000" y="436572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溪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月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411280" y="3860640"/>
            <a:ext cx="216000" cy="208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9440"/>
              <a:gd name="textAreaBottom" fmla="*/ 203508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482920" y="206064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看到：鹅卵石布满河床、小水塘、水塘抱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556000" y="242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：溪水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556000" y="27813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闻到：山草和野花的香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556000" y="313992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到：“我”和阿妈在溪边的情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2627280" y="537372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到：种油菜、种蚕豆、找兔草、吹蒲公英、栽水稻的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556000" y="378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看到：修补过的村道，果子挂满枝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2556000" y="422100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：秋虫唱歌、夜鸟拍翅、鱼儿跳跃、              沟水汩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2556000" y="497664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闻到：果子的香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1476360" y="6093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美的夜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7237440" y="1339920"/>
            <a:ext cx="287280" cy="5184720"/>
          </a:xfrm>
          <a:custGeom>
            <a:avLst/>
            <a:gdLst>
              <a:gd name="textAreaLeft" fmla="*/ 0 w 287280"/>
              <a:gd name="textAreaRight" fmla="*/ 103680 w 28728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7453440" y="34704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美丽景色浓浓亲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755640" y="1557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为什么反复写“啊，我和阿妈走月亮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55640" y="227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答：这样反复地写，充分表达了“我”和阿妈走月亮时的幸福和喜悦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共同探究</a:t>
            </a:r>
            <a:endParaRPr b="1" lang="en-US" sz="2400" spc="1" strike="noStrike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6920" y="3502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什么说这是一个“多美的夜晚”？选择喜欢的段落背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月光曲.mp3" descr=""/>
          <p:cNvPicPr/>
          <p:nvPr/>
        </p:nvPicPr>
        <p:blipFill>
          <a:blip r:embed="rId1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828720" y="4726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你和爸爸或妈妈走月亮，你想去哪里走月亮，动动你的五官，说说你在走月亮时看到什么？听到什么？闻到什么？想到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331598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母爱2"/>
          <p:cNvPicPr/>
          <p:nvPr/>
        </p:nvPicPr>
        <p:blipFill>
          <a:blip r:embed="rId1"/>
          <a:stretch/>
        </p:blipFill>
        <p:spPr>
          <a:xfrm>
            <a:off x="395280" y="549360"/>
            <a:ext cx="8415360" cy="576108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1"/>
          <p:cNvSpPr/>
          <p:nvPr/>
        </p:nvSpPr>
        <p:spPr>
          <a:xfrm>
            <a:off x="395280" y="6310440"/>
            <a:ext cx="77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3"/>
          <p:cNvSpPr txBox="1"/>
          <p:nvPr/>
        </p:nvSpPr>
        <p:spPr>
          <a:xfrm>
            <a:off x="2340000" y="3860640"/>
            <a:ext cx="3816360" cy="13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b2b2b2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课后作业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50000">
                    <a:srgbClr val="b2b2b2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11280" y="907920"/>
            <a:ext cx="67690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、完成课文《走月亮》课堂摘录本，摘录好词好句。</a:t>
            </a:r>
            <a:br>
              <a:rPr sz="2700"/>
            </a:br>
            <a:br>
              <a:rPr sz="2700"/>
            </a:b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、复习课文《走月亮》课堂笔记，背诵</a:t>
            </a: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自然段。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3"/>
          <p:cNvSpPr txBox="1"/>
          <p:nvPr/>
        </p:nvSpPr>
        <p:spPr>
          <a:xfrm>
            <a:off x="2340000" y="3860640"/>
            <a:ext cx="3816360" cy="13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b2b2b2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课后作业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50000">
                    <a:srgbClr val="b2b2b2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11280" y="476280"/>
            <a:ext cx="676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说到亲情，我们眼前会浮现出这样的画面：小路上妈妈伸展双臂迎接蹒跚学步的幼儿，风雨中爸爸手持雨伞呵护着放学归来的孩子，月夜下奶奶教孙子数天上的星星……</a:t>
            </a:r>
            <a:br>
              <a:rPr sz="2700"/>
            </a:br>
            <a:r>
              <a:rPr b="0" lang="zh-CN" sz="2700" spc="-1" strike="noStrike">
                <a:solidFill>
                  <a:srgbClr val="ffffff"/>
                </a:solidFill>
                <a:latin typeface="Times New Roman"/>
              </a:rPr>
              <a:t>在浓浓的亲情中，我们学会了独立行走，我们一步步长大成人。这伴随生命每一刻的亲情，你感受到了吗？同学们，想一想，说说，然后写在你的日记本上吧。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5984-0E7D-4C35-9137-3BB3CB7DFC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洱海"/>
          <p:cNvPicPr/>
          <p:nvPr/>
        </p:nvPicPr>
        <p:blipFill>
          <a:blip r:embed="rId1"/>
          <a:stretch/>
        </p:blipFill>
        <p:spPr>
          <a:xfrm>
            <a:off x="284040" y="189000"/>
            <a:ext cx="8593200" cy="6443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612720" y="260280"/>
            <a:ext cx="179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洱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1565043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003640" y="189000"/>
            <a:ext cx="388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云南点苍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5"/>
          <p:cNvSpPr txBox="1"/>
          <p:nvPr/>
        </p:nvSpPr>
        <p:spPr>
          <a:xfrm>
            <a:off x="3132000" y="189000"/>
            <a:ext cx="295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生字巩固</a:t>
            </a:r>
            <a:endParaRPr b="1" lang="en-US" sz="2400" spc="1" strike="noStrike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826920" y="17002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圆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70036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826920" y="2852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500720" y="171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443640" y="170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62728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0072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6372360" y="2852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坑坑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洼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826920" y="393372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浇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700360" y="3879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500720" y="3860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稻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516720" y="3933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900000" y="501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闪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500720" y="501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泼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2771640" y="5013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6588000" y="501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沟水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汩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5003640" y="3500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su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516720" y="3500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xi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303200" y="4657680"/>
            <a:ext cx="10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shu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4662360" y="46004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p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207040" y="4600440"/>
            <a:ext cx="5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l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7707240" y="4643280"/>
            <a:ext cx="6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g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181080" y="1484280"/>
            <a:ext cx="8785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亮照亮了高高的点苍山，照亮了村头的大青树，也照亮了，照亮了村间的大道和小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4360" y="306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排比句的作用：不仅使描写细腻，形象生动，更增强了韵律感，使语言富有气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117440" y="2205000"/>
            <a:ext cx="6983640" cy="18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24000" y="2854440"/>
            <a:ext cx="6912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236000" y="2276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排比句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24000" y="436572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亮照亮了高高的点苍山，照亮了村头的大青树，也照亮了，照亮了村间的大道和小路，照亮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照亮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828720" y="5445000"/>
            <a:ext cx="237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爱的池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284720" y="5445000"/>
            <a:ext cx="237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飘香的果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美句赏析</a:t>
            </a:r>
            <a:endParaRPr b="1" lang="en-US" sz="2400" spc="1" strike="noStrike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细的溪水，流着山草和野花的香味，流着月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小溪流水含月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哟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石间有多少可爱的小水塘啊，每个小水塘，都抱着一个月亮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水塘映月如抱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zouyueliang2"/>
          <p:cNvPicPr/>
          <p:nvPr/>
        </p:nvPicPr>
        <p:blipFill>
          <a:blip r:embed="rId1"/>
          <a:stretch/>
        </p:blipFill>
        <p:spPr>
          <a:xfrm>
            <a:off x="1547640" y="0"/>
            <a:ext cx="6120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476360" y="909720"/>
            <a:ext cx="619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细的溪水，流着山草和野花的香味，流着月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小溪流水含月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</a:rPr>
              <a:t>哟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卵石间有多少可爱的小水塘啊，每个小水塘，都抱着一个月亮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水塘映月如抱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1187280" y="693720"/>
            <a:ext cx="63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秋虫唱着，夜鸟拍打着翅膀，鱼儿跃出水面，泼剌一声，银光一闪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308720" y="836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听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117440" y="19191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从果园那边，飘来果子的甜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804000" y="1917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闻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042920" y="26892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村道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果园、果子、稻田、稻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308720" y="2781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看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40760" y="3576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沟水汩汩，很满意地响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300720" y="3573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拟人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50920" y="4294080"/>
            <a:ext cx="8210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填上合适的词语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）的秋虫 （                    ）的夜鸟 （             ）的鱼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）的溪水 （               ）的果园和稻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867280" y="4941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华文楷体"/>
              </a:rPr>
              <a:t>跃出水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774880" y="494172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华文楷体"/>
              </a:rPr>
              <a:t>拍打着翅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41440" y="4941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华文楷体"/>
              </a:rPr>
              <a:t>唱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39640" y="54468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汩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708280" y="54072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华文楷体"/>
              </a:rPr>
              <a:t>丰收在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324000" y="148608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果园那边，飘来果子的甜香。是雪梨，还是火把梨？还是紫葡萄？都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189080" y="2205000"/>
            <a:ext cx="6697800" cy="18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828720" y="2852640"/>
            <a:ext cx="2952720" cy="18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59320" y="2421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设问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403280" y="4941720"/>
            <a:ext cx="61200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340000" y="4868640"/>
            <a:ext cx="107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稻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932360" y="4797000"/>
            <a:ext cx="1225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银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24000" y="3286080"/>
            <a:ext cx="8064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的稻谷就要成熟了，稻田像一片月光镀亮的银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268360" y="5660640"/>
            <a:ext cx="1225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银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003640" y="5660640"/>
            <a:ext cx="107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稻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1187280" y="4005360"/>
            <a:ext cx="69138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396720" y="4653000"/>
            <a:ext cx="935280" cy="14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484360" y="4221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比喻句，生动形象地写出月光下稻田的景象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15"/>
          <p:cNvSpPr txBox="1"/>
          <p:nvPr/>
        </p:nvSpPr>
        <p:spPr>
          <a:xfrm>
            <a:off x="3203640" y="476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cc0099">
                        <a:alpha val="50196"/>
                      </a:srgbClr>
                    </a:gs>
                    <a:gs pos="100000">
                      <a:srgbClr val="5e004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美句赏析</a:t>
            </a:r>
            <a:endParaRPr b="1" lang="en-US" sz="2400" spc="1" strike="noStrike">
              <a:ln w="1260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cc0099">
                      <a:alpha val="50196"/>
                    </a:srgbClr>
                  </a:gs>
                  <a:gs pos="100000">
                    <a:srgbClr val="5e004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7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1:17Z</dcterms:modified>
  <cp:revision>7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