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image10.jpeg" ContentType="image/jpeg"/>
  <Override PartName="/ppt/media/image7.jpeg" ContentType="image/jpeg"/>
  <Override PartName="/ppt/media/image12.jpeg" ContentType="image/jpeg"/>
  <Override PartName="/ppt/media/image9.gif" ContentType="image/gif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DDB7-5E43-4254-B21F-B7AD0E5DA2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DF02-A08F-49EE-BCAE-E64BBA3D86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CDF-6BC5-4258-85E9-893AA61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B9B5-8640-41B2-8A59-7873AF5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5D1-8858-41A8-8F5E-44B2B04A9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2BCE-77BD-414F-AEA0-6FE422D1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401-5929-4778-AD44-6F814968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C9B-B0C7-43B2-8328-AD0E4C18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667-0D87-4824-A2D6-DCB75C21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326E-EC7B-47B4-A64D-122D00D6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423-7BF6-45DF-BE35-D72C9441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14D9-0727-46F4-88B7-E12D6E28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CF0-2854-45A5-9AF7-84D5B751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480-7757-4F88-A2E4-8A63C3D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6B01-D88A-4452-BD04-84E90272A2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景色11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4" descr=""/>
          <p:cNvPicPr/>
          <p:nvPr/>
        </p:nvPicPr>
        <p:blipFill>
          <a:blip r:embed="rId2"/>
          <a:stretch/>
        </p:blipFill>
        <p:spPr>
          <a:xfrm>
            <a:off x="684360" y="1938240"/>
            <a:ext cx="7777080" cy="2308320"/>
          </a:xfrm>
          <a:prstGeom prst="rect">
            <a:avLst/>
          </a:prstGeom>
          <a:ln w="0">
            <a:noFill/>
          </a:ln>
        </p:spPr>
      </p:pic>
      <p:pic>
        <p:nvPicPr>
          <p:cNvPr id="50" name="矩形 6" descr=""/>
          <p:cNvPicPr/>
          <p:nvPr/>
        </p:nvPicPr>
        <p:blipFill>
          <a:blip r:embed="rId3"/>
          <a:stretch/>
        </p:blipFill>
        <p:spPr>
          <a:xfrm>
            <a:off x="1378080" y="5877000"/>
            <a:ext cx="6507000" cy="56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04920" y="3805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找出出养鸟人和围观者听到少年背古诗前后不同的表现的句子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人听前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老人听后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者听前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观者听后：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这些句子及文中的对话我体会到：老人和观者只是出于养鸟的喜好，才认为鸟的叫声是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，他们并不理解鸟儿在笼中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而天真无邪的少年却用一首诗惊醒了“梦中人”，他听出了画眉对笼外世界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让老人由得意到生气再到最后的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更让围观者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我体会到了少年的态度坚决和不依不饶的精神及对小鸟的喜爱之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1905120" y="1219320"/>
            <a:ext cx="74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他一把推开少年，愤愤地说：“去，去，大清早，你来扫兴！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981080" y="16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老人一听，怔住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1905120" y="1981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围观的人一阵哄笑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7"/>
          <p:cNvSpPr/>
          <p:nvPr/>
        </p:nvSpPr>
        <p:spPr>
          <a:xfrm>
            <a:off x="1981080" y="24382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旁边的人也没做声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15238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渴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35053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痛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571500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忧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4952880" y="5562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怔住了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2"/>
          <p:cNvSpPr/>
          <p:nvPr/>
        </p:nvSpPr>
        <p:spPr>
          <a:xfrm>
            <a:off x="396252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向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49528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动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502920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哄笑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2438280" y="5562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不做声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三、再读课文，体会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感情地朗读课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时，要读出清晨公园的热闹、画眉的惹人喜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角色朗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~1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然段，要读出画眉对笼外的向往和渴望，读出人物心理的特点及相应的语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四、拓展练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挥想象：老人最后会怎么做呢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是一个爱护动物的人吗？你可以为动物的保护做哪些事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4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边框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1403280" y="2205000"/>
          <a:ext cx="6553080" cy="2625840"/>
        </p:xfrm>
        <a:graphic>
          <a:graphicData uri="http://schemas.openxmlformats.org/drawingml/2006/table">
            <a:tbl>
              <a:tblPr/>
              <a:tblGrid>
                <a:gridCol w="1368360"/>
                <a:gridCol w="2727360"/>
                <a:gridCol w="2457360"/>
              </a:tblGrid>
              <a:tr h="864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少年背古诗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少年背古诗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围观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哄    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没 做 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养鸟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老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愤     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怔    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21"/>
          <p:cNvSpPr/>
          <p:nvPr/>
        </p:nvSpPr>
        <p:spPr>
          <a:xfrm>
            <a:off x="1835280" y="8254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填一填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7777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1979640" y="141300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读句子，体会标点符号的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11280" y="2708280"/>
            <a:ext cx="4752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9933ff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我这鸟儿叫得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我怎么听着这鸟唱的不是美歌呀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4932360" y="2781360"/>
            <a:ext cx="403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疑问句，需要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反问句，不需要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68360" y="4941720"/>
            <a:ext cx="482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9933ff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真是美鸟唱美歌呀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</a:rPr>
              <a:t>唱的是忧愁的歌，是痛苦的歌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148360" y="501336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003640" y="4869000"/>
            <a:ext cx="396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赞扬的语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申诉、责备的语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PM_020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2843280" y="981000"/>
            <a:ext cx="5543640" cy="30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拓展练习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1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老人最后会怎么做？请发挥你的想象，写几句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2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请你设计一则爱鸟、护鸟的广告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3   </a:t>
            </a:r>
            <a:r>
              <a:rPr b="1" lang="zh-CN" sz="3200" spc="-1" strike="noStrike">
                <a:solidFill>
                  <a:srgbClr val="cc00ff"/>
                </a:solidFill>
                <a:latin typeface="Arial"/>
              </a:rPr>
              <a:t>收集、阅读有关鸟类的资料，了解人与鸟类和谐共处的重要性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fm3 拷贝"/>
          <p:cNvPicPr/>
          <p:nvPr/>
        </p:nvPicPr>
        <p:blipFill>
          <a:blip r:embed="rId1"/>
          <a:stretch/>
        </p:blipFill>
        <p:spPr>
          <a:xfrm>
            <a:off x="0" y="0"/>
            <a:ext cx="97567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2448000" y="83664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板书设计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511280" y="278136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311640" y="2060640"/>
            <a:ext cx="511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养鸟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怔住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    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没做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少    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—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在啼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366920" y="1557360"/>
            <a:ext cx="244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ff00"/>
                </a:solidFill>
                <a:latin typeface="Arial"/>
              </a:rPr>
              <a:t>｛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8244000" y="270828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少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6767640" y="5516640"/>
            <a:ext cx="172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983280" y="1484280"/>
            <a:ext cx="20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0" spc="-1" strike="noStrike">
                <a:solidFill>
                  <a:srgbClr val="ffff00"/>
                </a:solidFill>
                <a:latin typeface="Arial"/>
              </a:rPr>
              <a:t>｝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2448000" y="502920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画眉鸟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WordArt 3"/>
          <p:cNvSpPr txBox="1"/>
          <p:nvPr/>
        </p:nvSpPr>
        <p:spPr>
          <a:xfrm>
            <a:off x="1692360" y="1557360"/>
            <a:ext cx="532908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1038-DEB3-4616-A467-92B8F3A1BBA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539640" y="33336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知音故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1280" y="141300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春秋时期，有个著名的琴师叫俞伯牙，他非常擅长弹琴。有个樵夫叫钟子期，善于倾听。伯牙弹高山的曲子，钟子期说：“好啊！高峻的样子像泰山！”伯牙弹流水，钟子期说：“好啊！水势浩荡的样子像江河！”伯牙心里想的，钟子期一定知道。伯牙说：“你真是我的知音。”子期死后，伯牙认为世上再也没有他的知音了，就摔破了琴，终生不再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COMEPUTER"/>
          <p:cNvPicPr/>
          <p:nvPr/>
        </p:nvPicPr>
        <p:blipFill>
          <a:blip r:embed="rId2"/>
          <a:stretch/>
        </p:blipFill>
        <p:spPr>
          <a:xfrm>
            <a:off x="900000" y="5445000"/>
            <a:ext cx="1943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边框190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900000" y="692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Arial"/>
              </a:rPr>
              <a:t>读  一   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68360" y="1413000"/>
            <a:ext cx="838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īng     wǔ      huáng       zhèng     z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鹦        鹉         惶              怔         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826920" y="3141720"/>
            <a:ext cx="6913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星星点点    饱食终日      忧郁      招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唱一和    惶恐不安      自豪      逗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招人耳目    互唤互答       哑然     密匝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楷体"/>
              </a:rPr>
              <a:t>学习目标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理解课文，体会少年才是鸟的知“知音”；理解文中“知音”的含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体会作者体会作者劝告人们真心爱护鸟儿及其热爱生命、尊重生命，向往人与自然和谐相处的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学前准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速浏览全文并在小组内讨论上节课所学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课文内容，说说为什么少年才是小鸟的“知音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楷体"/>
              </a:rPr>
              <a:t>二、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精读课文，探索内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读课文第二自然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用笔在文中画出描写鸟语园热闹景象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152280" y="3352680"/>
            <a:ext cx="8763120" cy="155628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草地上有许多老人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他们把各自的鸟笼挂在树上，然后仰着头，侧着目，美美地听鸟儿互唤互答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那儿有八哥，有黄鹂，有百灵，有鹦鹉，它们叫得各有韵味，各有声色，每个鸟笼都招引了不少观众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读句子，体会文中标点的用法：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294920"/>
            <a:ext cx="845820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第一组：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①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我这鸟儿叫得怎么样？”②“怎么听着这鸟儿唱的不是美歌呀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知道：第一句的问号表示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需要回答；第二句的问号表示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不需要回答，表示否定的意思：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改为陈述句即可）</a:t>
            </a:r>
            <a:r>
              <a:rPr b="1" lang="zh-CN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                             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第二组： ① “真是美鸟唱美歌呀！” ②“唱的是忧愁的歌，痛苦的歌！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明白：两句的惊叹都表示语气强烈，但第一句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    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语气而第二句是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语气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4800600" y="19810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0000"/>
                </a:solidFill>
                <a:latin typeface="黑体"/>
                <a:ea typeface="黑体"/>
              </a:rPr>
              <a:t>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4648320" y="51055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责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3429000" y="28954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鸟儿唱的不是美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609480" y="51055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赞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2819520" y="2362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反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品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华文楷体"/>
              </a:rPr>
              <a:t>3~1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华文楷体"/>
              </a:rPr>
              <a:t>自然段人物对话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8600" y="914040"/>
            <a:ext cx="8763120" cy="517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~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面对养鸟老人的问题——“我的鸟儿叫得怎样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围观的人道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少年却说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两个截然不同的回答，我更加赞成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的说法，理由是：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  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②“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好听极了！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"“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真是美鸟唱美歌呀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”“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这画眉唱的歌，听了叫人美一辈子。” 这三句分别用了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的修辞手法，我体会到了围观者对画眉的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，老人“不住地点头”体现了他的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，貌似他们都是画眉的“知音”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3520" y="1295280"/>
            <a:ext cx="86104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2110"/>
                </a:solidFill>
                <a:latin typeface="Arial"/>
              </a:rPr>
              <a:t>                          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6211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好听极了！”“真是美鸟唱美歌呀！”“这画眉唱的歌叫人听了一辈子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1905120" y="2438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211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86211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我怎么听这鸟唱的不是呀美歌！</a:t>
            </a:r>
            <a:r>
              <a:rPr b="1" lang="en-US" sz="2400" spc="-1" strike="noStrike">
                <a:solidFill>
                  <a:srgbClr val="86211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86211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152280" y="350532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鸟儿本应该在大自然里自在生活，笼中的鸟不自由是唱不出美妙的歌声的</a:t>
            </a: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1523880" y="4876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夸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"/>
          <p:cNvSpPr/>
          <p:nvPr/>
        </p:nvSpPr>
        <p:spPr>
          <a:xfrm>
            <a:off x="5105520" y="2819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62110"/>
                </a:solidFill>
                <a:latin typeface="Arial"/>
              </a:rPr>
              <a:t>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"/>
          <p:cNvSpPr/>
          <p:nvPr/>
        </p:nvSpPr>
        <p:spPr>
          <a:xfrm>
            <a:off x="182880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赞美喜爱之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1"/>
          <p:cNvSpPr/>
          <p:nvPr/>
        </p:nvSpPr>
        <p:spPr>
          <a:xfrm>
            <a:off x="7848720" y="44956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拟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5943600" y="4497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62110"/>
                </a:solidFill>
                <a:latin typeface="Arial"/>
              </a:rPr>
              <a:t>直抒胸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1905120" y="54864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华文楷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~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然段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共有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组老人与少年的对话，通过这五组对话我明白了少年的观点是（选择：正确、错误）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他语言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态度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他掷地有声，有理有力地回话，让老人和围观者折服。我知道了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才是画眉的知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3352680" y="31240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62110"/>
                </a:solidFill>
                <a:latin typeface="Arial"/>
              </a:rPr>
              <a:t>正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6477120" y="16002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62110"/>
                </a:solidFill>
                <a:latin typeface="Arial"/>
              </a:rPr>
              <a:t>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2590920" y="3581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62110"/>
                </a:solidFill>
                <a:latin typeface="Arial"/>
              </a:rPr>
              <a:t>坚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4572000" y="35812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62110"/>
                </a:solidFill>
                <a:latin typeface="Arial"/>
              </a:rPr>
              <a:t>坚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2743200" y="4038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少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35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30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