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069-B916-4BBE-B8FA-49F705B3E8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6DB-1059-4E65-8D81-E1AD0129DA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05A-B452-40CE-BA1A-0ABD613D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EE4-0DF5-48F6-AFC4-195F0139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734-A383-4C92-8F2E-7C29565C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375-1792-45D0-8970-45FFF7A8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1D5-DEE2-4FA9-BF1C-B44E1E0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C75-8880-4296-B9B1-8C2BDDD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44E-4FA7-497B-AABB-8864BB3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1B0-032A-4823-B481-D3AE57D3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102-E4D1-496A-AEA1-0D880F25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4D4-B70D-412A-BE07-9180A8D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620-BB06-489B-8F9A-410A4A7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01A-92E3-4F9D-8FC2-3A23E20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75A9-E537-4960-8B95-3B278AC306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990720"/>
            <a:ext cx="54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国诗人屈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9880" y="6014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说屈原是一位杰出的政治家，更是一位伟大的诗人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236232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原知识渊博，具有卓越的政治才干，先后担任过三闾大夫、左徒等显要的官职，提出了许多进步的政治主张。他被放逐二十多年，一直关心楚国的命运，为祖国的命运奔走呼号，所以说他是一位杰出的政治家。说屈原是一位伟大的诗人是因为屈原运用了楚国民歌的表现手法，创造出“楚辞”这种诗歌的新体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屈原作品的文学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990960" y="1523880"/>
            <a:ext cx="406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离骚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屈原的代表作，也是中国古代文学史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最长的一首浪漫主义的政治抒情诗。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天问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古今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见的奇特诗篇，它以问语一连向苍天提出了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7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个问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涉及了天文、地理、文学、哲学等许多领域，表现了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对传统观念的大胆怀疑和追求真理的科学精神。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歌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在民间祭歌的基础上加工而成的一组祭神乐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诗中创造了大量神的形象，大多是人神恋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45638849"/>
          <p:cNvPicPr/>
          <p:nvPr/>
        </p:nvPicPr>
        <p:blipFill>
          <a:blip r:embed="rId1"/>
          <a:stretch/>
        </p:blipFill>
        <p:spPr>
          <a:xfrm>
            <a:off x="380880" y="1447920"/>
            <a:ext cx="233676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362320" cy="203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202"/>
          <p:cNvPicPr/>
          <p:nvPr/>
        </p:nvPicPr>
        <p:blipFill>
          <a:blip r:embed="rId3"/>
          <a:stretch/>
        </p:blipFill>
        <p:spPr>
          <a:xfrm>
            <a:off x="6629400" y="3962520"/>
            <a:ext cx="144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路漫漫其修远兮，吾将上下而求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5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面的路程遥远而又漫长，我将要上天下地克服一切困难去追求、探索心中的理想。表现了屈原坚定不移的信念和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屈原的精神“与日月争光可也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原热爱祖国，提出了许多进步的政治主张，但是遭到了楚怀王的疏远和放逐。他虽流亡荒野，却始终不曾放弃自己的理想，不曾放弃对真理的追求。他写下了大量诗篇，抒发了忧国忧民的情怀，表达了自己高洁的理想，所以说屈原的精神“与日月争光可也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20760" y="1881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路漫漫其修远兮，吾将上下而求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220760" y="2438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举世皆浊我独清，众人皆醉我独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105520" y="21337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5105520" y="26668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417720" y="1905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追求理想，探索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34840" y="243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绝不同流合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 rot="5400000">
            <a:off x="4381200" y="-876240"/>
            <a:ext cx="381240" cy="8382240"/>
          </a:xfrm>
          <a:custGeom>
            <a:avLst/>
            <a:gdLst>
              <a:gd name="textAreaLeft" fmla="*/ 0 w 381240"/>
              <a:gd name="textAreaRight" fmla="*/ 137520 w 381240"/>
              <a:gd name="textAreaTop" fmla="*/ 218160 h 8382240"/>
              <a:gd name="textAreaBottom" fmla="*/ 8164080 h 838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8981"/>
                </a:lnTo>
                <a:cubicBezTo>
                  <a:pt x="10800" y="9880"/>
                  <a:pt x="16200" y="10779"/>
                  <a:pt x="21600" y="10779"/>
                </a:cubicBezTo>
                <a:cubicBezTo>
                  <a:pt x="16200" y="10779"/>
                  <a:pt x="10800" y="11678"/>
                  <a:pt x="10800" y="12577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857400" y="4038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与日月争光可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0195812"/>
          <p:cNvPicPr/>
          <p:nvPr/>
        </p:nvPicPr>
        <p:blipFill>
          <a:blip r:embed="rId1"/>
          <a:stretch/>
        </p:blipFill>
        <p:spPr>
          <a:xfrm>
            <a:off x="304920" y="762120"/>
            <a:ext cx="81432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159920" y="1371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384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267080" y="990720"/>
            <a:ext cx="3353040" cy="2209680"/>
          </a:xfrm>
          <a:prstGeom prst="cloudCallout">
            <a:avLst>
              <a:gd name="adj1" fmla="val -73060"/>
              <a:gd name="adj2" fmla="val 64870"/>
            </a:avLst>
          </a:prstGeom>
          <a:solidFill>
            <a:srgbClr val="55e6f5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屈原为什么会被革职和投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914400"/>
            <a:ext cx="8092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被放逐二十多年，一直关心着楚国的命运。当他得知楚都被秦国占领时，心急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他披着满头白发，上洞庭，下湘江，奔走呼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面容憔悴、身体枯瘦的屈原正在江边高唱低吟，一个渔夫驾着小船向他划过来，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是三闾大夫吗？你为什么到了这里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，世人都污浊了，只有我是干净的；众人都喝醉了，只有我是清醒的，所以被流放到了这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渔夫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然世人都污浊了，你为什么不同流合污呢？既然众人都喝醉了，你为什么不也跟着醉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回答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宁愿投身湘水，葬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z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身鱼腹，也不愿清白之身蒙受世俗的尘埃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渔夫听罢，叹息着摇桨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62000" y="15238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  <a:ea typeface="楷体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屈原的才华受到了奸臣的嫉妒，其坚持真理遭到奸臣的仇视，所以才会被昏庸的顷襄王革了职。屈原被放逐了二十多年，但一直关心着楚国的命运，不曾放弃对真理的追求，当得知楚国被秦国占领时，他宁愿投身湘水，也不愿同流合污。从屈原的生平中，可以看出屈原是一个爱国诗人，他追求理想，追求真理，至死不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1219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伟大的爱国诗人屈原以自己坚定的决心和惊世的壮举，诠释了对祖国的深情，他的这种宁死不屈的品质与不断探索的精神永远为后人敬仰，他的英明永载史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796560" y="243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爱国诗人屈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975040" y="281520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路漫漫其修远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489640" y="281520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吾将上下而求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诽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fě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838080" y="762120"/>
            <a:ext cx="19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诽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666880" y="76212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诡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248520" y="76212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离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心急如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24480" y="1905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谗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429000" y="4648320"/>
            <a:ext cx="204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724280" y="19051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62120" y="3124080"/>
            <a:ext cx="25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憔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971800" y="4419720"/>
            <a:ext cx="26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淫雨霏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060880" y="149544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419720" y="762120"/>
            <a:ext cx="12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昏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200400" y="1905120"/>
            <a:ext cx="13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埋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803680" y="3171960"/>
            <a:ext cx="27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震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00400" y="5334120"/>
            <a:ext cx="22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4876920" y="3200400"/>
            <a:ext cx="250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汨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43434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顷襄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629400" y="3200400"/>
            <a:ext cx="13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沅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791320" y="441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嫉贤妒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790560" y="5630760"/>
            <a:ext cx="25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痛哭流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429000" y="563868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忧国忧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01992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流合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谤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bà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诡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ɡu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庸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骚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ā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焚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fé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"/>
          <p:cNvSpPr/>
          <p:nvPr/>
        </p:nvSpPr>
        <p:spPr>
          <a:xfrm>
            <a:off x="1397160" y="5780160"/>
            <a:ext cx="56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葬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zà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粽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zò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04920" y="160020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屈原（约前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340-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约前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78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年）中国最早的大诗人。名平，字原。战国时楚国贵族。辅佐怀王，做过左徒、三闾大夫。学识渊博，主张彰明法度，举贤授能，东联齐国，西抗强秦。后遭到贵族子兰、靳尚等人的谗言而去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顷襄王时被放逐，长期流浪沅湘流域。后因楚国的政治更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腐败，首都郢亦为秦兵攻破，他无力挽救楚国的危亡，又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感政治理想无法实现，遂投汨罗江而死。所作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离骚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述身世、志趣，指斥统治集团昏庸腐朽，感叹抱负不申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九章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亦多揭露现实的黑暗与混乱，并抒发怀旧之情。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者均突出表现了他对楚国国事的深切忧念和为理想而献身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精神。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九歌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则是优美的祭神乐歌。他在楚国地方文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础上，创造出骚体这一新形式，以华美的语言、丰富的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象，融化神话传说，抒如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离骚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等更具有宏大的篇制，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诗经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形成显著区别，对后世影响很大。其传世作品，都保存在刘向辑集的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楚辞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中。又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汉书 艺文志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著录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屈原赋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篇，其书久佚，篇目与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楚辞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无出入，已不可详考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19cae0feca72a03c5c6008c7"/>
          <p:cNvPicPr/>
          <p:nvPr/>
        </p:nvPicPr>
        <p:blipFill>
          <a:blip r:embed="rId1"/>
          <a:stretch/>
        </p:blipFill>
        <p:spPr>
          <a:xfrm>
            <a:off x="6629400" y="23623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54C-C42E-44A3-9384-ED97EAD46F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71600" y="335268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00400" y="220968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191040" y="4255920"/>
            <a:ext cx="16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hὰ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572000" y="2286000"/>
            <a:ext cx="36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号叫   号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648320" y="4343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号召    口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054320" y="3421080"/>
            <a:ext cx="29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奔走呼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2971800"/>
            <a:ext cx="8092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是一位杰出的政治家，更是一位伟大的诗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是战国时期的楚国人。他知识渊博，具有卓越的政治才干，受到楚怀王的信任，先后担任过左徒、三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夫等显要的官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进步的政治主张，遭到了嫉贤妒能的子兰、靳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ì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尚等人的反对，他们在楚怀王面前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ě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屈原。楚怀王听信谗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言，渐渐疏远了屈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620120" y="38098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19920" y="2895480"/>
            <a:ext cx="2057400" cy="685800"/>
          </a:xfrm>
          <a:prstGeom prst="wedgeRectCallout">
            <a:avLst>
              <a:gd name="adj1" fmla="val 45291"/>
              <a:gd name="adj2" fmla="val 7893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卓越：非常优秀，超出一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934320" y="41148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419720" y="4572000"/>
            <a:ext cx="3200400" cy="685800"/>
          </a:xfrm>
          <a:prstGeom prst="wedgeRectCallout">
            <a:avLst>
              <a:gd name="adj1" fmla="val 37101"/>
              <a:gd name="adj2" fmla="val -11620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左徒：楚国地位只在令尹（国相）下的重要官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7924680" y="41148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762120" y="449568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914400" y="3429000"/>
            <a:ext cx="2743200" cy="914400"/>
          </a:xfrm>
          <a:prstGeom prst="wedgeRectCallout">
            <a:avLst>
              <a:gd name="adj1" fmla="val -36805"/>
              <a:gd name="adj2" fmla="val 63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三闾大夫：楚国掌管和教育王族三大姓的宗族事物之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6705720" y="51814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685800" y="556272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447920" y="4800600"/>
            <a:ext cx="2514600" cy="609480"/>
          </a:xfrm>
          <a:prstGeom prst="wedgeRectCallout">
            <a:avLst>
              <a:gd name="adj1" fmla="val -45074"/>
              <a:gd name="adj2" fmla="val 7005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诽谤：说人坏话，诋毁和破坏他人名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1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04920" y="1143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秦国乘机诱劝楚国与齐国绝交，楚国中了秦国的诡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u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计，不但失去大片土地，连楚怀王也被秦国囚禁，最后死在秦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听到楚怀王死了，屈原痛哭流涕。他劝继承王位的顷襄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王搜罗人才，远离小人，为国家和怀王报仇雪耻。这一来，更招来了那班奸臣的仇视，他们天天在顷襄王面前说屈原的坏话。昏庸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ō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顷襄王把屈原革了职，放逐到长江以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2666880" y="3809880"/>
            <a:ext cx="1752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572000" y="2895480"/>
            <a:ext cx="1676520" cy="609840"/>
          </a:xfrm>
          <a:prstGeom prst="wedgeRectCallout">
            <a:avLst>
              <a:gd name="adj1" fmla="val -44884"/>
              <a:gd name="adj2" fmla="val 6744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昏庸：糊涂而愚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7772400" y="3733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5486400" y="4419720"/>
            <a:ext cx="2438280" cy="914400"/>
          </a:xfrm>
          <a:prstGeom prst="wedgeRectCallout">
            <a:avLst>
              <a:gd name="adj1" fmla="val 53777"/>
              <a:gd name="adj2" fmla="val -1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放逐：古时候把被判罪的人流放到边远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25600" y="990720"/>
            <a:ext cx="8321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满怀悲愤，离开国都，浪迹于沅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u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水、湘江一带。他虽流亡荒野，却始终不曾放弃自己的理想，不曾放弃对真理的追求。他写下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大量诗篇，抒发忧国忧民的情怀，表达自己高洁的理想。他的诗歌，以丰富奇特的想象，巧妙地把民间神话传说和山川日月、香草幽花等结合起来，构成一幅幅神奇瑰丽的图画。他运用楚国民歌的表现手法，创造出诗歌的新体裁，这就是被人们传诵至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写道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漫漫其修远兮，吾将上下而求索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正是他一生追求理想，探索真理的写照。司马迁说，屈原的精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日月争光可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被放逐二十多年，一直关心着楚国的命运。当他得知楚都被秦国占领时，心急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他披着满头白发，上洞庭，下湘江，奔走呼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áo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3772080" y="57913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915080" y="4952880"/>
            <a:ext cx="2361960" cy="685800"/>
          </a:xfrm>
          <a:prstGeom prst="wedgeRectCallout">
            <a:avLst>
              <a:gd name="adj1" fmla="val -45967"/>
              <a:gd name="adj2" fmla="val 6990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心急如焚：心里急得像着了火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25600" y="2870280"/>
            <a:ext cx="8092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面容憔悴、身体枯瘦的屈原正在江边高唱低吟，一个渔夫驾着小船向他划过来，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是三闾大夫吗？你为什么到了这里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，世人都污浊了，只有我是干净的；众人都喝醉了，只有我是清醒的，所以被流放到了这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渔夫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然世人都污浊了，你为什么不同流合污呢？既然众人都喝醉了，你为什么不也跟着醉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屈原回答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宁愿投身湘水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身鱼腹，也不愿清白之身蒙受世俗的尘埃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971800" y="3276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914400" y="2362320"/>
            <a:ext cx="2057400" cy="609480"/>
          </a:xfrm>
          <a:prstGeom prst="wedgeRectCallout">
            <a:avLst>
              <a:gd name="adj1" fmla="val 62037"/>
              <a:gd name="adj2" fmla="val 9765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憔悴：面黄肌瘦，精神不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200" y="463680"/>
            <a:ext cx="81691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渔夫听罢，叹息着摇桨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农历五月初五，这是一个阴风怒号、淫雨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ē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霏的日子，屈原投入了波涛汹涌的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罗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听说屈大夫投江了，江边的庄稼人和打鱼人纷纷划着船去搭救屈原。可是江水滔滔，哪儿有屈大夫的踪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人们非常难过，用木头赶制了一个龙头放在船上，把米饭包在箬叶里做成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ò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撒在江中。他们想用龙威来震慑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水里的动物，用粽子来喂鱼虾，不让它们损坏屈原的遗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此，每年端午节，人们赛龙舟、包粽子，纪念这位伟大的爱国诗人，风俗一直流传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248520" y="121932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029200" y="1523880"/>
            <a:ext cx="3124080" cy="1219320"/>
          </a:xfrm>
          <a:prstGeom prst="wedgeRectCallout">
            <a:avLst>
              <a:gd name="adj1" fmla="val 43199"/>
              <a:gd name="adj2" fmla="val -97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淫雨霏霏：持续多日、连绵不断的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533520" y="34290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295280" y="2286000"/>
            <a:ext cx="2057400" cy="914400"/>
          </a:xfrm>
          <a:prstGeom prst="wedgeRectCallout">
            <a:avLst>
              <a:gd name="adj1" fmla="val -43750"/>
              <a:gd name="adj2" fmla="val 732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震慑：采取威力强大的方式使对方害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快速默读课文，看看你还有什么不理解的问题？我们一起来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9:00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38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