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0FB0-894F-460B-B7DD-20DE72EC0D5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9F74-FA56-4A96-9A52-6EAE90BEDC5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D167-C681-4FD1-8DB0-90F375FA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1592-9D6A-4057-BD67-E6CD565E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066E-6EA4-4E75-ABCD-BD2774FB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F471-4CAA-4011-8234-8DA2686E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B0FA-27B7-4DB0-81B4-8D9088E2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9D0C-49F1-464C-9E41-2FC59EF1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35FD-2CAF-4694-9899-615924B4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B121-9E48-46E6-996D-8072991F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86A2-336A-42E4-A3FE-D527110C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125D-ED0B-4965-BEB0-B54FF1BC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D0EA-16BF-4233-BCF1-62FD4BAC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2251-60EA-4FED-8FEF-521DFFFD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DD40-8A0B-431E-B2EA-34508DFF52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u=3438313575,357028185&amp;fm=0&amp;gp=-26[1]"/>
          <p:cNvPicPr/>
          <p:nvPr/>
        </p:nvPicPr>
        <p:blipFill>
          <a:blip r:embed="rId1"/>
          <a:stretch/>
        </p:blipFill>
        <p:spPr>
          <a:xfrm>
            <a:off x="2627280" y="3429000"/>
            <a:ext cx="3816360" cy="25192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619280" y="206064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微软雅黑"/>
                <a:ea typeface="微软雅黑"/>
              </a:rPr>
              <a:t>26.</a:t>
            </a:r>
            <a:r>
              <a:rPr b="1" lang="zh-CN" sz="8000" spc="-1" strike="noStrike">
                <a:solidFill>
                  <a:srgbClr val="0000ff"/>
                </a:solidFill>
                <a:latin typeface="微软雅黑"/>
                <a:ea typeface="微软雅黑"/>
              </a:rPr>
              <a:t>八个鸡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044720" y="622440"/>
            <a:ext cx="6622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钢琴曲 - 轻音乐集 - 月光边境.mp3" descr="钢琴曲 - 轻音乐集 - 月光边境"/>
          <p:cNvPicPr/>
          <p:nvPr/>
        </p:nvPicPr>
        <p:blipFill>
          <a:blip r:embed="rId2"/>
          <a:stretch/>
        </p:blipFill>
        <p:spPr>
          <a:xfrm>
            <a:off x="95400" y="6143760"/>
            <a:ext cx="618840" cy="618840"/>
          </a:xfrm>
          <a:prstGeom prst="rect">
            <a:avLst/>
          </a:prstGeom>
          <a:ln w="0">
            <a:noFill/>
          </a:ln>
        </p:spPr>
      </p:pic>
      <p:sp>
        <p:nvSpPr>
          <p:cNvPr id="52" name="矩形 8"/>
          <p:cNvSpPr/>
          <p:nvPr/>
        </p:nvSpPr>
        <p:spPr>
          <a:xfrm>
            <a:off x="2042640" y="61437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27A1-82DB-48C5-AF4F-BF78FFFBA51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  <a:ea typeface="黑体"/>
              </a:rPr>
              <a:t>达成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71280" y="2205000"/>
            <a:ext cx="7489800" cy="35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正确、流利有感情的朗读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理解课文内容，体会依凤姑娘纯洁美好的心灵以及中缅两国人民之间的友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"/>
          <p:cNvSpPr/>
          <p:nvPr/>
        </p:nvSpPr>
        <p:spPr>
          <a:xfrm>
            <a:off x="468360" y="5769000"/>
            <a:ext cx="621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26.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八个鸡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8640" y="980640"/>
            <a:ext cx="8291520" cy="514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天，小姑娘依凤放学回家。一只毛茸茸的小狗跟在他身后快乐的跑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路上有一块界碑，这边是中国，那边是缅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5149800" y="2492280"/>
            <a:ext cx="3672000" cy="1009800"/>
          </a:xfrm>
          <a:prstGeom prst="wedgeEllipseCallout">
            <a:avLst>
              <a:gd name="adj1" fmla="val 44995"/>
              <a:gd name="adj2" fmla="val 6863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思考：你知道界碑的意思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3419640" y="2421000"/>
            <a:ext cx="761760" cy="0"/>
          </a:xfrm>
          <a:prstGeom prst="line">
            <a:avLst/>
          </a:prstGeom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2007219205914"/>
          <p:cNvPicPr/>
          <p:nvPr/>
        </p:nvPicPr>
        <p:blipFill>
          <a:blip r:embed="rId1"/>
          <a:stretch/>
        </p:blipFill>
        <p:spPr>
          <a:xfrm>
            <a:off x="612720" y="2924280"/>
            <a:ext cx="4038480" cy="3030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4903920" y="3860640"/>
            <a:ext cx="3919320" cy="520560"/>
          </a:xfrm>
          <a:prstGeom prst="rect">
            <a:avLst/>
          </a:prstGeom>
          <a:noFill/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楷体"/>
              </a:rPr>
              <a:t>界碑是在中国和缅甸边界所竖立的石碑，是中国和缅甸的交界线，两国人民不可随意跨越界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836280"/>
            <a:ext cx="8424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520" indent="-7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突然，扑的一声，从界碑这边的草丛里飞出一只芦花大母鸡。它收拢翅膀站在界碑上，扭动脖子望望四周，然后翅膀一拍，向缅甸境内的寨子飞跑。一会儿，从缅甸大婶家的院子里传来了“个个大、个个大”的叫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520" indent="-74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2987640" y="262080"/>
            <a:ext cx="266544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自由读第三自然段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12720" y="314172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.</a:t>
            </a:r>
            <a:r>
              <a:rPr b="0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大母鸡是谁的？它到界碑这边来干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539640" y="2637000"/>
            <a:ext cx="8280360" cy="71280"/>
          </a:xfrm>
          <a:prstGeom prst="line">
            <a:avLst/>
          </a:prstGeom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7956720" y="2276640"/>
            <a:ext cx="761760" cy="0"/>
          </a:xfrm>
          <a:prstGeom prst="line">
            <a:avLst/>
          </a:prstGeom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539640" y="3141720"/>
            <a:ext cx="1051200" cy="1440"/>
          </a:xfrm>
          <a:prstGeom prst="line">
            <a:avLst/>
          </a:prstGeom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12720" y="3962520"/>
            <a:ext cx="79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2.</a:t>
            </a:r>
            <a:r>
              <a:rPr b="0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你怎么知道母鸡是缅甸大婶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11"/>
          <p:cNvSpPr/>
          <p:nvPr/>
        </p:nvSpPr>
        <p:spPr>
          <a:xfrm>
            <a:off x="5572080" y="4941720"/>
            <a:ext cx="7333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6360" y="982440"/>
            <a:ext cx="842508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凤在草丛里找到了八个鸡蛋。望着界碑那边的村寨、炊烟，她的眼睛像泉水一样清亮，笑容像芒果一样甜蜜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2340000" y="333360"/>
            <a:ext cx="417672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自由读第四自然段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" name="Line 5"/>
          <p:cNvSpPr/>
          <p:nvPr/>
        </p:nvSpPr>
        <p:spPr>
          <a:xfrm>
            <a:off x="900000" y="2421000"/>
            <a:ext cx="3240360" cy="1440"/>
          </a:xfrm>
          <a:prstGeom prst="line">
            <a:avLst/>
          </a:prstGeom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637080" y="1989000"/>
            <a:ext cx="5040360" cy="0"/>
          </a:xfrm>
          <a:prstGeom prst="line">
            <a:avLst/>
          </a:prstGeom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826920" y="2708280"/>
            <a:ext cx="5112000" cy="100800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91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画线句子用了什么修辞手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4429080" y="4079880"/>
            <a:ext cx="4395960" cy="1222200"/>
          </a:xfrm>
          <a:prstGeom prst="wedgeEllipseCallout">
            <a:avLst>
              <a:gd name="adj1" fmla="val 44995"/>
              <a:gd name="adj2" fmla="val 6863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作者为什么会这样描写依凤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"/>
          <p:cNvSpPr/>
          <p:nvPr/>
        </p:nvSpPr>
        <p:spPr>
          <a:xfrm>
            <a:off x="1508040" y="5908680"/>
            <a:ext cx="51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90756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她的眼睛像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__________________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她的笑容像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__________________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朗读最后一个自然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468360" y="1484280"/>
            <a:ext cx="849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晚霞辉映着竹楼，门外传来汪汪的狗叫声。缅甸大婶拉开竹门，一只小狗向她不停地摇着尾巴，它的旁边放着一只小竹篮。缅甸大婶一看，里面有八个洁白如玉的鸡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想一想，缅甸大婶看到这些会想些什么？说些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边框1"/>
          <p:cNvPicPr/>
          <p:nvPr/>
        </p:nvPicPr>
        <p:blipFill>
          <a:blip r:embed="rId1"/>
          <a:stretch/>
        </p:blipFill>
        <p:spPr>
          <a:xfrm>
            <a:off x="2917800" y="117360"/>
            <a:ext cx="3670200" cy="792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17800" y="190080"/>
            <a:ext cx="3454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一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000" y="98244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依凤姑娘是用什么办法把八个鸡蛋送还给缅甸大婶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655560" y="2062080"/>
            <a:ext cx="79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依凤为什么不亲自把鸡蛋送给大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评一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177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小依凤的品质怎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865080" y="3705120"/>
            <a:ext cx="30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08000" y="2997360"/>
            <a:ext cx="79930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小依凤有着一颗善良美好的心灵，我们要学习她无私的品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05:39:4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1:40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