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40C6-943B-4BC4-8F6C-745A78A0E9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EAD2-AEE4-4027-BD6A-496367A5C1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F85-6D6B-4F67-8994-D7E64D5E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372-74B3-44B2-87AF-C9EBB3FF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C00-B21A-4029-B3EA-D7609756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8F0-F3F4-4D7A-BC81-94FA9088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280-B296-4307-B49A-719236C5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AB6-1F0A-4F75-9D3C-071ADCE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E07-7DA9-4EA1-97AD-0EC21404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E1D-C453-428D-BCB8-8DB64BBA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FA2-EECF-4CD2-A49F-D6F62838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042-1DA6-455D-923B-FF7868A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212-ADAD-4178-B0EC-2ED0B10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90F-2DBB-4797-996D-FFEA0B7E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9DEB-D3CE-49E8-93FD-4B26F7BBF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北极风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194436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北 极 风 光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09480" y="457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湘教版三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827000" y="5956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北极兔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北极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071968beijixiong2_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独角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1219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的，就我们进入课文，感受一下北极到美丽风光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北极燕鸥"/>
          <p:cNvPicPr/>
          <p:nvPr/>
        </p:nvPicPr>
        <p:blipFill>
          <a:blip r:embed="rId1"/>
          <a:stretch/>
        </p:blipFill>
        <p:spPr>
          <a:xfrm>
            <a:off x="1828800" y="2019240"/>
            <a:ext cx="5372280" cy="3695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朗读，初步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自由读课文，读准字音，读通课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说说课文主要讲什么或说说你从文中知道了什么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2285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区  被  射  季  度  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  熊  狼  至  夺  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09680" y="11430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消灭错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08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09"/>
          <p:cNvPicPr/>
          <p:nvPr/>
        </p:nvPicPr>
        <p:blipFill>
          <a:blip r:embed="rId2"/>
          <a:stretch/>
        </p:blipFill>
        <p:spPr>
          <a:xfrm>
            <a:off x="4487760" y="0"/>
            <a:ext cx="46562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读感悟，感受北极风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默读课文，指出课文的中心句做上记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细读课文，感受北极风光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352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主学习，小组内交流：从课文中你感受到了北极有些什么特点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驯鹿2"/>
          <p:cNvPicPr/>
          <p:nvPr/>
        </p:nvPicPr>
        <p:blipFill>
          <a:blip r:embed="rId1"/>
          <a:stretch/>
        </p:blipFill>
        <p:spPr>
          <a:xfrm>
            <a:off x="1905120" y="2209680"/>
            <a:ext cx="5181480" cy="3865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会生字，积累相关词语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、流利、有感情地朗读课文，背诵课文第七自然段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受北极风光的美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热爱大自然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交流体验，学习了课文，你有什么收获，知道了多少北极的知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永远不受太阳光直射击队，只有冬夏两季；动物种类不少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也有繁花似锦的时候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奇异现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北极光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极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极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北极狐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海豹4"/>
          <p:cNvPicPr/>
          <p:nvPr/>
        </p:nvPicPr>
        <p:blipFill>
          <a:blip r:embed="rId1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北极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北极光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"/>
          <p:cNvSpPr/>
          <p:nvPr/>
        </p:nvSpPr>
        <p:spPr>
          <a:xfrm>
            <a:off x="990720" y="1600200"/>
            <a:ext cx="60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读课文，积累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自己最喜欢的地方有感情地读两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习说话：有时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时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时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E4F2-1816-447D-8D60-0FD5F6C978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你们知道北极吗？见到或者观看过关于北极的电影和图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准备了一些北极的图片，就让我们先睹为快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"/>
          <p:cNvSpPr/>
          <p:nvPr/>
        </p:nvSpPr>
        <p:spPr>
          <a:xfrm>
            <a:off x="1219320" y="22827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北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北极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极是指地球自转轴的北端，也就是北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那一点。北极地区是指北极附近北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°34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极圈以内的地区。北冰洋是一片浩瀚的冰封海洋，周围是众多的岛屿以及北美洲和亚洲北部的沿海地区。冰冷的海水携带着冰山从北冰洋流入大西洋和太平洋。北极地区的气候终年寒冷。冬季，太阳始终在地平线以下，大海完全封冻结冰。夏季，气温上升到冰点以上，北冰洋的边缘地带融化，太阳连续几个星期都挂在天空。北冰洋中有丰富的鱼类和浮游生物，这为夏季在这里筑巢的数百万只海鸟提供了丰富的食物来源，同时，也是海豹、鲸和其他海洋动物的食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066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北冰洋周围的大部分地区都比较平坦，没有树木生长。冬季大地封冻，地面上覆盖着厚厚的积雪。夏季积雪融化，表层土解冻，植物生长开花，为驯鹿和麝牛等动物提供了食物。同时，狼和北极熊等食肉动物也依靠捕食其他动物得以存活。北极地区是世界上人口最稀少的地区之一。千百年以来，只有因纽特人（亦称爱斯基摩人）在这里世代繁衍声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因纽特人"/>
          <p:cNvPicPr/>
          <p:nvPr/>
        </p:nvPicPr>
        <p:blipFill>
          <a:blip r:embed="rId1"/>
          <a:stretch/>
        </p:blipFill>
        <p:spPr>
          <a:xfrm>
            <a:off x="3352680" y="3352680"/>
            <a:ext cx="3657600" cy="2649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些动物，你都认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海豹2"/>
          <p:cNvPicPr/>
          <p:nvPr/>
        </p:nvPicPr>
        <p:blipFill>
          <a:blip r:embed="rId1"/>
          <a:stretch/>
        </p:blipFill>
        <p:spPr>
          <a:xfrm>
            <a:off x="1752480" y="1976400"/>
            <a:ext cx="5391360" cy="404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海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2:51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4:29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