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F71-1A4F-4413-8430-C10510FCF8C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71E-33A2-4762-8E23-FAEF02B95DC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22D-E690-48F5-91AF-1DE3EC35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CAA-B787-4A4F-9F57-F2831FB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6A6-E050-47E3-8408-EA703D93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133-3D9D-48B2-A6E6-9ADDFD19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8C5-BB10-4CD4-82E1-DF1E1CE1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DA2-4564-4983-B767-7393FB8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C94-9A4F-4ED3-BCFB-F2CDC44F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4BA-00E2-46D3-BEB2-6ADF2E9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5B0-1AA3-4932-9C83-7AD1CC6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44E-3756-4751-B4BF-A60C29D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59E-C1C6-49FD-A796-2059E41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CA2-E12A-4D1B-B733-BDC8343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D24-BBE0-42C3-AA35-89E959F19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90720" y="587520"/>
            <a:ext cx="691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新魏"/>
                <a:ea typeface="华文新魏"/>
              </a:rPr>
              <a:t>揠苗助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127000" y="1219320"/>
            <a:ext cx="48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59342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"/>
          <p:cNvSpPr/>
          <p:nvPr/>
        </p:nvSpPr>
        <p:spPr>
          <a:xfrm>
            <a:off x="1143000" y="3048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表演大舞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每个小组选送一名同学上讲台扮演老师所分配的角色，比一比哪两组配合得最好。（作者和种田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注意角色的语气，心态和神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80880" y="609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课后讨论</a:t>
            </a:r>
            <a:r>
              <a:rPr b="1" lang="zh-CN" sz="4400" spc="-1" strike="noStrike">
                <a:solidFill>
                  <a:srgbClr val="333399"/>
                </a:solidFill>
                <a:latin typeface="仿宋"/>
                <a:ea typeface="仿宋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如果你是这个农民的家人，你会对他说什么？农民明白了道理后又会怎样说、怎样做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楷体"/>
                <a:ea typeface="楷体"/>
              </a:rPr>
              <a:t>谢谢指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"/>
          <p:cNvSpPr/>
          <p:nvPr/>
        </p:nvSpPr>
        <p:spPr>
          <a:xfrm>
            <a:off x="250920" y="549576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32AE-FCCF-4B71-BBF7-F022CF8CEB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2393640"/>
            <a:ext cx="9144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巴望自己田里的禾苗长得快些，天天到田边去看。可是一天，两天，三天，禾苗好像一点儿也没有长高。他心中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焦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急，在田边转来转去，自言自语地说：“我得想个办法帮它们长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他终于想出了办法，就急忙跑到田里。他一直忙到太阳落山，把所有的禾苗都拔高了不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筋疲力尽地回到家里，一边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喘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huǎn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气一边说：“今天可把我累坏了！力气总算没白费，禾苗都长高了一大截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的儿子不明白是怎么回事，第二天跑到田里一看，禾苗都枯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124080" y="457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揠苗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1920" y="22860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形近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蕉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jiāo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香蕉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jiāo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焦急   烧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端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uān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端正  端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uǎn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喘气  喘息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uǎn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送    转达    转发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uàn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动    转圈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ěi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累计  累日  累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èi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劳累  累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éi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累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971800" y="609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巴望  焦急   转来转去  自言自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喘气  白费   筋疲力尽  拔苗助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3156120"/>
            <a:ext cx="906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巴望自己田里的禾苗长得快些，天天到田边去看。可是一天，两天，三天，禾苗好像一点儿也没有长高。他心中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急，在田边转来转去，自言自语地说：“我得想个办法帮它们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他终于想出了办法，就急忙跑到田里。他一直忙到太阳落山，把所有的禾苗都拔高了不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筋疲力尽地回到家里，一边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uǎ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气一边说：“今天可把我累坏了！力气总算没白费，禾苗都长高了一大截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的儿子不明白是怎么回事，第二天跑到田里一看，禾苗都枯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7180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拔苗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80880" y="228600"/>
            <a:ext cx="4800600" cy="1295280"/>
          </a:xfrm>
          <a:prstGeom prst="cloudCallout">
            <a:avLst>
              <a:gd name="adj1" fmla="val -48939"/>
              <a:gd name="adj2" fmla="val 5428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位种田人有什么愿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5867280" y="23623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3200400" y="152280"/>
            <a:ext cx="5943600" cy="1371600"/>
          </a:xfrm>
          <a:prstGeom prst="wedgeRectCallout">
            <a:avLst>
              <a:gd name="adj1" fmla="val -52699"/>
              <a:gd name="adj2" fmla="val 9872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是怎样理解“巴望”这个词语的，找出描写那个人巴望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8305920" y="23623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7010280" y="2743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505320" y="320040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7010280" y="320040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228600" y="35812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237852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巴望自己田里的禾苗长得快些，天天到田边去看。可是一天，两天，三天，禾苗好像一点儿也没有长高。他心中焦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急，在田边转来转去，自言自语地说：“我得想个办法帮它们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他终于想出了办法，就急忙跑到田里。他一直忙到太阳落山，把所有的禾苗都拔高了不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筋疲力尽地回到家里，一边喘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uǎ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气一边说：“今天可把我累坏了！力气总算没白费，禾苗都长高了一大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的儿子不明白是怎么回事，第二天跑到田里一看，禾苗都枯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揠苗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3581280" y="304920"/>
            <a:ext cx="5562720" cy="1828800"/>
          </a:xfrm>
          <a:prstGeom prst="cloudCallout">
            <a:avLst>
              <a:gd name="adj1" fmla="val 44949"/>
              <a:gd name="adj2" fmla="val 32032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了实现自己的愿望，他是怎样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2895480" y="34290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6553080" y="34290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533520" y="3886200"/>
            <a:ext cx="3352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4572000" y="3886200"/>
            <a:ext cx="4572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457200" y="44197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1752480" y="48769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6705720" y="48769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533520" y="5334120"/>
            <a:ext cx="8076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609480" y="5790960"/>
            <a:ext cx="4267440" cy="759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47680" y="218484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巴望自己田里的禾苗长得快些，天天到田边去看。可是一天，两天，三天，禾苗好像一点儿也没有长高。他心中焦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急，在田边转来转去，自言自语地说：“我得想个办法帮它们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他终于想出了办法，就急忙跑到田里。他一直忙到太阳落山，把所有的禾苗都拔高了不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筋疲力尽地回到家里，一边喘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uǎ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气一边说：“今天可把我累坏了！力气总算没白费，禾苗都长高了一大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的儿子不明白是怎么回事，第二天跑到田里一看，禾苗都枯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2819520" y="304920"/>
            <a:ext cx="6095880" cy="1523880"/>
          </a:xfrm>
          <a:prstGeom prst="cloudCallout">
            <a:avLst>
              <a:gd name="adj1" fmla="val 54666"/>
              <a:gd name="adj2" fmla="val 484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农民累成了这样，可结果怎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6705720" y="617220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80880" y="6629400"/>
            <a:ext cx="4038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种田的人愿望很好，但是他错在哪里？（联系庄稼的生长过程展开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应该遵循事物自身的发展规律，如果违反自然规律，强加外力，强加速成，反而会把事情弄糟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则寓言故事告诉我们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急于求成，方法不对，反而坏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2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09Z</dcterms:modified>
  <cp:revision>17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