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BAEE-7AE2-4B77-AE38-3FECC7B5563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5192-D768-4F2D-A347-784BF64E4F9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664F-D8F2-4DB0-BFD0-373162BB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FB32-9852-43C5-B5C9-9C581572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F1D5-ECBB-4F1C-BA1A-28E7E68C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BE6F-6ED2-4858-9FEF-A1208A4F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87DD-1C56-462B-9B86-4CA76DDE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9635-39AB-4096-8C6B-D080CD79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ADB8-9E04-416E-A143-9434BDDA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3060-DDCF-46B9-97D5-F7984450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44DE-A9CE-4477-A89D-742F4570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E717-9F17-4F64-84CD-C76ADE5D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5DB5-38BA-4976-AFC3-DF631D31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AE5A-F011-492B-BB3A-F78A2C66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7F43-F6C7-42AB-9DEE-5EC61ADFB3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990720" y="9079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湘教版语文一年级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674720" y="2286000"/>
            <a:ext cx="579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比 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2122200" y="56196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D0C6-5676-4BE7-B999-CA29765FB00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6"/>
          <p:cNvSpPr/>
          <p:nvPr/>
        </p:nvSpPr>
        <p:spPr>
          <a:xfrm>
            <a:off x="990720" y="182880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让      它      舌       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990720" y="3505320"/>
            <a:ext cx="66294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奇      刺      齿       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838080" y="1295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2971800" y="12952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4648320" y="12952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h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6631560" y="129528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zh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1143000" y="28195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q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2971800" y="28195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4724280" y="27432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6781680" y="27432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380880" y="3808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  <a:ea typeface="仿宋_GB2312"/>
              </a:rPr>
              <a:t>你认识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4"/>
          <p:cNvSpPr/>
          <p:nvPr/>
        </p:nvSpPr>
        <p:spPr>
          <a:xfrm>
            <a:off x="990720" y="49528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害      全      肉       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8"/>
          <p:cNvSpPr/>
          <p:nvPr/>
        </p:nvSpPr>
        <p:spPr>
          <a:xfrm>
            <a:off x="992880" y="4343400"/>
            <a:ext cx="85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à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9"/>
          <p:cNvSpPr/>
          <p:nvPr/>
        </p:nvSpPr>
        <p:spPr>
          <a:xfrm>
            <a:off x="2593800" y="434340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qu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0"/>
          <p:cNvSpPr/>
          <p:nvPr/>
        </p:nvSpPr>
        <p:spPr>
          <a:xfrm>
            <a:off x="4727160" y="434340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ò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1"/>
          <p:cNvSpPr/>
          <p:nvPr/>
        </p:nvSpPr>
        <p:spPr>
          <a:xfrm>
            <a:off x="6527520" y="4343400"/>
            <a:ext cx="102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h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5"/>
          <p:cNvSpPr/>
          <p:nvPr/>
        </p:nvSpPr>
        <p:spPr>
          <a:xfrm>
            <a:off x="1066680" y="2193840"/>
            <a:ext cx="7239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你有参加过什么比赛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读了课题，你想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762120" y="784080"/>
            <a:ext cx="192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  <a:ea typeface="仿宋_GB2312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"/>
          <p:cNvSpPr/>
          <p:nvPr/>
        </p:nvSpPr>
        <p:spPr>
          <a:xfrm>
            <a:off x="1066680" y="4748040"/>
            <a:ext cx="59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5"/>
          <p:cNvSpPr/>
          <p:nvPr/>
        </p:nvSpPr>
        <p:spPr>
          <a:xfrm>
            <a:off x="1152720" y="68580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  <a:ea typeface="仿宋_GB2312"/>
              </a:rPr>
              <a:t>自学生字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219320" y="2209680"/>
            <a:ext cx="670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请各组大组长带领组长进行讨论，对本课生字进行学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包括字的读音，偏旁，结构，组词，以及你是怎样记住这样生字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1219320" y="137160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220760" y="76212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自学生字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447920" y="2209680"/>
            <a:ext cx="6553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比        兔        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咱        完        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762120" y="7621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写字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QQ截图20140325190751"/>
          <p:cNvPicPr/>
          <p:nvPr/>
        </p:nvPicPr>
        <p:blipFill>
          <a:blip r:embed="rId1"/>
          <a:stretch/>
        </p:blipFill>
        <p:spPr>
          <a:xfrm>
            <a:off x="1752480" y="1752480"/>
            <a:ext cx="1524240" cy="1752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QQ截图20140325190751"/>
          <p:cNvPicPr/>
          <p:nvPr/>
        </p:nvPicPr>
        <p:blipFill>
          <a:blip r:embed="rId2"/>
          <a:stretch/>
        </p:blipFill>
        <p:spPr>
          <a:xfrm>
            <a:off x="6019920" y="3886200"/>
            <a:ext cx="1523880" cy="1752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QQ截图20140325190751"/>
          <p:cNvPicPr/>
          <p:nvPr/>
        </p:nvPicPr>
        <p:blipFill>
          <a:blip r:embed="rId3"/>
          <a:stretch/>
        </p:blipFill>
        <p:spPr>
          <a:xfrm>
            <a:off x="3886200" y="3886200"/>
            <a:ext cx="1523880" cy="1752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QQ截图20140325190751"/>
          <p:cNvPicPr/>
          <p:nvPr/>
        </p:nvPicPr>
        <p:blipFill>
          <a:blip r:embed="rId4"/>
          <a:stretch/>
        </p:blipFill>
        <p:spPr>
          <a:xfrm>
            <a:off x="1752480" y="3886200"/>
            <a:ext cx="1524240" cy="1752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QQ截图20140325190751"/>
          <p:cNvPicPr/>
          <p:nvPr/>
        </p:nvPicPr>
        <p:blipFill>
          <a:blip r:embed="rId5"/>
          <a:stretch/>
        </p:blipFill>
        <p:spPr>
          <a:xfrm>
            <a:off x="3886200" y="1752480"/>
            <a:ext cx="1523880" cy="1752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QQ截图20140325190751"/>
          <p:cNvPicPr/>
          <p:nvPr/>
        </p:nvPicPr>
        <p:blipFill>
          <a:blip r:embed="rId6"/>
          <a:stretch/>
        </p:blipFill>
        <p:spPr>
          <a:xfrm>
            <a:off x="6019920" y="1752480"/>
            <a:ext cx="1523880" cy="17528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8"/>
          <p:cNvSpPr/>
          <p:nvPr/>
        </p:nvSpPr>
        <p:spPr>
          <a:xfrm>
            <a:off x="1828800" y="190512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</a:rPr>
              <a:t>比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3962520" y="1828800"/>
            <a:ext cx="1218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</a:rPr>
              <a:t>兔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6019920" y="175248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</a:rPr>
              <a:t>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1905120" y="3976560"/>
            <a:ext cx="106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</a:rPr>
              <a:t>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3962520" y="388620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</a:rPr>
              <a:t>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6095880" y="3886200"/>
            <a:ext cx="762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</a:rPr>
              <a:t>这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4"/>
          <p:cNvSpPr/>
          <p:nvPr/>
        </p:nvSpPr>
        <p:spPr>
          <a:xfrm>
            <a:off x="1676520" y="556272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仔细观察字在田字格中的位置，小组间交流写字的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5"/>
          <p:cNvSpPr/>
          <p:nvPr/>
        </p:nvSpPr>
        <p:spPr>
          <a:xfrm>
            <a:off x="1103760" y="69516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447920" y="2133720"/>
            <a:ext cx="60958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比”的笔顺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兔”的第二笔名称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”偏旁名称是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457200" y="68580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巩固提高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609480" y="21337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会辨字，并组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76320" y="327672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（     ）棵（     ）完（     ）这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比（     ）课（     ）玩（     ）过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942840" y="32767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以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143000" y="4191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942840" y="41148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对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3130560" y="32608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2924280" y="41148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上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498168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完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4905360" y="4114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好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6962760" y="3306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6962760" y="41148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过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6"/>
          <p:cNvSpPr/>
          <p:nvPr/>
        </p:nvSpPr>
        <p:spPr>
          <a:xfrm>
            <a:off x="457200" y="6858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拓展训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09480" y="2133720"/>
            <a:ext cx="81536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口（     ）（     ）（     ）（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木（     ）（     ）（     ）（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辶（     ）（     ）（     ）（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828800" y="213372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3848040" y="20829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5752800" y="2133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1828800" y="312408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3733920" y="312408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5638680" y="31240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7543800" y="31240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7629480" y="2133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1828800" y="411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1828800" y="41148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1"/>
          <p:cNvSpPr/>
          <p:nvPr/>
        </p:nvSpPr>
        <p:spPr>
          <a:xfrm>
            <a:off x="3733920" y="411480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2"/>
          <p:cNvSpPr/>
          <p:nvPr/>
        </p:nvSpPr>
        <p:spPr>
          <a:xfrm>
            <a:off x="5638680" y="4114800"/>
            <a:ext cx="30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3"/>
          <p:cNvSpPr/>
          <p:nvPr/>
        </p:nvSpPr>
        <p:spPr>
          <a:xfrm>
            <a:off x="7657920" y="41148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5:53:1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4:04Z</dcterms:modified>
  <cp:revision>3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