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227-9070-4C9A-89F7-0EAF6D55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78F-A2D5-460C-9958-EEE874D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D7E-24D3-4EF1-9980-8F6FC349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66C-FAF8-4766-9279-45E1D1E7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628-BB7A-40C3-9EE3-DA8C44DC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CC4-95A0-42DD-80E9-506C658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101-BCFB-4BC7-92D8-6334994E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F37-DDF0-4455-BE7F-2504BE4B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928-D22F-4078-98D6-087DC85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C4D-1896-4341-A4F4-A95EE03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7B9-B767-4A9A-B8CD-57A71DD1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F76-6DEB-4977-9EB7-85C410F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E7A-0485-4C22-BDAB-20BCFA94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843280" y="2276640"/>
            <a:ext cx="42498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微软雅黑"/>
              </a:rPr>
              <a:t>差 别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2223720" y="5157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隶书"/>
              </a:rPr>
              <a:t>理解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68360" y="2421000"/>
            <a:ext cx="5832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道德     德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许诺     一诺千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后同学们自由结成三人小组，分好角色，根据课文内容，再加入自己的想象，补充好人物对话，演一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差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2077920" y="5545080"/>
            <a:ext cx="70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700360" y="2133720"/>
            <a:ext cx="3889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见！</a:t>
            </a:r>
            <a:endParaRPr b="0" i="1" lang="en-US" sz="6000" spc="1" strike="noStrike">
              <a:ln w="9360">
                <a:solidFill>
                  <a:srgbClr val="00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31A0-5549-4B41-AB84-6BF904ED55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课文内容，懂得做事情应该多动脑筋、开拓思路，发挥自己的主动性和主人翁精神，提高解决问题的能力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习作者以小见大的表达方式，注意观察生活小事，通过生活细节表现人物性格或生活哲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476360" y="2421000"/>
            <a:ext cx="6168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是写谁和谁的差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们差别在什么地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47640" y="1341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初步感知课文内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332000" y="126828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脑筋：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187280" y="2708280"/>
            <a:ext cx="7139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差别会给他们双方带了哪些不同的效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是什么样的原因导致这样的结局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117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1988640"/>
            <a:ext cx="741528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大家想一想，阿诺德和布鲁诺的真正差别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971640" y="1484280"/>
            <a:ext cx="7561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把握人物特点，理解课文内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真研读课文，归纳总结阿诺德和布鲁诺之间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差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全班一起交流讨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阿诺德：墨守成规，做事情缺乏主见，没有远见卓识，不能预见事态的发展做出更好的处理决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布鲁诺：有思想，有主见，对上级的话不是言听计从，而是根据自己的观察和理解创造性地执行，做事周到缜密，具有远见卓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  <a:ea typeface="隶书"/>
              </a:rPr>
              <a:t>感悟深化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87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布鲁诺该怎样弥补这种差距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合现实，谈谈你觉得自己更接近谁？从中你又得到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启示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做事情就像下棋一样，每走一步棋都需要考虑到下面的好几步怎么走，想的越周全，看得越远，棋艺就越高。做事情的时候，不要只注意眼前的事物，应该多考虑一下以后的发展，学会动态地看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启示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人无远虑，必有近忧。做事情不能只顾眼前利益，要善于动脑筋思考，学会长远打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9:42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