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676E-A5B5-4627-AE53-A91C7C3928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B538-6D54-40F3-8477-F9AB0F3675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435-444A-4F5B-8C80-F9242B45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5E5-DBD6-4FF5-B734-76E9E2A1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C71-80F5-4A15-B616-C9C09CB3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2D7-1011-4A90-A3B3-AD4D3DBD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5C4-B283-4E7A-93B1-916767E5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E72-1CE8-4306-A4EF-0465A008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154-CFB0-4592-AA77-ABC26277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3CD-2335-4EE4-8A26-841F089E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6FD-4A20-45C7-B790-E1A9DB22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F90-26EC-4999-8193-64AD0D90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CDF-0C50-49D8-A162-AC2A0990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F16-204F-41D9-B861-0513A68C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0686-4799-4EA5-8BC9-620073EBB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2"/>
          <a:stretch/>
        </p:blipFill>
        <p:spPr>
          <a:xfrm>
            <a:off x="1476360" y="2276640"/>
            <a:ext cx="6048360" cy="3740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</a:t>
            </a:r>
            <a:r>
              <a:rPr b="1" lang="zh-CN" sz="7200" spc="-1" strike="noStrike">
                <a:solidFill>
                  <a:srgbClr val="ff0066"/>
                </a:solidFill>
                <a:latin typeface="华文新魏"/>
                <a:ea typeface="华文新魏"/>
              </a:rPr>
              <a:t>城楼上的大炮</a:t>
            </a:r>
            <a:r>
              <a:rPr b="1" lang="en-US" sz="7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753920" y="60278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E98E-8BD3-4EBE-8F4B-675FC6A70E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2637000"/>
            <a:ext cx="8229600" cy="34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会写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个生字，正确读写“城堡、风调雨顺”等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有感情地朗读课文，抄写自己喜欢的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3.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抓住关键句子，领会课文的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4.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充分阅读，置身课文所描写的情景中，去感受，去领悟主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5.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抓关键词句，探究感悟，理解文章的写作方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6.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通过本课的学习，感悟和平时代的幸福，树立反对战争，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爱和平的观念，呼唤、珍惜和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280" y="2276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重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领会课文的主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抓住关键语句，理解文章的表达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难点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领会课文的主题及表现主题的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3132000" y="3284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讲述故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30682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交流明确：要发动战争吗？要向老百姓开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6"/>
          <p:cNvSpPr/>
          <p:nvPr/>
        </p:nvSpPr>
        <p:spPr>
          <a:xfrm>
            <a:off x="4067280" y="2781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听完故事，你有什么感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讲述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008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卡卡王国的孩子新年快乐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从哪些话中可以听出来他们很快乐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Arial"/>
              </a:rPr>
              <a:t>精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000" y="2420640"/>
            <a:ext cx="7700760" cy="36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自读课文，在书上作标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大炮以前是用来干什么的？有怎样的威力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卡卡国王将大炮掉头面向广场时，人们有什么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情？想些什么？人们是怎样的心情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国王用大炮做什么？当时的情况是怎样的？你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哪些地方感受到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阅读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为什么要写老师带学生参观城堡上的大炮？与国王用大炮狂欢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为什么不把国王的意图直接写出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布置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3141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有感情地朗读课文，抄写自己喜欢的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1368360" y="5807160"/>
            <a:ext cx="57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06:16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4:40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