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A31-59DF-4ACE-AA1E-68DB37A79F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EE3-E052-4C6F-A0EF-5B7E251F76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8EC-B812-4B83-AA6C-0634A4DC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FE3-9EC4-4A9F-9552-C28217B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6D0-D401-4B13-AEC2-2BDEDAFC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E55-F05D-41C4-9F2C-913EA93F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75C-D4CB-4CCD-9E04-341360E3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264-DEE9-4C06-9839-4EC28822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B15-2CBD-4A17-8B21-C34C821A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984-EDC1-4CE0-A665-FAAFA660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639-4786-4581-9EAC-6F8BC12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099-8573-4022-8B14-6233561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B8E-49EF-4891-B32F-C6A02AA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E2A-39EF-4F88-96A0-3670A1B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265B-F2AC-4303-ABFC-A48435AE3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船长"/>
          <p:cNvPicPr/>
          <p:nvPr/>
        </p:nvPicPr>
        <p:blipFill>
          <a:blip r:embed="rId1"/>
          <a:srcRect l="0" t="0" r="0" b="9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3038400" y="5865840"/>
            <a:ext cx="5672160" cy="4986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" descr=""/>
          <p:cNvPicPr/>
          <p:nvPr/>
        </p:nvPicPr>
        <p:blipFill>
          <a:blip r:embed="rId3"/>
          <a:stretch/>
        </p:blipFill>
        <p:spPr>
          <a:xfrm>
            <a:off x="2970360" y="2854440"/>
            <a:ext cx="5695920" cy="136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学习课文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威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哈特雷船长是怎样使一艘在风暴中遇险的大客轮安全登陆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”乘船去欧洲的途中，船遇到了什么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，水手和船长有什么不同的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帆船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封底"/>
          <p:cNvPicPr/>
          <p:nvPr/>
        </p:nvPicPr>
        <p:blipFill>
          <a:blip r:embed="rId1"/>
          <a:stretch/>
        </p:blipFill>
        <p:spPr>
          <a:xfrm>
            <a:off x="1752480" y="868320"/>
            <a:ext cx="5791320" cy="50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313000" y="40384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船长镇定地命令水手们回到自己的岗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些强壮的水手，不由得在船长坚定的信念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折服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60080" y="19051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手们虽然都是一流的的海员，但这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们都绝望地离开了岗位，决定听天由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58640" y="1828800"/>
            <a:ext cx="85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希望，先生，只要还有一英寸甲板露在水面，就有希望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3962520"/>
            <a:ext cx="810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旅客们，大家都去排水，我要带领你们安全登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船长小时候买书和在航海过程救难这两件事有什么内在联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200" y="251460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次谈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觉得船长是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853920" y="5511960"/>
            <a:ext cx="50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1523520"/>
            <a:ext cx="6705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，比一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望       失望        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家伙的脸上布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阴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手们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离开了岗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还有一英寸甲板露在水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105520" y="297180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84320" y="6089760"/>
            <a:ext cx="1582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74544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绝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26968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失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26480" y="449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4F06-B869-4502-9D5B-AAF39FB1E2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帆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初读课文  整体感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注意读准课文中生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课文中表示时间推移的句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课文分成两部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课文主要写了哪两件事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下面就请同学们带着这两点要求默读课文，思考问题，探讨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8280" y="2438280"/>
            <a:ext cx="8231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的要求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出声，不动唇，不指读，边读边圈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66960" y="251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流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14520" y="243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威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86320" y="243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罕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402960" y="18288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é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143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糟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6716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镇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091040" y="48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振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81796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舟共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782496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遗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862440" y="243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脸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145160" y="190512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593440" y="1905120"/>
            <a:ext cx="10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92920" y="18288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955400" y="18288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ǎ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757920" y="243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桅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9000" y="41911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ā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590920" y="45226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438280" y="434340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135520" y="41148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583440" y="419112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6860520" y="41148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7698240" y="41148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0"/>
          <p:cNvSpPr/>
          <p:nvPr/>
        </p:nvSpPr>
        <p:spPr>
          <a:xfrm>
            <a:off x="160020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4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11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80880" y="1523880"/>
            <a:ext cx="1447920" cy="22860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800600" y="5638680"/>
            <a:ext cx="1828800" cy="22860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914400"/>
            <a:ext cx="9144000" cy="5205240"/>
            <a:chOff x="0" y="914400"/>
            <a:chExt cx="9144000" cy="5205240"/>
          </a:xfrm>
        </p:grpSpPr>
        <p:pic>
          <p:nvPicPr>
            <p:cNvPr id="86" name="Picture 3" descr="116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5409000" cy="51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117"/>
            <p:cNvPicPr/>
            <p:nvPr/>
          </p:nvPicPr>
          <p:blipFill>
            <a:blip r:embed="rId2"/>
            <a:stretch/>
          </p:blipFill>
          <p:spPr>
            <a:xfrm>
              <a:off x="5183640" y="914400"/>
              <a:ext cx="3960360" cy="5205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再读课文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课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哈特雷船长小时侯是怎样买到书的？当了船长后，他又是怎样使一艘在风暴中遇险的大客船安全登陆的？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学习课文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威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哈特雷船长小时候是怎样买到书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分角色朗读课文第一部分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——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个老板说：“小家伙，你这种坚忍不拔的精神会使你成功的”。从哪儿可以看出小男孩坚忍不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38160" y="5572080"/>
            <a:ext cx="616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2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41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