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C4CB-4242-49DD-8F0D-335A77931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67D-F8D7-4AC2-84AB-B408FEB33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仿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BAC3-C37C-4D37-B3BE-08D6C5532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657-4CCF-45D9-8A68-44F22AF0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470-CB93-4067-808B-2159A168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E86-3343-4E24-AC58-D018C7B0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03C-5726-4C76-949C-6AF40C0E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38C-AF0A-438C-AD65-68AE66D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9A2-45EB-4FA8-8995-2593EE74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123-627C-40E0-B3AD-EB4F2C3A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37F-D9C4-479E-B700-7FCA4D22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AC6-5B07-4528-AEEE-C2099ED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EAC-BB7C-4AB6-BCDF-67DB7223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8E2-7464-4014-A1C5-D3C502D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367-825E-4EB4-AEE0-A1EF928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124-AA62-4945-BA5C-6953582928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2303640" y="1413000"/>
            <a:ext cx="42480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微软雅黑"/>
              </a:rPr>
              <a:t>匆 匆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3900600" y="3733920"/>
            <a:ext cx="1152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00"/>
                </a:solidFill>
                <a:latin typeface="黑体"/>
              </a:rPr>
              <a:t>朱自清</a:t>
            </a:r>
            <a:endParaRPr b="0" lang="en-US" sz="1800" spc="-1" strike="noStrike">
              <a:ln w="0">
                <a:noFill/>
              </a:ln>
              <a:solidFill>
                <a:srgbClr val="ff3300"/>
              </a:solidFill>
              <a:latin typeface="黑体"/>
              <a:ea typeface="黑体"/>
            </a:endParaRPr>
          </a:p>
        </p:txBody>
      </p:sp>
      <p:pic>
        <p:nvPicPr>
          <p:cNvPr id="48" name="矩形 5" descr=""/>
          <p:cNvPicPr/>
          <p:nvPr/>
        </p:nvPicPr>
        <p:blipFill>
          <a:blip r:embed="rId1"/>
          <a:stretch/>
        </p:blipFill>
        <p:spPr>
          <a:xfrm>
            <a:off x="1936800" y="5732640"/>
            <a:ext cx="549900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79280" y="11253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燕子去了，有再来的时候；杨柳枯了，有再青的时候；桃花谢了，有再开的时候。</a:t>
            </a: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但是，聪明的，你告诉我，我们的日子为什么一去不复返呢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人偷了他们罢：那是谁？又藏在何处呢？是他们自己逃走了罢：现在又到了哪里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读一读，写一写：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40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燕子去了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有再来的时候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杨柳枯了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有再青的时候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桃花谢了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有再开的时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----------------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了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,--------------- 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的时候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12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彩云简体"/>
              </a:rPr>
              <a:t>          </a:t>
            </a:r>
            <a:r>
              <a:rPr b="1" i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不知道他们给了我多少日子；但我的手确乎是渐渐空虚了。</a:t>
            </a:r>
            <a:r>
              <a:rPr b="1" i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默默里算着，八千多日子已经从我手中溜去；像针尖上一滴水滴在大海里，我的日子滴在时间的流里，没有声音，也没有影子。</a:t>
            </a:r>
            <a:r>
              <a:rPr b="1" i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不禁头涔涔而泪潸潸了</a:t>
            </a:r>
            <a:r>
              <a:rPr b="1" i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83664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6699"/>
                </a:solidFill>
                <a:latin typeface="楷体_GB2312"/>
                <a:ea typeface="楷体_GB2312"/>
              </a:rPr>
              <a:t>去的尽管去了，来的尽管来着；去来的中间，又怎样地匆匆呢？早上我起来的时候，小屋里射进两三方斜斜的太阳。太阳他有脚啊，轻轻悄悄地挪移了；我也茫茫然跟着旋转。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于是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洗手的时候，日子从水盆里过去；吃饭的时候，日子从饭碗里过去；默默时，便从凝然的双眼前过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148392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于是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Verdana"/>
              </a:rPr>
              <a:t>洗手的时候，日子从水盆里过去；吃饭的时候，日子从饭碗里过去；默默时，便从凝然的双眼前过去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407664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）的时候，日子从（                    ）过去；（        ）的时候，日子从（                     ）过去；（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从（        ）过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9810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觉察他去的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匆匆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，伸出手遮挽时，他又从遮挽着的手边过去，天黑时，我躺在床上，他便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伶伶俐俐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地从我身上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跨过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从我脚边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飞去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。等我睁开眼和太阳再见，这算又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溜走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一日。我掩着面叹息。但是新来的日子的影儿又开始在叹息里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闪过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在逃去如飞的日子里，在千门万户的世界里的我能做些什么呢？只有徘徊罢了，只有匆匆罢了；在八千多日的匆匆里，除徘徊外，又剩些什么呢？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过去的日子如轻烟，被微风吹散了，如薄雾，被初阳蒸融了；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我留着些什么痕迹呢？我何曾留着像游丝样的痕迹呢？我赤裸裸来到这世界，转眼间也将赤裸裸的回去罢？但不能平的，为什么偏要白白走这一遭啊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55640" y="198900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学了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匆匆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，你最想说什么？（可以是自己的感想，也可以是我们生活中关于时间的名言警句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小学语文（散文）02-3"/>
          <p:cNvPicPr/>
          <p:nvPr/>
        </p:nvPicPr>
        <p:blipFill>
          <a:blip r:embed="rId1"/>
          <a:stretch/>
        </p:blipFill>
        <p:spPr>
          <a:xfrm>
            <a:off x="755640" y="620640"/>
            <a:ext cx="3024360" cy="806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卡通画10"/>
          <p:cNvPicPr/>
          <p:nvPr/>
        </p:nvPicPr>
        <p:blipFill>
          <a:blip r:embed="rId2"/>
          <a:stretch/>
        </p:blipFill>
        <p:spPr>
          <a:xfrm>
            <a:off x="7380360" y="260280"/>
            <a:ext cx="1584360" cy="1414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少壮不努力，老大徒伤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寸光阴一寸金，寸金难买寸光阴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世界上我们只活一次，所以应该爱惜光阴。必须过真实的生活，过有价值的生活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巴甫洛夫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万年太久，只争朝夕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毛泽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完成工作的方法是爱惜每一分钟。 －－达尔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盛年不重来，一日难再晨。及时宜自勉，岁月不待人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陶渊明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</a:rPr>
              <a:t>今日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今日复今日，今日何其少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今日又不为，此事何时了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人生百年几今日，今日不为真可惜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若言姑待明朝至，明朝又有明朝事。    为君聊赋今日诗，努力请从今日始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作者简介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62828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00"/>
                </a:solidFill>
                <a:latin typeface="Verdana"/>
              </a:rPr>
              <a:t>           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朱自清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(1898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11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22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1948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8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．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12)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原名自华，号秋实，后改名自清，字佩弦，现代著名的散文家、诗人、学者。原籍浙江绍兴，生于江苏东海，作品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浆声灯影里的秦淮河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》 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、 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背影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《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荷塘月色</a:t>
            </a:r>
            <a:r>
              <a:rPr b="1" lang="en-US" sz="3600" spc="-1" strike="noStrike">
                <a:solidFill>
                  <a:srgbClr val="333300"/>
                </a:solidFill>
                <a:latin typeface="Verdana"/>
              </a:rPr>
              <a:t>》</a:t>
            </a:r>
            <a:r>
              <a:rPr b="1" lang="zh-CN" sz="3600" spc="-1" strike="noStrike">
                <a:solidFill>
                  <a:srgbClr val="333300"/>
                </a:solidFill>
                <a:latin typeface="Verdana"/>
              </a:rPr>
              <a:t>都是烩炙人口的名篇。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昨日歌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昨日会昨日，昨日何其好！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昨日过去了，今日徒懊恼。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世人但知悔昨日，不觉今日又过了。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水去日日流，花落日日少，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Verdana"/>
              </a:rPr>
              <a:t>成事立业在今日，莫待明朝悔今朝。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914400" y="587376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2205000"/>
            <a:ext cx="842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请大家学着朱自清先生的写法，也抓住自己身边的小事，赋予时间生命，让我们感受到时间是怎样从你身边流逝的。看谁写得最有朱先生的风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4360" y="40464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仿   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1042920" y="765000"/>
            <a:ext cx="3672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课后作业</a:t>
            </a:r>
            <a:endParaRPr b="0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71640" y="155736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办一期关于珍惜时间的手抄报。（内容主要有：珍惜时间的现代诗歌、古代诗词、名言警句、故事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阅读朱自清的散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河塘月色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B75-4411-47A7-A69C-C8CD48E42A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创作背景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这篇散文写于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922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，当时作者已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五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运动时，朱自清为光明和新时代的到来而欢呼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五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高潮过后，由于旧的东西没有摧跨，新的社会蓝图又不清晰，朱自清很想为国家作出贡献，但是他找不到方向，没有目标，于是陷入了思想苦闷中，徘徊于人生的十字路口。在犹豫、徘徊中，眼看宝贵的时光从身边白白地流逝，于是作者写下了这篇感人的散文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71640" y="1628640"/>
            <a:ext cx="698508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涔涔             潸潸               赤裸裸         徘徊             遮挽             蒸融                            伶伶俐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Times New Roman"/>
                <a:ea typeface="隶书"/>
              </a:rPr>
              <a:t>挪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én  c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227640" y="177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shān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59280" y="2492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uǒ l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227640" y="25653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ái  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700360" y="3429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 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156360" y="35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zhēng  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924360" y="429264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líng líng  lì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62728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nuó   y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11280" y="4762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生字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0"/>
          <p:cNvSpPr/>
          <p:nvPr/>
        </p:nvSpPr>
        <p:spPr>
          <a:xfrm>
            <a:off x="2843280" y="28274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内容概括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这篇文章是现代著名作家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 ）写的一片脍炙人口的散文。文章紧扣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    ）二字，细腻的刻画了</a:t>
            </a:r>
            <a:r>
              <a:rPr b="0" lang="zh-CN" sz="3600" spc="-1" strike="noStrike">
                <a:solidFill>
                  <a:srgbClr val="ff3300"/>
                </a:solidFill>
                <a:latin typeface="Verdana"/>
              </a:rPr>
              <a:t>时间流逝的踪迹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，表达了作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                               ）的感情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04000" y="2060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258920" y="3068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匆 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87708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5892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对时光流逝的无奈和惋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Verdana"/>
              </a:rPr>
              <a:t>      </a:t>
            </a:r>
            <a:r>
              <a:rPr b="1" lang="zh-CN" sz="3000" spc="-1" strike="noStrike">
                <a:solidFill>
                  <a:srgbClr val="0066ff"/>
                </a:solidFill>
                <a:latin typeface="Verdana"/>
              </a:rPr>
              <a:t>但是，聪明的，你告诉我，我们的日子为什么一去不复返呢？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 （开头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</a:rPr>
              <a:t>你聪明的，告诉我，我们的日子为什么一去不复返呢？（结尾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11280" y="49417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首尾呼应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9528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意识到了时间匆匆吗？他的表现又如何？找出文中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05120" y="19810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438280" y="213372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不禁头涔涔而泪潸潸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掩着面叹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58080" y="1981080"/>
            <a:ext cx="1399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为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71600" y="4191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时间流逝而一事无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611280" y="1989000"/>
            <a:ext cx="799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的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我，作者是怎样具体描述日子去来的匆匆的？找出相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4360" y="40464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自学指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468360" y="1989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找出自己喜欢的句子，说说为什么喜欢。联系生活实际，和同学说说自己的理解和感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5:49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24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