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3BEB-6FC3-4C8F-8066-7A5C92322E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F98-B690-4B46-B4FD-79CDAE98EC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E8E-9A9A-4928-8CF1-D9465A90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6EC-983F-4EFD-9CBA-942481D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228-DCF7-49A5-B0D5-B0CC2614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37C-6C59-44BF-BFD6-7F47A7F5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7FB-C785-4BDE-B757-DC6DA143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989-7B37-4FCD-889A-02F1E7EF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9B0-CC2F-44FC-A781-593FF4C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EF1-A5CC-4979-AF6C-66C0933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972-806E-4EAB-A0DA-CF7B998D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2DB-EA01-4BB2-A270-E709AB03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7C7-DD34-48FE-8D22-57B1D5A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042-6CA6-4C23-9BDB-DB0DD9F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0CB-9868-4EAB-BF61-000B54A9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42920" y="10652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22600" y="2189160"/>
            <a:ext cx="3744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春天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068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像本微笑的书”？说它动听，是因为在春天中有“隆隆”的春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滴”的春雨，“唧唧唧”的燕子，“呱呱呱”的青蛙。说它微笑是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一到，花儿张开了笑脸，孩子们可以在这迷人的季节中心情地唱、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细读感悟"/>
          <p:cNvPicPr/>
          <p:nvPr/>
        </p:nvPicPr>
        <p:blipFill>
          <a:blip r:embed="rId1"/>
          <a:stretch/>
        </p:blipFill>
        <p:spPr>
          <a:xfrm>
            <a:off x="2195640" y="620640"/>
            <a:ext cx="3346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1258920" y="2349360"/>
            <a:ext cx="655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你们觉得春天除了像这样的书之外，还像什么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84360" y="2060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学们，你们觉得春天怎么样？你喜欢这样的春天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258920" y="2276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，你想用什么样的方式来赞美春天？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900000" y="2492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手画一画春天的柳树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拓展学习"/>
          <p:cNvPicPr/>
          <p:nvPr/>
        </p:nvPicPr>
        <p:blipFill>
          <a:blip r:embed="rId1"/>
          <a:stretch/>
        </p:blipFill>
        <p:spPr>
          <a:xfrm>
            <a:off x="1042920" y="981000"/>
            <a:ext cx="23050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47F5-B2FC-4C3F-A899-4D2E97C449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0000" y="206064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生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够正确、流利地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课文内容，感受春天的美丽，产生对大自然的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39680" y="11826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17560" y="5059440"/>
            <a:ext cx="59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1700280"/>
            <a:ext cx="8172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生字词和练习朗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观察和朗读感受春天和美丽，激发同学们对大自然的热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476360" y="2421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              青         春          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692360" y="198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h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203640" y="198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q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0" y="198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01200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619280" y="3500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03640" y="3500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16360" y="3500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12000" y="3500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692360" y="4365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3276720" y="4365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88000" y="4365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158160" y="43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967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（     ）    色（      ）   红（     ）  桃（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（     ）    青（     ）    池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16000" y="213372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家说说你看到了什么？你想说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907920"/>
            <a:ext cx="165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像本彩色的书，为什么这样说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细读感悟"/>
          <p:cNvPicPr/>
          <p:nvPr/>
        </p:nvPicPr>
        <p:blipFill>
          <a:blip r:embed="rId1"/>
          <a:stretch/>
        </p:blipFill>
        <p:spPr>
          <a:xfrm>
            <a:off x="1763640" y="69228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春天一到，各种树叶绿了，花儿也开了，有黄的迎春花，有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，绿的柳叶，白的梨花等。它们都为春天增添了美丽的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4360" y="19162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说“春天像本动听的书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30:5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29:12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