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7.png" ContentType="image/png"/>
  <Override PartName="/ppt/media/image27.jpeg" ContentType="image/jpeg"/>
  <Override PartName="/ppt/media/image11.gif" ContentType="image/gif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3.png" ContentType="image/png"/>
  <Override PartName="/ppt/media/image29.jpeg" ContentType="image/jpeg"/>
  <Override PartName="/ppt/media/image8.jpeg" ContentType="image/jpeg"/>
  <Override PartName="/ppt/media/image14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9.gif" ContentType="image/gif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F3AA-777D-4B1F-B7A8-8C016092B8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A248-1ED6-40EC-9E10-9BCC5B6961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A6C1-A899-4761-A986-A943626A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0853-84D8-4462-A087-5BF02359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A72-5850-403E-AAC8-9EF4A765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91C-117A-4E25-88F3-D801DEDA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41F-A8ED-45E5-BC47-87730106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10B-1F37-4FA1-B1D9-1A407BB8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C44-F19F-40C0-AD9B-175FCB62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24E-737C-4664-BA6F-0C9DEE3D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5120-81FA-45D9-BAA0-B939010D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AA0-B2C8-4467-A488-83B71C5F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3A0-57AC-484F-8892-FE2F4BEB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124-5B33-4523-86EC-203EFCF3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ABB6-64AF-4E90-810C-10A10B373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245;%B9%E5&amp;in=1017&amp;cl=2&amp;lm=-1&amp;pn=5&amp;rn=1&amp;di=57039527253&amp;ln=2001&amp;fr=&amp;fmq=&amp;ic=0&amp;s=0&amp;se=1&amp;sme=1&amp;tab=&amp;width=&amp;height=&amp;face=0&amp;is=&amp;istype=2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.baidu.com/i?ct=503316480&amp;z=0&amp;tn=baiduimagedetail&amp;word=&#245;%B9%E5&amp;in=19114&amp;cl=2&amp;lm=-1&amp;pn=8&amp;rn=1&amp;di=9205373448&amp;ln=2001&amp;fr=&amp;fmq=&amp;ic=0&amp;s=0&amp;se=1&amp;sme=1&amp;tab=&amp;width=&amp;height=&amp;face=0&amp;is=&amp;istype=2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image.baidu.com/i?ct=503316480&amp;z=0&amp;tn=baiduimagedetail&amp;word=&#245;%B9%E5&amp;in=3421&amp;cl=2&amp;lm=-1&amp;pn=9&amp;rn=1&amp;di=4419924081&amp;ln=2001&amp;fr=&amp;fmq=&amp;ic=0&amp;s=0&amp;se=1&amp;sme=1&amp;tab=&amp;width=&amp;height=&amp;face=0&amp;is=&amp;istype=2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image.baidu.com/i?ct=503316480&amp;z=0&amp;tn=baiduimagedetail&amp;word=%BA%DA&#245;%B9%E5&amp;in=9353&amp;cl=2&amp;lm=-1&amp;pn=11&amp;rn=1&amp;di=41857257738&amp;ln=2000&amp;fr=&amp;fmq=&amp;ic=&amp;s=&amp;se=&amp;sme=0&amp;tab=&amp;width=&amp;height=&amp;face=&amp;is=&amp;istype=2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uanyushasha.mp3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chunyu.mp3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kwct36"/>
          <p:cNvPicPr/>
          <p:nvPr/>
        </p:nvPicPr>
        <p:blipFill>
          <a:blip r:embed="rId3"/>
          <a:srcRect l="0" t="0" r="0" b="1980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050920" y="765000"/>
            <a:ext cx="5400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1979640" y="692280"/>
            <a:ext cx="5688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noFill/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春雨的色彩</a:t>
            </a:r>
            <a:endParaRPr b="0" lang="en-US" sz="1800" spc="-1" strike="noStrike">
              <a:ln w="0">
                <a:noFill/>
              </a:ln>
              <a:noFill/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1366920" y="1486080"/>
            <a:ext cx="676908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新魏"/>
              </a:rPr>
              <a:t>春雨的色彩</a:t>
            </a:r>
            <a:endParaRPr b="1" lang="en-US" sz="4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1639080" y="563868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77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jiayan"/>
          <p:cNvPicPr/>
          <p:nvPr/>
        </p:nvPicPr>
        <p:blipFill>
          <a:blip r:embed="rId2"/>
          <a:stretch/>
        </p:blipFill>
        <p:spPr>
          <a:xfrm>
            <a:off x="4419720" y="2438280"/>
            <a:ext cx="1752480" cy="1712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maque"/>
          <p:cNvPicPr/>
          <p:nvPr/>
        </p:nvPicPr>
        <p:blipFill>
          <a:blip r:embed="rId3"/>
          <a:stretch/>
        </p:blipFill>
        <p:spPr>
          <a:xfrm>
            <a:off x="2895480" y="4876920"/>
            <a:ext cx="2057400" cy="1639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huangying"/>
          <p:cNvPicPr/>
          <p:nvPr/>
        </p:nvPicPr>
        <p:blipFill>
          <a:blip r:embed="rId4"/>
          <a:stretch/>
        </p:blipFill>
        <p:spPr>
          <a:xfrm>
            <a:off x="609588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04920" y="304920"/>
            <a:ext cx="8001000" cy="182880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春雨，像春姑娘纺出的线，轻轻地落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上，沙沙沙，沙沙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228600" y="2743200"/>
            <a:ext cx="3505320" cy="1523880"/>
          </a:xfrm>
          <a:prstGeom prst="cloudCallout">
            <a:avLst>
              <a:gd name="adj1" fmla="val 92120"/>
              <a:gd name="adj2" fmla="val 6020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雨到底是什么颜色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4952880" y="4191120"/>
            <a:ext cx="1219320" cy="838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争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8ea8bf57d60a438bd3109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宋体"/>
              </a:rPr>
              <a:t>认真读课文，思考：小鸟们认为春雨是什么颜色的？用“</a:t>
            </a:r>
            <a:r>
              <a:rPr b="0" lang="en-US" sz="4000" spc="-1" strike="noStrike">
                <a:solidFill>
                  <a:srgbClr val="ff00ff"/>
                </a:solidFill>
                <a:latin typeface="宋体"/>
              </a:rPr>
              <a:t>——”</a:t>
            </a:r>
            <a:r>
              <a:rPr b="0" lang="zh-CN" sz="4000" spc="-1" strike="noStrike">
                <a:solidFill>
                  <a:srgbClr val="ff00ff"/>
                </a:solidFill>
                <a:latin typeface="宋体"/>
              </a:rPr>
              <a:t>划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0" y="0"/>
            <a:ext cx="3276720" cy="134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深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netease_demo_mf_1024x768_or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争论：春雨到底是什么颜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0" y="1219320"/>
            <a:ext cx="8686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燕子说：春雨是（        ）的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麻雀说：春雨是（         ）的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黄莺说：春雨是（       ）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334120" y="12952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029200" y="114300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Arial"/>
              </a:rPr>
              <a:t>绿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4495680" y="2133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红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4952880" y="31240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黄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0" y="44956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他们的理由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2" descr="http_imgload[4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1"/>
          <p:cNvSpPr/>
          <p:nvPr/>
        </p:nvSpPr>
        <p:spPr>
          <a:xfrm>
            <a:off x="2484360" y="333360"/>
            <a:ext cx="6659640" cy="2519280"/>
          </a:xfrm>
          <a:prstGeom prst="cloudCallout">
            <a:avLst>
              <a:gd name="adj1" fmla="val -58273"/>
              <a:gd name="adj2" fmla="val 82263"/>
            </a:avLst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春雨到底是什么颜色的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_imgload[4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2484360" y="333360"/>
            <a:ext cx="6659640" cy="2519280"/>
          </a:xfrm>
          <a:prstGeom prst="cloudCallout">
            <a:avLst>
              <a:gd name="adj1" fmla="val -58273"/>
              <a:gd name="adj2" fmla="val 82263"/>
            </a:avLst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燕子说春雨是绿色的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_imgload[4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476360" y="333360"/>
            <a:ext cx="7667640" cy="3743280"/>
          </a:xfrm>
          <a:prstGeom prst="cloudCallout">
            <a:avLst>
              <a:gd name="adj1" fmla="val -59546"/>
              <a:gd name="adj2" fmla="val 52078"/>
            </a:avLst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燕子说：“春雨是绿色的。春雨落到草地上，草就绿了。春雨淋在柳树上，柳枝也绿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草地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柳树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_imgload[4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476360" y="333360"/>
            <a:ext cx="7667640" cy="3743280"/>
          </a:xfrm>
          <a:prstGeom prst="cloudCallout">
            <a:avLst>
              <a:gd name="adj1" fmla="val -59546"/>
              <a:gd name="adj2" fmla="val 52078"/>
            </a:avLst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燕子说：“春雨是绿色的。春雨落到草地上，草就绿了。春雨淋在柳树上，柳枝也绿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_imgload[4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2411280" y="333360"/>
            <a:ext cx="6732720" cy="2519280"/>
          </a:xfrm>
          <a:prstGeom prst="cloudCallout">
            <a:avLst>
              <a:gd name="adj1" fmla="val -57097"/>
              <a:gd name="adj2" fmla="val 82263"/>
            </a:avLst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麻雀说春雨是红色的。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_imgload[4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1476360" y="333360"/>
            <a:ext cx="7667640" cy="3743280"/>
          </a:xfrm>
          <a:prstGeom prst="cloudCallout">
            <a:avLst>
              <a:gd name="adj1" fmla="val -59546"/>
              <a:gd name="adj2" fmla="val 52078"/>
            </a:avLst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麻雀说：“不对，春雨是红色的。春雨洒在桃树上，桃花红了。春雨滴在杜鹃丛中，杜鹃花也红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23000" y="212724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你还记得描写春天的词语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杜鹃花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_imgload[4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476360" y="333360"/>
            <a:ext cx="7667640" cy="3743280"/>
          </a:xfrm>
          <a:prstGeom prst="cloudCallout">
            <a:avLst>
              <a:gd name="adj1" fmla="val -59546"/>
              <a:gd name="adj2" fmla="val 52078"/>
            </a:avLst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麻雀说：“不对，春雨是红色的，春雨洒在桃树上，桃花红了。春雨滴在杜鹃丛中，杜鹃花也红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_imgload[4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2484360" y="333360"/>
            <a:ext cx="6659640" cy="2519280"/>
          </a:xfrm>
          <a:prstGeom prst="cloudCallout">
            <a:avLst>
              <a:gd name="adj1" fmla="val -58273"/>
              <a:gd name="adj2" fmla="val 82263"/>
            </a:avLst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黄莺说春雨是黄色的。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_imgload[4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539640" y="333360"/>
            <a:ext cx="8604360" cy="3743280"/>
          </a:xfrm>
          <a:prstGeom prst="cloudCallout">
            <a:avLst>
              <a:gd name="adj1" fmla="val -47620"/>
              <a:gd name="adj2" fmla="val 52078"/>
            </a:avLst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黄莺说：“不对，不对，春雨是黄色的。你们看，春雨落在油菜地里，油菜花黄了。春雨落在蒲公英上，蒲公英花也黄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油菜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_imgload[4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539640" y="333360"/>
            <a:ext cx="8604360" cy="3743280"/>
          </a:xfrm>
          <a:prstGeom prst="cloudCallout">
            <a:avLst>
              <a:gd name="adj1" fmla="val -47620"/>
              <a:gd name="adj2" fmla="val 52078"/>
            </a:avLst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黄莺说：“不对，不对，春雨是黄色的。你们看，春雨落在油菜地里，油菜花黄了。春雨落在蒲公英上，蒲公英花也黄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18ea8bf57d60a438bd3109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宋体"/>
              </a:rPr>
              <a:t>     </a:t>
            </a:r>
            <a:r>
              <a:rPr b="0" lang="zh-CN" sz="4000" spc="-1" strike="noStrike">
                <a:solidFill>
                  <a:srgbClr val="ff00ff"/>
                </a:solidFill>
                <a:latin typeface="宋体"/>
              </a:rPr>
              <a:t>其它小动物认为春雨是什么颜色的</a:t>
            </a:r>
            <a:r>
              <a:rPr b="0" lang="en-US" sz="4000" spc="-1" strike="noStrike">
                <a:solidFill>
                  <a:srgbClr val="ff00ff"/>
                </a:solidFill>
                <a:latin typeface="宋体"/>
              </a:rPr>
              <a:t>?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                      </a:t>
            </a:r>
            <a:r>
              <a:rPr b="0" lang="en-US" sz="96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0" y="0"/>
            <a:ext cx="3276720" cy="134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思考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zizumei1"/>
          <p:cNvPicPr/>
          <p:nvPr/>
        </p:nvPicPr>
        <p:blipFill>
          <a:blip r:embed="rId1"/>
          <a:stretch/>
        </p:blipFill>
        <p:spPr>
          <a:xfrm>
            <a:off x="131760" y="210960"/>
            <a:ext cx="8880480" cy="6436080"/>
          </a:xfrm>
          <a:prstGeom prst="rect">
            <a:avLst/>
          </a:prstGeom>
          <a:ln w="0">
            <a:noFill/>
          </a:ln>
        </p:spPr>
      </p:pic>
      <p:sp>
        <p:nvSpPr>
          <p:cNvPr id="170" name="WordArt 3"/>
          <p:cNvSpPr txBox="1"/>
          <p:nvPr/>
        </p:nvSpPr>
        <p:spPr>
          <a:xfrm>
            <a:off x="838080" y="3809880"/>
            <a:ext cx="3276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ff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2600">
                <a:solidFill>
                  <a:srgbClr val="99ccff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99ccff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紫竹梅</a:t>
            </a:r>
            <a:endParaRPr b="0" lang="en-US" sz="1800" spc="1" strike="noStrike">
              <a:ln w="12600">
                <a:solidFill>
                  <a:srgbClr val="99ccff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177200" y="3645000"/>
            <a:ext cx="288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zǐ  zhú  mé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MX14_moli8020033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6234120"/>
          </a:xfrm>
          <a:prstGeom prst="rect">
            <a:avLst/>
          </a:prstGeom>
          <a:ln w="0">
            <a:noFill/>
          </a:ln>
        </p:spPr>
      </p:pic>
      <p:sp>
        <p:nvSpPr>
          <p:cNvPr id="173" name="WordArt 3"/>
          <p:cNvSpPr txBox="1"/>
          <p:nvPr/>
        </p:nvSpPr>
        <p:spPr>
          <a:xfrm>
            <a:off x="1476360" y="3284640"/>
            <a:ext cx="2362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茉莉花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403280" y="3429000"/>
            <a:ext cx="16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ò   l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iyulan"/>
          <p:cNvPicPr/>
          <p:nvPr/>
        </p:nvPicPr>
        <p:blipFill>
          <a:blip r:embed="rId1"/>
          <a:stretch/>
        </p:blipFill>
        <p:spPr>
          <a:xfrm>
            <a:off x="990720" y="228600"/>
            <a:ext cx="4556160" cy="62485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6404760" y="1704600"/>
            <a:ext cx="109476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白玉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xinsrc_20f00f6e81904277b0f7a942b03e47b9"/>
          <p:cNvPicPr/>
          <p:nvPr/>
        </p:nvPicPr>
        <p:blipFill>
          <a:blip r:embed="rId1"/>
          <a:stretch/>
        </p:blipFill>
        <p:spPr>
          <a:xfrm>
            <a:off x="380880" y="1981080"/>
            <a:ext cx="4114800" cy="3065760"/>
          </a:xfrm>
          <a:prstGeom prst="rect">
            <a:avLst/>
          </a:prstGeom>
          <a:ln w="0">
            <a:noFill/>
          </a:ln>
        </p:spPr>
      </p:pic>
      <p:sp>
        <p:nvSpPr>
          <p:cNvPr id="59" name="WordArt 3"/>
          <p:cNvSpPr txBox="1"/>
          <p:nvPr/>
        </p:nvSpPr>
        <p:spPr>
          <a:xfrm>
            <a:off x="1295280" y="304920"/>
            <a:ext cx="60199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ff00"/>
                  </a:solidFill>
                  <a:round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春回大地  万物复苏</a:t>
            </a:r>
            <a:endParaRPr b="0" lang="en-US" sz="4800" spc="1" strike="noStrike">
              <a:ln w="12600">
                <a:solidFill>
                  <a:srgbClr val="00ff00"/>
                </a:solidFill>
                <a:round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0" name="Picture 4" descr="03030392"/>
          <p:cNvPicPr/>
          <p:nvPr/>
        </p:nvPicPr>
        <p:blipFill>
          <a:blip r:embed="rId2"/>
          <a:stretch/>
        </p:blipFill>
        <p:spPr>
          <a:xfrm>
            <a:off x="4952880" y="1981080"/>
            <a:ext cx="3810240" cy="3048120"/>
          </a:xfrm>
          <a:prstGeom prst="rect">
            <a:avLst/>
          </a:prstGeom>
          <a:ln w="0">
            <a:noFill/>
          </a:ln>
        </p:spPr>
      </p:pic>
      <p:sp>
        <p:nvSpPr>
          <p:cNvPr id="61" name="Oval 5"/>
          <p:cNvSpPr/>
          <p:nvPr/>
        </p:nvSpPr>
        <p:spPr>
          <a:xfrm>
            <a:off x="2514600" y="5334120"/>
            <a:ext cx="4114800" cy="10666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柳绿花红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>
            <a:hlinkClick r:id="" action="ppaction://hlinkshowjump?jump=nextslide"/>
          </p:cNvPr>
          <p:cNvSpPr/>
          <p:nvPr/>
        </p:nvSpPr>
        <p:spPr>
          <a:xfrm>
            <a:off x="8820000" y="6381720"/>
            <a:ext cx="324000" cy="47628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76280"/>
              <a:gd name="textAreaBottom" fmla="*/ 455400 h 476280"/>
            </a:gdLst>
            <a:ahLst/>
            <a:rect l="textAreaLeft" t="textAreaTop" r="textAreaRight" b="textAreaBottom"/>
            <a:pathLst>
              <a:path w="21600" h="31741">
                <a:moveTo>
                  <a:pt x="0" y="0"/>
                </a:moveTo>
                <a:lnTo>
                  <a:pt x="21600" y="0"/>
                </a:lnTo>
                <a:lnTo>
                  <a:pt x="21600" y="31741"/>
                </a:lnTo>
                <a:lnTo>
                  <a:pt x="0" y="31741"/>
                </a:lnTo>
                <a:close/>
              </a:path>
              <a:path fill="lightenLess" w="21600" h="317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741">
                <a:moveTo>
                  <a:pt x="21600" y="0"/>
                </a:moveTo>
                <a:lnTo>
                  <a:pt x="21600" y="31741"/>
                </a:lnTo>
                <a:lnTo>
                  <a:pt x="20200" y="30341"/>
                </a:lnTo>
                <a:lnTo>
                  <a:pt x="20200" y="1400"/>
                </a:lnTo>
                <a:close/>
              </a:path>
              <a:path fill="darkenLess" w="21600" h="31741">
                <a:moveTo>
                  <a:pt x="21600" y="31741"/>
                </a:moveTo>
                <a:lnTo>
                  <a:pt x="0" y="31741"/>
                </a:lnTo>
                <a:lnTo>
                  <a:pt x="1400" y="30341"/>
                </a:lnTo>
                <a:lnTo>
                  <a:pt x="20200" y="30341"/>
                </a:lnTo>
                <a:close/>
              </a:path>
              <a:path fill="lighten" w="21600" h="31741">
                <a:moveTo>
                  <a:pt x="0" y="317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341"/>
                </a:lnTo>
                <a:close/>
              </a:path>
              <a:path fill="darken" w="21600" h="31741">
                <a:moveTo>
                  <a:pt x="3794" y="8864"/>
                </a:moveTo>
                <a:lnTo>
                  <a:pt x="17806" y="15870"/>
                </a:lnTo>
                <a:lnTo>
                  <a:pt x="3794" y="228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u=2698245018,1540362807&amp;fm=3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260280"/>
            <a:ext cx="3024000" cy="2784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u=382546113,1539795846&amp;fm=2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89000"/>
            <a:ext cx="3384720" cy="2703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u=3316867385,747367867&amp;fm=6&amp;gp=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3429000"/>
            <a:ext cx="4824360" cy="3201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u=3578515334,2269846171&amp;fm=3&amp;gp=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96000" y="3141720"/>
            <a:ext cx="2689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_imgload[4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250920" y="333360"/>
            <a:ext cx="8893080" cy="4175280"/>
          </a:xfrm>
          <a:prstGeom prst="cloudCallout">
            <a:avLst>
              <a:gd name="adj1" fmla="val -44449"/>
              <a:gd name="adj2" fmla="val 41523"/>
            </a:avLst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说：“不对，不对，春雨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色的。你们看，春雨落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春雨落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18ea8bf57d60a438bd3109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宋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宋体"/>
              </a:rPr>
              <a:t>     </a:t>
            </a:r>
            <a:r>
              <a:rPr b="0" lang="zh-CN" sz="4000" spc="-1" strike="noStrike">
                <a:solidFill>
                  <a:srgbClr val="ff00ff"/>
                </a:solidFill>
                <a:latin typeface="宋体"/>
              </a:rPr>
              <a:t>你们认为春雨是什么颜色的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179280" y="260280"/>
            <a:ext cx="3276720" cy="134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思考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8ea8bf57d60a438bd3109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宋体"/>
              </a:rPr>
              <a:t>  </a:t>
            </a: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滴  雨滴  水滴   </a:t>
            </a:r>
            <a:r>
              <a:rPr b="0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欢  欢乐  欢笑   </a:t>
            </a:r>
            <a:r>
              <a:rPr b="0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题  题目  数学题 </a:t>
            </a:r>
            <a:r>
              <a:rPr b="0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"/>
          <p:cNvSpPr/>
          <p:nvPr/>
        </p:nvSpPr>
        <p:spPr>
          <a:xfrm>
            <a:off x="0" y="0"/>
            <a:ext cx="3276720" cy="134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我会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5292720" y="1557360"/>
            <a:ext cx="2303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滴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435640" y="2349360"/>
            <a:ext cx="216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欢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5580000" y="306864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"/>
          <p:cNvSpPr/>
          <p:nvPr/>
        </p:nvSpPr>
        <p:spPr>
          <a:xfrm>
            <a:off x="1771560" y="5084640"/>
            <a:ext cx="53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chuanyushasha.mp3" descr=""/>
          <p:cNvPicPr/>
          <p:nvPr/>
        </p:nvPicPr>
        <p:blipFill>
          <a:blip r:embed="rId1"/>
          <a:stretch/>
        </p:blipFill>
        <p:spPr>
          <a:xfrm>
            <a:off x="788508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0kwct3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1692360" y="1989000"/>
            <a:ext cx="5761080" cy="16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朋友，真棒！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11776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205B-7DB9-4298-A321-8F9B1E6F72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5"/>
          <p:cNvPicPr/>
          <p:nvPr/>
        </p:nvPicPr>
        <p:blipFill>
          <a:blip r:embed="rId1"/>
          <a:stretch/>
        </p:blipFill>
        <p:spPr>
          <a:xfrm>
            <a:off x="1066680" y="2057400"/>
            <a:ext cx="1806840" cy="2617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燕子特写"/>
          <p:cNvPicPr/>
          <p:nvPr/>
        </p:nvPicPr>
        <p:blipFill>
          <a:blip r:embed="rId2"/>
          <a:stretch/>
        </p:blipFill>
        <p:spPr>
          <a:xfrm>
            <a:off x="4267080" y="2209680"/>
            <a:ext cx="3657600" cy="2400480"/>
          </a:xfrm>
          <a:prstGeom prst="rect">
            <a:avLst/>
          </a:prstGeom>
          <a:ln w="0">
            <a:noFill/>
          </a:ln>
        </p:spPr>
      </p:pic>
      <p:sp>
        <p:nvSpPr>
          <p:cNvPr id="65" name="Oval 4"/>
          <p:cNvSpPr/>
          <p:nvPr/>
        </p:nvSpPr>
        <p:spPr>
          <a:xfrm>
            <a:off x="2514600" y="5257800"/>
            <a:ext cx="4505400" cy="10666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莺歌燕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1295280" y="304920"/>
            <a:ext cx="60199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ff00"/>
                  </a:solidFill>
                  <a:round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春回大地  万物复苏</a:t>
            </a:r>
            <a:endParaRPr b="0" lang="en-US" sz="4800" spc="1" strike="noStrike">
              <a:ln w="12600">
                <a:solidFill>
                  <a:srgbClr val="00ff00"/>
                </a:solidFill>
                <a:round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7" name="AutoShape 6">
            <a:hlinkClick r:id="" action="ppaction://hlinkshowjump?jump=nextslide"/>
          </p:cNvPr>
          <p:cNvSpPr/>
          <p:nvPr/>
        </p:nvSpPr>
        <p:spPr>
          <a:xfrm>
            <a:off x="8820000" y="6381720"/>
            <a:ext cx="324000" cy="47628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76280"/>
              <a:gd name="textAreaBottom" fmla="*/ 455400 h 476280"/>
            </a:gdLst>
            <a:ahLst/>
            <a:rect l="textAreaLeft" t="textAreaTop" r="textAreaRight" b="textAreaBottom"/>
            <a:pathLst>
              <a:path w="21600" h="31741">
                <a:moveTo>
                  <a:pt x="0" y="0"/>
                </a:moveTo>
                <a:lnTo>
                  <a:pt x="21600" y="0"/>
                </a:lnTo>
                <a:lnTo>
                  <a:pt x="21600" y="31741"/>
                </a:lnTo>
                <a:lnTo>
                  <a:pt x="0" y="31741"/>
                </a:lnTo>
                <a:close/>
              </a:path>
              <a:path fill="lightenLess" w="21600" h="317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741">
                <a:moveTo>
                  <a:pt x="21600" y="0"/>
                </a:moveTo>
                <a:lnTo>
                  <a:pt x="21600" y="31741"/>
                </a:lnTo>
                <a:lnTo>
                  <a:pt x="20200" y="30341"/>
                </a:lnTo>
                <a:lnTo>
                  <a:pt x="20200" y="1400"/>
                </a:lnTo>
                <a:close/>
              </a:path>
              <a:path fill="darkenLess" w="21600" h="31741">
                <a:moveTo>
                  <a:pt x="21600" y="31741"/>
                </a:moveTo>
                <a:lnTo>
                  <a:pt x="0" y="31741"/>
                </a:lnTo>
                <a:lnTo>
                  <a:pt x="1400" y="30341"/>
                </a:lnTo>
                <a:lnTo>
                  <a:pt x="20200" y="30341"/>
                </a:lnTo>
                <a:close/>
              </a:path>
              <a:path fill="lighten" w="21600" h="31741">
                <a:moveTo>
                  <a:pt x="0" y="317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341"/>
                </a:lnTo>
                <a:close/>
              </a:path>
              <a:path fill="darken" w="21600" h="31741">
                <a:moveTo>
                  <a:pt x="3794" y="8864"/>
                </a:moveTo>
                <a:lnTo>
                  <a:pt x="17806" y="15870"/>
                </a:lnTo>
                <a:lnTo>
                  <a:pt x="3794" y="228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0982"/>
          <p:cNvPicPr/>
          <p:nvPr/>
        </p:nvPicPr>
        <p:blipFill>
          <a:blip r:embed="rId1"/>
          <a:stretch/>
        </p:blipFill>
        <p:spPr>
          <a:xfrm>
            <a:off x="304920" y="1981080"/>
            <a:ext cx="3962160" cy="3130560"/>
          </a:xfrm>
          <a:prstGeom prst="rect">
            <a:avLst/>
          </a:prstGeom>
          <a:ln w="0">
            <a:noFill/>
          </a:ln>
        </p:spPr>
      </p:pic>
      <p:sp>
        <p:nvSpPr>
          <p:cNvPr id="69" name="WordArt 3"/>
          <p:cNvSpPr txBox="1"/>
          <p:nvPr/>
        </p:nvSpPr>
        <p:spPr>
          <a:xfrm>
            <a:off x="1295280" y="304920"/>
            <a:ext cx="60199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ff00"/>
                  </a:solidFill>
                  <a:round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春回大地  万物复苏</a:t>
            </a:r>
            <a:endParaRPr b="0" lang="en-US" sz="4800" spc="1" strike="noStrike">
              <a:ln w="12600">
                <a:solidFill>
                  <a:srgbClr val="00ff00"/>
                </a:solidFill>
                <a:round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0" name="Picture 4" descr="F2003110516510300000"/>
          <p:cNvPicPr/>
          <p:nvPr/>
        </p:nvPicPr>
        <p:blipFill>
          <a:blip r:embed="rId2"/>
          <a:stretch/>
        </p:blipFill>
        <p:spPr>
          <a:xfrm>
            <a:off x="4800600" y="205740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71" name="Oval 5"/>
          <p:cNvSpPr/>
          <p:nvPr/>
        </p:nvSpPr>
        <p:spPr>
          <a:xfrm>
            <a:off x="304920" y="5334120"/>
            <a:ext cx="4627440" cy="1066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冰雪融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4800600" y="5410080"/>
            <a:ext cx="4343400" cy="106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泉水丁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>
            <a:hlinkClick r:id="" action="ppaction://hlinkshowjump?jump=nextslide"/>
          </p:cNvPr>
          <p:cNvSpPr/>
          <p:nvPr/>
        </p:nvSpPr>
        <p:spPr>
          <a:xfrm>
            <a:off x="8820000" y="6381720"/>
            <a:ext cx="324000" cy="47628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76280"/>
              <a:gd name="textAreaBottom" fmla="*/ 455400 h 476280"/>
            </a:gdLst>
            <a:ahLst/>
            <a:rect l="textAreaLeft" t="textAreaTop" r="textAreaRight" b="textAreaBottom"/>
            <a:pathLst>
              <a:path w="21600" h="31741">
                <a:moveTo>
                  <a:pt x="0" y="0"/>
                </a:moveTo>
                <a:lnTo>
                  <a:pt x="21600" y="0"/>
                </a:lnTo>
                <a:lnTo>
                  <a:pt x="21600" y="31741"/>
                </a:lnTo>
                <a:lnTo>
                  <a:pt x="0" y="31741"/>
                </a:lnTo>
                <a:close/>
              </a:path>
              <a:path fill="lightenLess" w="21600" h="317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741">
                <a:moveTo>
                  <a:pt x="21600" y="0"/>
                </a:moveTo>
                <a:lnTo>
                  <a:pt x="21600" y="31741"/>
                </a:lnTo>
                <a:lnTo>
                  <a:pt x="20200" y="30341"/>
                </a:lnTo>
                <a:lnTo>
                  <a:pt x="20200" y="1400"/>
                </a:lnTo>
                <a:close/>
              </a:path>
              <a:path fill="darkenLess" w="21600" h="31741">
                <a:moveTo>
                  <a:pt x="21600" y="31741"/>
                </a:moveTo>
                <a:lnTo>
                  <a:pt x="0" y="31741"/>
                </a:lnTo>
                <a:lnTo>
                  <a:pt x="1400" y="30341"/>
                </a:lnTo>
                <a:lnTo>
                  <a:pt x="20200" y="30341"/>
                </a:lnTo>
                <a:close/>
              </a:path>
              <a:path fill="lighten" w="21600" h="31741">
                <a:moveTo>
                  <a:pt x="0" y="317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341"/>
                </a:lnTo>
                <a:close/>
              </a:path>
              <a:path fill="darken" w="21600" h="31741">
                <a:moveTo>
                  <a:pt x="3794" y="8864"/>
                </a:moveTo>
                <a:lnTo>
                  <a:pt x="17806" y="15870"/>
                </a:lnTo>
                <a:lnTo>
                  <a:pt x="3794" y="2287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18ea8bf57d60a438bd3109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宋体"/>
              </a:rPr>
              <a:t>xiàn      lùn     qù       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条       争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有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趣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问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00ff"/>
                </a:solidFill>
                <a:latin typeface="宋体"/>
              </a:rPr>
              <a:t>dǐ    yán     lín      s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色  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雨  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宋体"/>
              </a:rPr>
              <a:t>dī      huān    yó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 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欢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快  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0" y="0"/>
            <a:ext cx="3276720" cy="134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8ea8bf57d60a438bd3109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条       争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有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趣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问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色  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雨  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 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欢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快  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0" y="0"/>
            <a:ext cx="3276720" cy="1341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4480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914400" y="2362320"/>
            <a:ext cx="7848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论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趣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题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底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洒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滴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油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973240" y="1174680"/>
            <a:ext cx="19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只要你认识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个字，就可以得到一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wuxing"/>
          <p:cNvPicPr/>
          <p:nvPr/>
        </p:nvPicPr>
        <p:blipFill>
          <a:blip r:embed="rId1"/>
          <a:stretch/>
        </p:blipFill>
        <p:spPr>
          <a:xfrm>
            <a:off x="6934320" y="1219320"/>
            <a:ext cx="99036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3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kewen1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0" y="4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kewen2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144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57200" y="10666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57200" y="1828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33520" y="3048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181480" y="3049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5181480" y="19810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5181480" y="35812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4:57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0:31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