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5CC-0B2F-4FA8-A191-42491D6ADB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46E3-A0DF-420D-AAE2-D3717F3D017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490-0BB2-472C-B4A7-ADC94076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BAB-97C5-4123-AC44-550E28E6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4476-C4AB-4D3A-9D1B-6F5EDF6C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025-6B2A-4B61-A0C9-4BE2826A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876C-99E9-4325-B192-766FEEF6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A33-66BC-4702-AF55-8D07DA18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782-8C4F-4F53-AA91-2FE5DB5E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A02-6798-404A-8074-BE4666C4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696-2F5F-4999-BF94-7966B48D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F39-E68D-4A6A-BC84-3E60C77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941-FAAA-462F-BA46-4CEDC263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C5C-B34B-4C1A-96F1-D22B2DCE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9D3-8AF4-42A5-AAFD-46DCCC86DC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412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 rot="5400000">
            <a:off x="3484080" y="2387520"/>
            <a:ext cx="5400720" cy="1146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In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solidFill>
                  <a:srgbClr val="1e4649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华文中宋"/>
              </a:rPr>
              <a:t>成语故事会</a:t>
            </a:r>
            <a:endParaRPr b="1" lang="en-US" sz="9600" spc="-1" strike="noStrike">
              <a:ln w="0">
                <a:noFill/>
              </a:ln>
              <a:solidFill>
                <a:srgbClr val="1e4649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660480" y="6058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e464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1e464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5F43-29B8-495E-9D24-8D40B49E46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114401JV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1187280" y="1670040"/>
            <a:ext cx="3384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言简意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00000" y="2535120"/>
            <a:ext cx="4103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易学易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3357720"/>
            <a:ext cx="360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9344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形象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268360" y="54936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成语的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24000" y="490140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　　成语是我国汉语语言文化宝库中的奇葩，它言简意赅，含义深刻，其背后的有趣故事常常令人深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1G4094122-8"/>
          <p:cNvPicPr/>
          <p:nvPr/>
        </p:nvPicPr>
        <p:blipFill>
          <a:blip r:embed="rId1"/>
          <a:stretch/>
        </p:blipFill>
        <p:spPr>
          <a:xfrm>
            <a:off x="0" y="0"/>
            <a:ext cx="9144000" cy="699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-69840" y="838080"/>
            <a:ext cx="9212400" cy="5484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0" y="0"/>
            <a:ext cx="464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看图猜成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724360" y="83664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狐假虎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403280" y="621648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比喻凭借别人的威势欺压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刻舟求剑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87200" y="5950080"/>
            <a:ext cx="9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讽刺了片面、静止，不知变通、墨守成规的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292720" y="4581360"/>
            <a:ext cx="36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刻舟求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1922400" y="4216320"/>
            <a:ext cx="55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7"/>
          <p:cNvSpPr/>
          <p:nvPr/>
        </p:nvSpPr>
        <p:spPr>
          <a:xfrm>
            <a:off x="6443640" y="393372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997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684360" y="602136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不要盲目模仿他人，这样只会适得其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796000" y="620640"/>
            <a:ext cx="298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东施效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059280" y="4005360"/>
            <a:ext cx="34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对牛弹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900000" y="609300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比喻对不懂事理的人讲道理或言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1144021Z6-6"/>
          <p:cNvPicPr/>
          <p:nvPr/>
        </p:nvPicPr>
        <p:blipFill>
          <a:blip r:embed="rId1"/>
          <a:stretch/>
        </p:blipFill>
        <p:spPr>
          <a:xfrm>
            <a:off x="0" y="0"/>
            <a:ext cx="9396360" cy="7047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24000" y="980640"/>
            <a:ext cx="8640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前，宋国有个农夫正在田里翻土。突然，他看见有一只野兔从旁边的草丛里慌慌张张地窜出来，一头撞在田边的树墩子上，便倒在那儿一动也不动了。农夫走过去一看：兔子死了。因为它奔跑的速度太快，把脖子都撞折（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sh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é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）了。农夫高兴极了，他一点力气没花，就白捡了一只又肥又大的野兔。他心想：要是天天都能捡到野兔，日子就好过了。从此，他再也不肯出力气种地了。每天，他就躺在那里，等待着第二只、第三只野兔自己撞到这树墩子上来。但是世上哪有那么多便宜事啊。农夫再没有捡到撞死的野兔，而他的田地却荒芜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03640" y="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守株待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"/>
          <p:cNvSpPr/>
          <p:nvPr/>
        </p:nvSpPr>
        <p:spPr>
          <a:xfrm>
            <a:off x="1476360" y="1413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>
            <a:off x="2771640" y="1413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4429080" y="1413000"/>
            <a:ext cx="863640" cy="0"/>
          </a:xfrm>
          <a:prstGeom prst="line">
            <a:avLst/>
          </a:prstGeom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-10052923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324000" y="23821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讲成语故事要讲清楚故事发生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地点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人物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故事情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起因、发展、结局），还可以讲讲故事给人们的启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39640" y="549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故事的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203U31121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写作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95280" y="16869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故事会中选择一个自己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最喜欢、印象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故事写下来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29440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自己的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再现一个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完整、具体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成语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324000" y="4241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３、在某个成语故事的基础上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续写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段新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05:51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55Z</dcterms:modified>
  <cp:revision>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