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gif" ContentType="image/gif"/>
  <Override PartName="/ppt/media/image24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13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22.gif" ContentType="image/gif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39FC-C2BA-4EE6-8930-8A37BC8199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F1CA-7B20-4E15-8FEF-BC1990BE46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4261-4120-42E3-8B70-928BE4112D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C7E-E0B3-4103-A56C-15601EC5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0C5-6D57-4DA6-BBB5-33E3789B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EF5-849F-4830-B4E8-15F91B09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D1D-1493-4637-B063-C3D8B24E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FF6-A893-4290-9996-634A010B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941-4851-414F-8993-6B5751D1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123-127C-4F53-B44B-DB4D4E43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1AA-3824-4D23-B4B9-EE48AD55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038-D54A-483E-86FA-F95E8BC7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182-5027-42F7-8D34-D12BFDE8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2B4-EC66-4D00-BD24-447E747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EB2-700D-4B52-BA29-584D0DCC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9D1A-1EDE-40A6-89F8-055843720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&#38632;&#22768;.WAV" TargetMode="Externa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13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" Target="slide9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9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21.xml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3" descr=""/>
          <p:cNvPicPr/>
          <p:nvPr/>
        </p:nvPicPr>
        <p:blipFill>
          <a:blip r:embed="rId2"/>
          <a:stretch/>
        </p:blipFill>
        <p:spPr>
          <a:xfrm>
            <a:off x="2036880" y="907920"/>
            <a:ext cx="5181480" cy="15703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3"/>
          </p:cNvPr>
          <p:cNvSpPr/>
          <p:nvPr/>
        </p:nvSpPr>
        <p:spPr>
          <a:xfrm>
            <a:off x="8172360" y="5805360"/>
            <a:ext cx="289080" cy="358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58920"/>
              <a:gd name="textAreaBottom" fmla="*/ 340200 h 358920"/>
            </a:gdLst>
            <a:ahLst/>
            <a:rect l="textAreaLeft" t="textAreaTop" r="textAreaRight" b="textAreaBottom"/>
            <a:pathLst>
              <a:path w="21600" h="26812">
                <a:moveTo>
                  <a:pt x="0" y="0"/>
                </a:moveTo>
                <a:lnTo>
                  <a:pt x="21600" y="0"/>
                </a:lnTo>
                <a:lnTo>
                  <a:pt x="21600" y="26812"/>
                </a:lnTo>
                <a:lnTo>
                  <a:pt x="0" y="26812"/>
                </a:lnTo>
                <a:close/>
              </a:path>
              <a:path fill="lightenLess" w="21600" h="26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12">
                <a:moveTo>
                  <a:pt x="21600" y="0"/>
                </a:moveTo>
                <a:lnTo>
                  <a:pt x="21600" y="26812"/>
                </a:lnTo>
                <a:lnTo>
                  <a:pt x="20200" y="25412"/>
                </a:lnTo>
                <a:lnTo>
                  <a:pt x="20200" y="1400"/>
                </a:lnTo>
                <a:close/>
              </a:path>
              <a:path fill="darkenLess" w="21600" h="26812">
                <a:moveTo>
                  <a:pt x="21600" y="26812"/>
                </a:moveTo>
                <a:lnTo>
                  <a:pt x="0" y="26812"/>
                </a:lnTo>
                <a:lnTo>
                  <a:pt x="1400" y="25412"/>
                </a:lnTo>
                <a:lnTo>
                  <a:pt x="20200" y="25412"/>
                </a:lnTo>
                <a:close/>
              </a:path>
              <a:path fill="lighten" w="21600" h="26812">
                <a:moveTo>
                  <a:pt x="0" y="26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12"/>
                </a:lnTo>
                <a:close/>
              </a:path>
              <a:path fill="darken" w="21600" h="26812">
                <a:moveTo>
                  <a:pt x="3794" y="11012"/>
                </a:moveTo>
                <a:lnTo>
                  <a:pt x="8224" y="11012"/>
                </a:lnTo>
                <a:lnTo>
                  <a:pt x="12645" y="6399"/>
                </a:lnTo>
                <a:lnTo>
                  <a:pt x="12645" y="20412"/>
                </a:lnTo>
                <a:lnTo>
                  <a:pt x="8224" y="15799"/>
                </a:lnTo>
                <a:lnTo>
                  <a:pt x="3794" y="15799"/>
                </a:lnTo>
                <a:close/>
              </a:path>
              <a:path fill="darken" w="21600" h="26812">
                <a:moveTo>
                  <a:pt x="14299" y="13406"/>
                </a:moveTo>
                <a:lnTo>
                  <a:pt x="17806" y="13406"/>
                </a:lnTo>
              </a:path>
              <a:path fill="darken" w="21600" h="26812">
                <a:moveTo>
                  <a:pt x="14299" y="11012"/>
                </a:moveTo>
                <a:lnTo>
                  <a:pt x="17806" y="8245"/>
                </a:lnTo>
              </a:path>
              <a:path fill="darken" w="21600" h="26812">
                <a:moveTo>
                  <a:pt x="14299" y="15799"/>
                </a:moveTo>
                <a:lnTo>
                  <a:pt x="17806" y="18567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gif012"/>
          <p:cNvPicPr/>
          <p:nvPr/>
        </p:nvPicPr>
        <p:blipFill>
          <a:blip r:embed="rId4"/>
          <a:stretch/>
        </p:blipFill>
        <p:spPr>
          <a:xfrm>
            <a:off x="7956720" y="5084640"/>
            <a:ext cx="761760" cy="687600"/>
          </a:xfrm>
          <a:prstGeom prst="rect">
            <a:avLst/>
          </a:prstGeom>
          <a:ln w="0">
            <a:noFill/>
          </a:ln>
        </p:spPr>
      </p:pic>
      <p:sp>
        <p:nvSpPr>
          <p:cNvPr id="52" name="矩形 7"/>
          <p:cNvSpPr/>
          <p:nvPr/>
        </p:nvSpPr>
        <p:spPr>
          <a:xfrm>
            <a:off x="184284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352600" y="1209600"/>
            <a:ext cx="44388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357280" y="1214280"/>
            <a:ext cx="4429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春图2"/>
          <p:cNvPicPr/>
          <p:nvPr/>
        </p:nvPicPr>
        <p:blipFill>
          <a:blip r:embed="rId1"/>
          <a:stretch/>
        </p:blipFill>
        <p:spPr>
          <a:xfrm>
            <a:off x="1476360" y="0"/>
            <a:ext cx="632448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1143000" y="5745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梭的燕子衔着雨丝，织出一幅美丽的春天</a:t>
            </a:r>
            <a:r>
              <a:rPr b="1" lang="zh-CN" sz="3600" spc="-1" strike="noStrike">
                <a:solidFill>
                  <a:srgbClr val="ff0505"/>
                </a:solidFill>
                <a:latin typeface="Times New Roman"/>
                <a:ea typeface="楷体_GB2312"/>
              </a:rPr>
              <a:t>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：绿的，是柳叶；红的是桃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niao1"/>
          <p:cNvPicPr/>
          <p:nvPr/>
        </p:nvPicPr>
        <p:blipFill>
          <a:blip r:embed="rId2"/>
          <a:stretch/>
        </p:blipFill>
        <p:spPr>
          <a:xfrm>
            <a:off x="2362320" y="1219320"/>
            <a:ext cx="17524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95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0" y="2377080"/>
            <a:ext cx="813600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穿梭的燕子衔着雨丝，织出一幅美丽的春天图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的，是柳叶；红的，是桃花。还织出一条清凌凌的小河。河里的鱼儿欢快地摇动着尾巴。河的对</a:t>
            </a:r>
            <a:r>
              <a:rPr b="1" lang="zh-CN" sz="3200" spc="-1" strike="noStrike">
                <a:solidFill>
                  <a:srgbClr val="ff0505"/>
                </a:solidFill>
                <a:latin typeface="楷体_GB2312"/>
                <a:ea typeface="楷体_GB2312"/>
              </a:rPr>
              <a:t>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</a:t>
            </a:r>
            <a:r>
              <a:rPr b="1" lang="zh-CN" sz="3200" spc="-1" strike="noStrike">
                <a:solidFill>
                  <a:srgbClr val="ff0505"/>
                </a:solidFill>
                <a:latin typeface="楷体_GB2312"/>
                <a:ea typeface="楷体_GB2312"/>
              </a:rPr>
              <a:t>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山。山坡下，有播</a:t>
            </a:r>
            <a:r>
              <a:rPr b="1" lang="zh-CN" sz="3200" spc="-1" strike="noStrike">
                <a:solidFill>
                  <a:srgbClr val="ff0505"/>
                </a:solidFill>
                <a:latin typeface="楷体_GB2312"/>
                <a:ea typeface="楷体_GB2312"/>
              </a:rPr>
              <a:t>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农民；山坡上，有</a:t>
            </a:r>
            <a:r>
              <a:rPr b="1" lang="zh-CN" sz="3200" spc="-1" strike="noStrike">
                <a:solidFill>
                  <a:srgbClr val="ff0505"/>
                </a:solidFill>
                <a:latin typeface="楷体_GB2312"/>
                <a:ea typeface="楷体_GB2312"/>
              </a:rPr>
              <a:t>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的娃娃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619280" y="270828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清凌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516720" y="27075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欢快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195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nex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95280" y="2781000"/>
            <a:ext cx="84247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农民伯伯（   ）在一（   ）小山坡上休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同学们（   ）在（   ）位上看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73040" y="112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选词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271680" y="186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000400" y="186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4151160" y="39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016240" y="306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695320" y="39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071520" y="306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normal_FZ7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春图2"/>
          <p:cNvPicPr/>
          <p:nvPr/>
        </p:nvPicPr>
        <p:blipFill>
          <a:blip r:embed="rId2"/>
          <a:stretch/>
        </p:blipFill>
        <p:spPr>
          <a:xfrm>
            <a:off x="1295280" y="380880"/>
            <a:ext cx="6324840" cy="4560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447920" y="5637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春天的图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49518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啊，多么迷人的春天图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gif0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7621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R_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657600" y="4561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春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447920" y="1166040"/>
            <a:ext cx="3124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春天是一本彩色的书，</a:t>
            </a:r>
            <a:br>
              <a:rPr sz="2400"/>
            </a:b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红的桃花，</a:t>
            </a:r>
            <a:br>
              <a:rPr sz="2400"/>
            </a:b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白的梨花，</a:t>
            </a:r>
            <a:br>
              <a:rPr sz="2400"/>
            </a:b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绿的柳叶，</a:t>
            </a:r>
            <a:br>
              <a:rPr sz="2400"/>
            </a:b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黄的迎春花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952880" y="1166040"/>
            <a:ext cx="304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春天是一本会笑的书，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池塘笑了，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酒窝圆又大，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朋友笑了，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咧开小嘴巴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819520" y="3773520"/>
            <a:ext cx="3047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春天是一本会唱的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春雷轰隆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春雨沙沙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燕子叽叽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青蛙呱呱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if01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638680"/>
            <a:ext cx="7621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468360" y="476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桃花朵朵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755640" y="1268280"/>
            <a:ext cx="1425600" cy="1037520"/>
            <a:chOff x="755640" y="1268280"/>
            <a:chExt cx="1425600" cy="1037520"/>
          </a:xfrm>
        </p:grpSpPr>
        <p:grpSp>
          <p:nvGrpSpPr>
            <p:cNvPr id="125" name="Group 7"/>
            <p:cNvGrpSpPr/>
            <p:nvPr/>
          </p:nvGrpSpPr>
          <p:grpSpPr>
            <a:xfrm>
              <a:off x="852840" y="1268280"/>
              <a:ext cx="1130400" cy="1037520"/>
              <a:chOff x="852840" y="1268280"/>
              <a:chExt cx="1130400" cy="1037520"/>
            </a:xfrm>
          </p:grpSpPr>
          <p:grpSp>
            <p:nvGrpSpPr>
              <p:cNvPr id="126" name="Group 8"/>
              <p:cNvGrpSpPr/>
              <p:nvPr/>
            </p:nvGrpSpPr>
            <p:grpSpPr>
              <a:xfrm>
                <a:off x="852840" y="1268280"/>
                <a:ext cx="1130400" cy="1037520"/>
                <a:chOff x="852840" y="1268280"/>
                <a:chExt cx="1130400" cy="1037520"/>
              </a:xfrm>
            </p:grpSpPr>
            <p:sp>
              <p:nvSpPr>
                <p:cNvPr id="127" name="Oval 9"/>
                <p:cNvSpPr/>
                <p:nvPr/>
              </p:nvSpPr>
              <p:spPr>
                <a:xfrm rot="12960000">
                  <a:off x="1057320" y="166068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10"/>
                <p:cNvSpPr/>
                <p:nvPr/>
              </p:nvSpPr>
              <p:spPr>
                <a:xfrm rot="8640000">
                  <a:off x="1403280" y="1692000"/>
                  <a:ext cx="392760" cy="550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1"/>
                <p:cNvSpPr/>
                <p:nvPr/>
              </p:nvSpPr>
              <p:spPr>
                <a:xfrm rot="17280000">
                  <a:off x="978840" y="142416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12"/>
                <p:cNvSpPr/>
                <p:nvPr/>
              </p:nvSpPr>
              <p:spPr>
                <a:xfrm>
                  <a:off x="1215000" y="126828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13"/>
                <p:cNvSpPr/>
                <p:nvPr/>
              </p:nvSpPr>
              <p:spPr>
                <a:xfrm rot="4320000">
                  <a:off x="1464120" y="143856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14"/>
              <p:cNvGrpSpPr/>
              <p:nvPr/>
            </p:nvGrpSpPr>
            <p:grpSpPr>
              <a:xfrm>
                <a:off x="901440" y="1309680"/>
                <a:ext cx="1036800" cy="951120"/>
                <a:chOff x="901440" y="1309680"/>
                <a:chExt cx="1036800" cy="951120"/>
              </a:xfrm>
            </p:grpSpPr>
            <p:sp>
              <p:nvSpPr>
                <p:cNvPr id="133" name="Oval 15"/>
                <p:cNvSpPr/>
                <p:nvPr/>
              </p:nvSpPr>
              <p:spPr>
                <a:xfrm rot="12960000">
                  <a:off x="1088640" y="166968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6"/>
                <p:cNvSpPr/>
                <p:nvPr/>
              </p:nvSpPr>
              <p:spPr>
                <a:xfrm rot="8640000">
                  <a:off x="1406520" y="1697760"/>
                  <a:ext cx="360000" cy="50508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Oval 17"/>
                <p:cNvSpPr/>
                <p:nvPr/>
              </p:nvSpPr>
              <p:spPr>
                <a:xfrm rot="17280000">
                  <a:off x="1016640" y="145296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18"/>
                <p:cNvSpPr/>
                <p:nvPr/>
              </p:nvSpPr>
              <p:spPr>
                <a:xfrm>
                  <a:off x="1233360" y="130968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19"/>
                <p:cNvSpPr/>
                <p:nvPr/>
              </p:nvSpPr>
              <p:spPr>
                <a:xfrm rot="4320000">
                  <a:off x="1462320" y="146592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Oval 20"/>
              <p:cNvSpPr/>
              <p:nvPr/>
            </p:nvSpPr>
            <p:spPr>
              <a:xfrm>
                <a:off x="1303200" y="1639800"/>
                <a:ext cx="217440" cy="2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21"/>
            <p:cNvSpPr/>
            <p:nvPr/>
          </p:nvSpPr>
          <p:spPr>
            <a:xfrm>
              <a:off x="755640" y="1341360"/>
              <a:ext cx="142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好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2801880" y="1443600"/>
            <a:ext cx="1482840" cy="1107000"/>
            <a:chOff x="2801880" y="1443600"/>
            <a:chExt cx="1482840" cy="1107000"/>
          </a:xfrm>
        </p:grpSpPr>
        <p:grpSp>
          <p:nvGrpSpPr>
            <p:cNvPr id="141" name="Group 23"/>
            <p:cNvGrpSpPr/>
            <p:nvPr/>
          </p:nvGrpSpPr>
          <p:grpSpPr>
            <a:xfrm>
              <a:off x="2876760" y="1443600"/>
              <a:ext cx="1087920" cy="1107000"/>
              <a:chOff x="2876760" y="1443600"/>
              <a:chExt cx="1087920" cy="1107000"/>
            </a:xfrm>
          </p:grpSpPr>
          <p:grpSp>
            <p:nvGrpSpPr>
              <p:cNvPr id="142" name="Group 24"/>
              <p:cNvGrpSpPr/>
              <p:nvPr/>
            </p:nvGrpSpPr>
            <p:grpSpPr>
              <a:xfrm>
                <a:off x="2876760" y="1443600"/>
                <a:ext cx="1087920" cy="1107000"/>
                <a:chOff x="2876760" y="1443600"/>
                <a:chExt cx="1087920" cy="1107000"/>
              </a:xfrm>
            </p:grpSpPr>
            <p:sp>
              <p:nvSpPr>
                <p:cNvPr id="143" name="Oval 25"/>
                <p:cNvSpPr/>
                <p:nvPr/>
              </p:nvSpPr>
              <p:spPr>
                <a:xfrm rot="14314200">
                  <a:off x="3017160" y="1800000"/>
                  <a:ext cx="39240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6"/>
                <p:cNvSpPr/>
                <p:nvPr/>
              </p:nvSpPr>
              <p:spPr>
                <a:xfrm rot="9994200">
                  <a:off x="3324960" y="1961640"/>
                  <a:ext cx="392400" cy="550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27"/>
                <p:cNvSpPr/>
                <p:nvPr/>
              </p:nvSpPr>
              <p:spPr>
                <a:xfrm rot="18634200">
                  <a:off x="3035160" y="155160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28"/>
                <p:cNvSpPr/>
                <p:nvPr/>
              </p:nvSpPr>
              <p:spPr>
                <a:xfrm rot="1354200">
                  <a:off x="3313440" y="1497600"/>
                  <a:ext cx="39240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29"/>
                <p:cNvSpPr/>
                <p:nvPr/>
              </p:nvSpPr>
              <p:spPr>
                <a:xfrm rot="5674200">
                  <a:off x="3478320" y="175104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0"/>
              <p:cNvGrpSpPr/>
              <p:nvPr/>
            </p:nvGrpSpPr>
            <p:grpSpPr>
              <a:xfrm>
                <a:off x="2923200" y="1488960"/>
                <a:ext cx="997920" cy="1014480"/>
                <a:chOff x="2923200" y="1488960"/>
                <a:chExt cx="997920" cy="1014480"/>
              </a:xfrm>
            </p:grpSpPr>
            <p:sp>
              <p:nvSpPr>
                <p:cNvPr id="149" name="Oval 31"/>
                <p:cNvSpPr/>
                <p:nvPr/>
              </p:nvSpPr>
              <p:spPr>
                <a:xfrm rot="14314200">
                  <a:off x="3052080" y="181548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2"/>
                <p:cNvSpPr/>
                <p:nvPr/>
              </p:nvSpPr>
              <p:spPr>
                <a:xfrm rot="9994200">
                  <a:off x="3334680" y="1963440"/>
                  <a:ext cx="360000" cy="50508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3"/>
                <p:cNvSpPr/>
                <p:nvPr/>
              </p:nvSpPr>
              <p:spPr>
                <a:xfrm rot="18634200">
                  <a:off x="3069000" y="1587960"/>
                  <a:ext cx="36036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4"/>
                <p:cNvSpPr/>
                <p:nvPr/>
              </p:nvSpPr>
              <p:spPr>
                <a:xfrm rot="1354200">
                  <a:off x="3323880" y="153864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5"/>
                <p:cNvSpPr/>
                <p:nvPr/>
              </p:nvSpPr>
              <p:spPr>
                <a:xfrm rot="5674200">
                  <a:off x="3475080" y="1770840"/>
                  <a:ext cx="36036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Oval 36"/>
              <p:cNvSpPr/>
              <p:nvPr/>
            </p:nvSpPr>
            <p:spPr>
              <a:xfrm rot="1354200">
                <a:off x="3322080" y="1853640"/>
                <a:ext cx="217080" cy="2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Rectangle 37"/>
            <p:cNvSpPr/>
            <p:nvPr/>
          </p:nvSpPr>
          <p:spPr>
            <a:xfrm>
              <a:off x="2801880" y="1557360"/>
              <a:ext cx="1482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穿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8"/>
          <p:cNvGrpSpPr/>
          <p:nvPr/>
        </p:nvGrpSpPr>
        <p:grpSpPr>
          <a:xfrm>
            <a:off x="4716360" y="981000"/>
            <a:ext cx="1454400" cy="1037520"/>
            <a:chOff x="4716360" y="981000"/>
            <a:chExt cx="1454400" cy="1037520"/>
          </a:xfrm>
        </p:grpSpPr>
        <p:grpSp>
          <p:nvGrpSpPr>
            <p:cNvPr id="157" name="Group 39"/>
            <p:cNvGrpSpPr/>
            <p:nvPr/>
          </p:nvGrpSpPr>
          <p:grpSpPr>
            <a:xfrm>
              <a:off x="4812120" y="981000"/>
              <a:ext cx="1130400" cy="1037520"/>
              <a:chOff x="4812120" y="981000"/>
              <a:chExt cx="1130400" cy="1037520"/>
            </a:xfrm>
          </p:grpSpPr>
          <p:grpSp>
            <p:nvGrpSpPr>
              <p:cNvPr id="158" name="Group 40"/>
              <p:cNvGrpSpPr/>
              <p:nvPr/>
            </p:nvGrpSpPr>
            <p:grpSpPr>
              <a:xfrm>
                <a:off x="4812120" y="981000"/>
                <a:ext cx="1130400" cy="1037520"/>
                <a:chOff x="4812120" y="981000"/>
                <a:chExt cx="1130400" cy="1037520"/>
              </a:xfrm>
            </p:grpSpPr>
            <p:sp>
              <p:nvSpPr>
                <p:cNvPr id="159" name="Oval 41"/>
                <p:cNvSpPr/>
                <p:nvPr/>
              </p:nvSpPr>
              <p:spPr>
                <a:xfrm rot="12960000">
                  <a:off x="5016600" y="137340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2"/>
                <p:cNvSpPr/>
                <p:nvPr/>
              </p:nvSpPr>
              <p:spPr>
                <a:xfrm rot="8640000">
                  <a:off x="5362560" y="1404720"/>
                  <a:ext cx="392760" cy="550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3"/>
                <p:cNvSpPr/>
                <p:nvPr/>
              </p:nvSpPr>
              <p:spPr>
                <a:xfrm rot="17280000">
                  <a:off x="4938120" y="113688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4"/>
                <p:cNvSpPr/>
                <p:nvPr/>
              </p:nvSpPr>
              <p:spPr>
                <a:xfrm>
                  <a:off x="5174280" y="98100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Oval 45"/>
                <p:cNvSpPr/>
                <p:nvPr/>
              </p:nvSpPr>
              <p:spPr>
                <a:xfrm rot="4320000">
                  <a:off x="5423400" y="115128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46"/>
              <p:cNvGrpSpPr/>
              <p:nvPr/>
            </p:nvGrpSpPr>
            <p:grpSpPr>
              <a:xfrm>
                <a:off x="4860720" y="1022400"/>
                <a:ext cx="1036800" cy="951120"/>
                <a:chOff x="4860720" y="1022400"/>
                <a:chExt cx="1036800" cy="951120"/>
              </a:xfrm>
            </p:grpSpPr>
            <p:sp>
              <p:nvSpPr>
                <p:cNvPr id="165" name="Oval 47"/>
                <p:cNvSpPr/>
                <p:nvPr/>
              </p:nvSpPr>
              <p:spPr>
                <a:xfrm rot="12960000">
                  <a:off x="5047920" y="138240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Oval 48"/>
                <p:cNvSpPr/>
                <p:nvPr/>
              </p:nvSpPr>
              <p:spPr>
                <a:xfrm rot="8640000">
                  <a:off x="5365800" y="1410480"/>
                  <a:ext cx="360000" cy="50508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49"/>
                <p:cNvSpPr/>
                <p:nvPr/>
              </p:nvSpPr>
              <p:spPr>
                <a:xfrm rot="17280000">
                  <a:off x="4975920" y="116568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50"/>
                <p:cNvSpPr/>
                <p:nvPr/>
              </p:nvSpPr>
              <p:spPr>
                <a:xfrm>
                  <a:off x="5192640" y="102240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51"/>
                <p:cNvSpPr/>
                <p:nvPr/>
              </p:nvSpPr>
              <p:spPr>
                <a:xfrm rot="4320000">
                  <a:off x="5421600" y="117864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Oval 52"/>
              <p:cNvSpPr/>
              <p:nvPr/>
            </p:nvSpPr>
            <p:spPr>
              <a:xfrm>
                <a:off x="5262480" y="1352520"/>
                <a:ext cx="217440" cy="2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Rectangle 53"/>
            <p:cNvSpPr/>
            <p:nvPr/>
          </p:nvSpPr>
          <p:spPr>
            <a:xfrm>
              <a:off x="4716360" y="1052640"/>
              <a:ext cx="145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植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54"/>
          <p:cNvGrpSpPr/>
          <p:nvPr/>
        </p:nvGrpSpPr>
        <p:grpSpPr>
          <a:xfrm>
            <a:off x="7236000" y="871560"/>
            <a:ext cx="1368360" cy="1092240"/>
            <a:chOff x="7236000" y="871560"/>
            <a:chExt cx="1368360" cy="1092240"/>
          </a:xfrm>
        </p:grpSpPr>
        <p:grpSp>
          <p:nvGrpSpPr>
            <p:cNvPr id="173" name="Group 55"/>
            <p:cNvGrpSpPr/>
            <p:nvPr/>
          </p:nvGrpSpPr>
          <p:grpSpPr>
            <a:xfrm>
              <a:off x="7406280" y="871560"/>
              <a:ext cx="1104840" cy="1092240"/>
              <a:chOff x="7406280" y="871560"/>
              <a:chExt cx="1104840" cy="1092240"/>
            </a:xfrm>
          </p:grpSpPr>
          <p:grpSp>
            <p:nvGrpSpPr>
              <p:cNvPr id="174" name="Group 56"/>
              <p:cNvGrpSpPr/>
              <p:nvPr/>
            </p:nvGrpSpPr>
            <p:grpSpPr>
              <a:xfrm>
                <a:off x="7406280" y="871560"/>
                <a:ext cx="1104840" cy="1092240"/>
                <a:chOff x="7406280" y="871560"/>
                <a:chExt cx="1104840" cy="1092240"/>
              </a:xfrm>
            </p:grpSpPr>
            <p:sp>
              <p:nvSpPr>
                <p:cNvPr id="175" name="Oval 57"/>
                <p:cNvSpPr/>
                <p:nvPr/>
              </p:nvSpPr>
              <p:spPr>
                <a:xfrm rot="14765400">
                  <a:off x="7540560" y="119340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8"/>
                <p:cNvSpPr/>
                <p:nvPr/>
              </p:nvSpPr>
              <p:spPr>
                <a:xfrm rot="10445400">
                  <a:off x="7824240" y="1394280"/>
                  <a:ext cx="392760" cy="550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9"/>
                <p:cNvSpPr/>
                <p:nvPr/>
              </p:nvSpPr>
              <p:spPr>
                <a:xfrm rot="19085400">
                  <a:off x="7591320" y="94968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0"/>
                <p:cNvSpPr/>
                <p:nvPr/>
              </p:nvSpPr>
              <p:spPr>
                <a:xfrm rot="1805400">
                  <a:off x="7873920" y="93276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1"/>
                <p:cNvSpPr/>
                <p:nvPr/>
              </p:nvSpPr>
              <p:spPr>
                <a:xfrm rot="6125400">
                  <a:off x="8004240" y="120528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62"/>
              <p:cNvGrpSpPr/>
              <p:nvPr/>
            </p:nvGrpSpPr>
            <p:grpSpPr>
              <a:xfrm>
                <a:off x="7453440" y="916560"/>
                <a:ext cx="1013760" cy="1001520"/>
                <a:chOff x="7453440" y="916560"/>
                <a:chExt cx="1013760" cy="1001520"/>
              </a:xfrm>
            </p:grpSpPr>
            <p:sp>
              <p:nvSpPr>
                <p:cNvPr id="181" name="Oval 63"/>
                <p:cNvSpPr/>
                <p:nvPr/>
              </p:nvSpPr>
              <p:spPr>
                <a:xfrm rot="14765400">
                  <a:off x="7576920" y="121212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4"/>
                <p:cNvSpPr/>
                <p:nvPr/>
              </p:nvSpPr>
              <p:spPr>
                <a:xfrm rot="10445400">
                  <a:off x="7837560" y="1395720"/>
                  <a:ext cx="360000" cy="50508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5"/>
                <p:cNvSpPr/>
                <p:nvPr/>
              </p:nvSpPr>
              <p:spPr>
                <a:xfrm rot="19085400">
                  <a:off x="7623360" y="98856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6"/>
                <p:cNvSpPr/>
                <p:nvPr/>
              </p:nvSpPr>
              <p:spPr>
                <a:xfrm rot="1805400">
                  <a:off x="7882560" y="97272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67"/>
                <p:cNvSpPr/>
                <p:nvPr/>
              </p:nvSpPr>
              <p:spPr>
                <a:xfrm rot="6125400">
                  <a:off x="8002440" y="122292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Oval 68"/>
              <p:cNvSpPr/>
              <p:nvPr/>
            </p:nvSpPr>
            <p:spPr>
              <a:xfrm rot="1805400">
                <a:off x="7859160" y="1276920"/>
                <a:ext cx="217440" cy="2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69"/>
            <p:cNvSpPr/>
            <p:nvPr/>
          </p:nvSpPr>
          <p:spPr>
            <a:xfrm>
              <a:off x="7236000" y="105264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山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70"/>
          <p:cNvGrpSpPr/>
          <p:nvPr/>
        </p:nvGrpSpPr>
        <p:grpSpPr>
          <a:xfrm>
            <a:off x="1692360" y="3106800"/>
            <a:ext cx="1558800" cy="1100160"/>
            <a:chOff x="1692360" y="3106800"/>
            <a:chExt cx="1558800" cy="1100160"/>
          </a:xfrm>
        </p:grpSpPr>
        <p:grpSp>
          <p:nvGrpSpPr>
            <p:cNvPr id="189" name="Group 71"/>
            <p:cNvGrpSpPr/>
            <p:nvPr/>
          </p:nvGrpSpPr>
          <p:grpSpPr>
            <a:xfrm>
              <a:off x="1793880" y="3106800"/>
              <a:ext cx="1092960" cy="1100160"/>
              <a:chOff x="1793880" y="3106800"/>
              <a:chExt cx="1092960" cy="1100160"/>
            </a:xfrm>
          </p:grpSpPr>
          <p:grpSp>
            <p:nvGrpSpPr>
              <p:cNvPr id="190" name="Group 72"/>
              <p:cNvGrpSpPr/>
              <p:nvPr/>
            </p:nvGrpSpPr>
            <p:grpSpPr>
              <a:xfrm>
                <a:off x="1793880" y="3106800"/>
                <a:ext cx="1092960" cy="1100160"/>
                <a:chOff x="1793880" y="3106800"/>
                <a:chExt cx="1092960" cy="1100160"/>
              </a:xfrm>
            </p:grpSpPr>
            <p:sp>
              <p:nvSpPr>
                <p:cNvPr id="191" name="Oval 73"/>
                <p:cNvSpPr/>
                <p:nvPr/>
              </p:nvSpPr>
              <p:spPr>
                <a:xfrm rot="13807800">
                  <a:off x="1953720" y="3488400"/>
                  <a:ext cx="39240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74"/>
                <p:cNvSpPr/>
                <p:nvPr/>
              </p:nvSpPr>
              <p:spPr>
                <a:xfrm rot="9487800">
                  <a:off x="2281680" y="3603240"/>
                  <a:ext cx="39240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75"/>
                <p:cNvSpPr/>
                <p:nvPr/>
              </p:nvSpPr>
              <p:spPr>
                <a:xfrm rot="18127800">
                  <a:off x="1934640" y="324036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76"/>
                <p:cNvSpPr/>
                <p:nvPr/>
              </p:nvSpPr>
              <p:spPr>
                <a:xfrm rot="847800">
                  <a:off x="2202120" y="3146040"/>
                  <a:ext cx="39240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77"/>
                <p:cNvSpPr/>
                <p:nvPr/>
              </p:nvSpPr>
              <p:spPr>
                <a:xfrm rot="5167800">
                  <a:off x="2402640" y="337248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78"/>
              <p:cNvGrpSpPr/>
              <p:nvPr/>
            </p:nvGrpSpPr>
            <p:grpSpPr>
              <a:xfrm>
                <a:off x="1841400" y="3151080"/>
                <a:ext cx="1001520" cy="1009080"/>
                <a:chOff x="1841400" y="3151080"/>
                <a:chExt cx="1001520" cy="1009080"/>
              </a:xfrm>
            </p:grpSpPr>
            <p:sp>
              <p:nvSpPr>
                <p:cNvPr id="197" name="Oval 79"/>
                <p:cNvSpPr/>
                <p:nvPr/>
              </p:nvSpPr>
              <p:spPr>
                <a:xfrm rot="13807800">
                  <a:off x="1987920" y="350064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0"/>
                <p:cNvSpPr/>
                <p:nvPr/>
              </p:nvSpPr>
              <p:spPr>
                <a:xfrm rot="9487800">
                  <a:off x="2288520" y="360612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1"/>
                <p:cNvSpPr/>
                <p:nvPr/>
              </p:nvSpPr>
              <p:spPr>
                <a:xfrm rot="18127800">
                  <a:off x="1970640" y="327348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2"/>
                <p:cNvSpPr/>
                <p:nvPr/>
              </p:nvSpPr>
              <p:spPr>
                <a:xfrm rot="847800">
                  <a:off x="2215440" y="318708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3"/>
                <p:cNvSpPr/>
                <p:nvPr/>
              </p:nvSpPr>
              <p:spPr>
                <a:xfrm rot="5167800">
                  <a:off x="2399040" y="339444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Oval 84"/>
              <p:cNvSpPr/>
              <p:nvPr/>
            </p:nvSpPr>
            <p:spPr>
              <a:xfrm rot="847800">
                <a:off x="2239920" y="3511440"/>
                <a:ext cx="217080" cy="21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Rectangle 85"/>
            <p:cNvSpPr/>
            <p:nvPr/>
          </p:nvSpPr>
          <p:spPr>
            <a:xfrm>
              <a:off x="1692360" y="3213000"/>
              <a:ext cx="155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播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86"/>
          <p:cNvGrpSpPr/>
          <p:nvPr/>
        </p:nvGrpSpPr>
        <p:grpSpPr>
          <a:xfrm>
            <a:off x="181080" y="3933720"/>
            <a:ext cx="1726920" cy="1037520"/>
            <a:chOff x="181080" y="3933720"/>
            <a:chExt cx="1726920" cy="1037520"/>
          </a:xfrm>
        </p:grpSpPr>
        <p:grpSp>
          <p:nvGrpSpPr>
            <p:cNvPr id="205" name="Group 87"/>
            <p:cNvGrpSpPr/>
            <p:nvPr/>
          </p:nvGrpSpPr>
          <p:grpSpPr>
            <a:xfrm>
              <a:off x="348120" y="3933720"/>
              <a:ext cx="1130400" cy="1037520"/>
              <a:chOff x="348120" y="3933720"/>
              <a:chExt cx="1130400" cy="1037520"/>
            </a:xfrm>
          </p:grpSpPr>
          <p:grpSp>
            <p:nvGrpSpPr>
              <p:cNvPr id="206" name="Group 88"/>
              <p:cNvGrpSpPr/>
              <p:nvPr/>
            </p:nvGrpSpPr>
            <p:grpSpPr>
              <a:xfrm>
                <a:off x="348120" y="3933720"/>
                <a:ext cx="1130400" cy="1037520"/>
                <a:chOff x="348120" y="3933720"/>
                <a:chExt cx="1130400" cy="1037520"/>
              </a:xfrm>
            </p:grpSpPr>
            <p:sp>
              <p:nvSpPr>
                <p:cNvPr id="207" name="Oval 89"/>
                <p:cNvSpPr/>
                <p:nvPr/>
              </p:nvSpPr>
              <p:spPr>
                <a:xfrm rot="12960000">
                  <a:off x="552600" y="432612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0"/>
                <p:cNvSpPr/>
                <p:nvPr/>
              </p:nvSpPr>
              <p:spPr>
                <a:xfrm rot="8640000">
                  <a:off x="898560" y="4357440"/>
                  <a:ext cx="392760" cy="550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1"/>
                <p:cNvSpPr/>
                <p:nvPr/>
              </p:nvSpPr>
              <p:spPr>
                <a:xfrm rot="17280000">
                  <a:off x="474120" y="408960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2"/>
                <p:cNvSpPr/>
                <p:nvPr/>
              </p:nvSpPr>
              <p:spPr>
                <a:xfrm>
                  <a:off x="710280" y="393372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3"/>
                <p:cNvSpPr/>
                <p:nvPr/>
              </p:nvSpPr>
              <p:spPr>
                <a:xfrm rot="4320000">
                  <a:off x="959400" y="410400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94"/>
              <p:cNvGrpSpPr/>
              <p:nvPr/>
            </p:nvGrpSpPr>
            <p:grpSpPr>
              <a:xfrm>
                <a:off x="396720" y="3975120"/>
                <a:ext cx="1036800" cy="951120"/>
                <a:chOff x="396720" y="3975120"/>
                <a:chExt cx="1036800" cy="951120"/>
              </a:xfrm>
            </p:grpSpPr>
            <p:sp>
              <p:nvSpPr>
                <p:cNvPr id="213" name="Oval 95"/>
                <p:cNvSpPr/>
                <p:nvPr/>
              </p:nvSpPr>
              <p:spPr>
                <a:xfrm rot="12960000">
                  <a:off x="583920" y="433512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6"/>
                <p:cNvSpPr/>
                <p:nvPr/>
              </p:nvSpPr>
              <p:spPr>
                <a:xfrm rot="8640000">
                  <a:off x="901800" y="4363200"/>
                  <a:ext cx="360000" cy="50508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97"/>
                <p:cNvSpPr/>
                <p:nvPr/>
              </p:nvSpPr>
              <p:spPr>
                <a:xfrm rot="17280000">
                  <a:off x="511920" y="411840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98"/>
                <p:cNvSpPr/>
                <p:nvPr/>
              </p:nvSpPr>
              <p:spPr>
                <a:xfrm>
                  <a:off x="728640" y="397512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99"/>
                <p:cNvSpPr/>
                <p:nvPr/>
              </p:nvSpPr>
              <p:spPr>
                <a:xfrm rot="4320000">
                  <a:off x="957600" y="413136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Oval 100"/>
              <p:cNvSpPr/>
              <p:nvPr/>
            </p:nvSpPr>
            <p:spPr>
              <a:xfrm>
                <a:off x="798480" y="4305240"/>
                <a:ext cx="217440" cy="2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Rectangle 101"/>
            <p:cNvSpPr/>
            <p:nvPr/>
          </p:nvSpPr>
          <p:spPr>
            <a:xfrm>
              <a:off x="181080" y="4076640"/>
              <a:ext cx="172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座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02"/>
          <p:cNvGrpSpPr/>
          <p:nvPr/>
        </p:nvGrpSpPr>
        <p:grpSpPr>
          <a:xfrm>
            <a:off x="3419640" y="4110120"/>
            <a:ext cx="1439640" cy="1036800"/>
            <a:chOff x="3419640" y="4110120"/>
            <a:chExt cx="1439640" cy="1036800"/>
          </a:xfrm>
        </p:grpSpPr>
        <p:grpSp>
          <p:nvGrpSpPr>
            <p:cNvPr id="221" name="Group 103"/>
            <p:cNvGrpSpPr/>
            <p:nvPr/>
          </p:nvGrpSpPr>
          <p:grpSpPr>
            <a:xfrm>
              <a:off x="3516840" y="4110120"/>
              <a:ext cx="1130400" cy="1036800"/>
              <a:chOff x="3516840" y="4110120"/>
              <a:chExt cx="1130400" cy="1036800"/>
            </a:xfrm>
          </p:grpSpPr>
          <p:grpSp>
            <p:nvGrpSpPr>
              <p:cNvPr id="222" name="Group 104"/>
              <p:cNvGrpSpPr/>
              <p:nvPr/>
            </p:nvGrpSpPr>
            <p:grpSpPr>
              <a:xfrm>
                <a:off x="3516840" y="4110120"/>
                <a:ext cx="1130400" cy="1036800"/>
                <a:chOff x="3516840" y="4110120"/>
                <a:chExt cx="1130400" cy="1036800"/>
              </a:xfrm>
            </p:grpSpPr>
            <p:sp>
              <p:nvSpPr>
                <p:cNvPr id="223" name="Oval 105"/>
                <p:cNvSpPr/>
                <p:nvPr/>
              </p:nvSpPr>
              <p:spPr>
                <a:xfrm rot="12960000">
                  <a:off x="3721680" y="4502520"/>
                  <a:ext cx="39240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106"/>
                <p:cNvSpPr/>
                <p:nvPr/>
              </p:nvSpPr>
              <p:spPr>
                <a:xfrm rot="8640000">
                  <a:off x="4067280" y="4533480"/>
                  <a:ext cx="39240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07"/>
                <p:cNvSpPr/>
                <p:nvPr/>
              </p:nvSpPr>
              <p:spPr>
                <a:xfrm rot="17280000">
                  <a:off x="3642480" y="426636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08"/>
                <p:cNvSpPr/>
                <p:nvPr/>
              </p:nvSpPr>
              <p:spPr>
                <a:xfrm>
                  <a:off x="3879000" y="4110120"/>
                  <a:ext cx="39240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09"/>
                <p:cNvSpPr/>
                <p:nvPr/>
              </p:nvSpPr>
              <p:spPr>
                <a:xfrm rot="4320000">
                  <a:off x="4128480" y="428040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110"/>
              <p:cNvGrpSpPr/>
              <p:nvPr/>
            </p:nvGrpSpPr>
            <p:grpSpPr>
              <a:xfrm>
                <a:off x="3565080" y="4151160"/>
                <a:ext cx="1036080" cy="950760"/>
                <a:chOff x="3565080" y="4151160"/>
                <a:chExt cx="1036080" cy="950760"/>
              </a:xfrm>
            </p:grpSpPr>
            <p:sp>
              <p:nvSpPr>
                <p:cNvPr id="229" name="Oval 111"/>
                <p:cNvSpPr/>
                <p:nvPr/>
              </p:nvSpPr>
              <p:spPr>
                <a:xfrm rot="12960000">
                  <a:off x="3752640" y="451044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2"/>
                <p:cNvSpPr/>
                <p:nvPr/>
              </p:nvSpPr>
              <p:spPr>
                <a:xfrm rot="8640000">
                  <a:off x="4070160" y="453924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3"/>
                <p:cNvSpPr/>
                <p:nvPr/>
              </p:nvSpPr>
              <p:spPr>
                <a:xfrm rot="17280000">
                  <a:off x="3680280" y="429444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4"/>
                <p:cNvSpPr/>
                <p:nvPr/>
              </p:nvSpPr>
              <p:spPr>
                <a:xfrm>
                  <a:off x="3897000" y="415116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5"/>
                <p:cNvSpPr/>
                <p:nvPr/>
              </p:nvSpPr>
              <p:spPr>
                <a:xfrm rot="4320000">
                  <a:off x="4125600" y="430704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Oval 116"/>
              <p:cNvSpPr/>
              <p:nvPr/>
            </p:nvSpPr>
            <p:spPr>
              <a:xfrm>
                <a:off x="3966840" y="4481280"/>
                <a:ext cx="217080" cy="21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Rectangle 117"/>
            <p:cNvSpPr/>
            <p:nvPr/>
          </p:nvSpPr>
          <p:spPr>
            <a:xfrm>
              <a:off x="3419640" y="425304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农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18"/>
          <p:cNvGrpSpPr/>
          <p:nvPr/>
        </p:nvGrpSpPr>
        <p:grpSpPr>
          <a:xfrm>
            <a:off x="4773600" y="2852280"/>
            <a:ext cx="1441440" cy="1065600"/>
            <a:chOff x="4773600" y="2852280"/>
            <a:chExt cx="1441440" cy="1065600"/>
          </a:xfrm>
        </p:grpSpPr>
        <p:grpSp>
          <p:nvGrpSpPr>
            <p:cNvPr id="237" name="Group 119"/>
            <p:cNvGrpSpPr/>
            <p:nvPr/>
          </p:nvGrpSpPr>
          <p:grpSpPr>
            <a:xfrm>
              <a:off x="4921920" y="2852280"/>
              <a:ext cx="1100880" cy="1065600"/>
              <a:chOff x="4921920" y="2852280"/>
              <a:chExt cx="1100880" cy="1065600"/>
            </a:xfrm>
          </p:grpSpPr>
          <p:grpSp>
            <p:nvGrpSpPr>
              <p:cNvPr id="238" name="Group 120"/>
              <p:cNvGrpSpPr/>
              <p:nvPr/>
            </p:nvGrpSpPr>
            <p:grpSpPr>
              <a:xfrm>
                <a:off x="4921920" y="2852280"/>
                <a:ext cx="1100880" cy="1065600"/>
                <a:chOff x="4921920" y="2852280"/>
                <a:chExt cx="1100880" cy="1065600"/>
              </a:xfrm>
            </p:grpSpPr>
            <p:sp>
              <p:nvSpPr>
                <p:cNvPr id="239" name="Oval 121"/>
                <p:cNvSpPr/>
                <p:nvPr/>
              </p:nvSpPr>
              <p:spPr>
                <a:xfrm rot="11963400">
                  <a:off x="5148000" y="331812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2"/>
                <p:cNvSpPr/>
                <p:nvPr/>
              </p:nvSpPr>
              <p:spPr>
                <a:xfrm rot="7643400">
                  <a:off x="5488200" y="324900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3"/>
                <p:cNvSpPr/>
                <p:nvPr/>
              </p:nvSpPr>
              <p:spPr>
                <a:xfrm rot="16283400">
                  <a:off x="5005440" y="311400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4"/>
                <p:cNvSpPr/>
                <p:nvPr/>
              </p:nvSpPr>
              <p:spPr>
                <a:xfrm rot="20603400">
                  <a:off x="5186880" y="289692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5"/>
                <p:cNvSpPr/>
                <p:nvPr/>
              </p:nvSpPr>
              <p:spPr>
                <a:xfrm rot="3323400">
                  <a:off x="5474880" y="298872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26"/>
              <p:cNvGrpSpPr/>
              <p:nvPr/>
            </p:nvGrpSpPr>
            <p:grpSpPr>
              <a:xfrm>
                <a:off x="4967640" y="2895840"/>
                <a:ext cx="1009800" cy="976680"/>
                <a:chOff x="4967640" y="2895840"/>
                <a:chExt cx="1009800" cy="976680"/>
              </a:xfrm>
            </p:grpSpPr>
            <p:sp>
              <p:nvSpPr>
                <p:cNvPr id="245" name="Oval 127"/>
                <p:cNvSpPr/>
                <p:nvPr/>
              </p:nvSpPr>
              <p:spPr>
                <a:xfrm rot="11963400">
                  <a:off x="5174640" y="332244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Oval 128"/>
                <p:cNvSpPr/>
                <p:nvPr/>
              </p:nvSpPr>
              <p:spPr>
                <a:xfrm rot="7643400">
                  <a:off x="5487480" y="325908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129"/>
                <p:cNvSpPr/>
                <p:nvPr/>
              </p:nvSpPr>
              <p:spPr>
                <a:xfrm rot="16283400">
                  <a:off x="5043960" y="313596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130"/>
                <p:cNvSpPr/>
                <p:nvPr/>
              </p:nvSpPr>
              <p:spPr>
                <a:xfrm rot="20603400">
                  <a:off x="5210280" y="293652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131"/>
                <p:cNvSpPr/>
                <p:nvPr/>
              </p:nvSpPr>
              <p:spPr>
                <a:xfrm rot="3323400">
                  <a:off x="5474880" y="302040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Oval 132"/>
              <p:cNvSpPr/>
              <p:nvPr/>
            </p:nvSpPr>
            <p:spPr>
              <a:xfrm rot="20603400">
                <a:off x="5333400" y="3259440"/>
                <a:ext cx="217440" cy="21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133"/>
            <p:cNvSpPr/>
            <p:nvPr/>
          </p:nvSpPr>
          <p:spPr>
            <a:xfrm>
              <a:off x="4773600" y="3030480"/>
              <a:ext cx="144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燕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34"/>
          <p:cNvGrpSpPr/>
          <p:nvPr/>
        </p:nvGrpSpPr>
        <p:grpSpPr>
          <a:xfrm>
            <a:off x="6445080" y="2363760"/>
            <a:ext cx="1440000" cy="1041120"/>
            <a:chOff x="6445080" y="2363760"/>
            <a:chExt cx="1440000" cy="1041120"/>
          </a:xfrm>
        </p:grpSpPr>
        <p:grpSp>
          <p:nvGrpSpPr>
            <p:cNvPr id="253" name="Group 135"/>
            <p:cNvGrpSpPr/>
            <p:nvPr/>
          </p:nvGrpSpPr>
          <p:grpSpPr>
            <a:xfrm>
              <a:off x="6550560" y="2363760"/>
              <a:ext cx="1123920" cy="1041120"/>
              <a:chOff x="6550560" y="2363760"/>
              <a:chExt cx="1123920" cy="1041120"/>
            </a:xfrm>
          </p:grpSpPr>
          <p:grpSp>
            <p:nvGrpSpPr>
              <p:cNvPr id="254" name="Group 136"/>
              <p:cNvGrpSpPr/>
              <p:nvPr/>
            </p:nvGrpSpPr>
            <p:grpSpPr>
              <a:xfrm>
                <a:off x="6550560" y="2363760"/>
                <a:ext cx="1123920" cy="1041120"/>
                <a:chOff x="6550560" y="2363760"/>
                <a:chExt cx="1123920" cy="1041120"/>
              </a:xfrm>
            </p:grpSpPr>
            <p:sp>
              <p:nvSpPr>
                <p:cNvPr id="255" name="Oval 137"/>
                <p:cNvSpPr/>
                <p:nvPr/>
              </p:nvSpPr>
              <p:spPr>
                <a:xfrm rot="12545400">
                  <a:off x="6768360" y="279396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38"/>
                <p:cNvSpPr/>
                <p:nvPr/>
              </p:nvSpPr>
              <p:spPr>
                <a:xfrm rot="8224800">
                  <a:off x="7115760" y="2783160"/>
                  <a:ext cx="392760" cy="550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39"/>
                <p:cNvSpPr/>
                <p:nvPr/>
              </p:nvSpPr>
              <p:spPr>
                <a:xfrm rot="16864800">
                  <a:off x="6661800" y="256860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0"/>
                <p:cNvSpPr/>
                <p:nvPr/>
              </p:nvSpPr>
              <p:spPr>
                <a:xfrm rot="21184800">
                  <a:off x="6877440" y="238500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1"/>
                <p:cNvSpPr/>
                <p:nvPr/>
              </p:nvSpPr>
              <p:spPr>
                <a:xfrm rot="3904800">
                  <a:off x="7145640" y="2524320"/>
                  <a:ext cx="39276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142"/>
              <p:cNvGrpSpPr/>
              <p:nvPr/>
            </p:nvGrpSpPr>
            <p:grpSpPr>
              <a:xfrm>
                <a:off x="6598440" y="2406600"/>
                <a:ext cx="1031040" cy="955080"/>
                <a:chOff x="6598440" y="2406600"/>
                <a:chExt cx="1031040" cy="955080"/>
              </a:xfrm>
            </p:grpSpPr>
            <p:sp>
              <p:nvSpPr>
                <p:cNvPr id="261" name="Oval 143"/>
                <p:cNvSpPr/>
                <p:nvPr/>
              </p:nvSpPr>
              <p:spPr>
                <a:xfrm rot="12545400">
                  <a:off x="6797880" y="280116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4"/>
                <p:cNvSpPr/>
                <p:nvPr/>
              </p:nvSpPr>
              <p:spPr>
                <a:xfrm rot="8224800">
                  <a:off x="7116840" y="2790720"/>
                  <a:ext cx="360000" cy="50508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5"/>
                <p:cNvSpPr/>
                <p:nvPr/>
              </p:nvSpPr>
              <p:spPr>
                <a:xfrm rot="16864800">
                  <a:off x="6700320" y="259452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6"/>
                <p:cNvSpPr/>
                <p:nvPr/>
              </p:nvSpPr>
              <p:spPr>
                <a:xfrm rot="21184800">
                  <a:off x="6897600" y="242604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47"/>
                <p:cNvSpPr/>
                <p:nvPr/>
              </p:nvSpPr>
              <p:spPr>
                <a:xfrm rot="3904800">
                  <a:off x="7144200" y="2553840"/>
                  <a:ext cx="36036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48"/>
              <p:cNvSpPr/>
              <p:nvPr/>
            </p:nvSpPr>
            <p:spPr>
              <a:xfrm rot="21184800">
                <a:off x="6990480" y="2755080"/>
                <a:ext cx="217440" cy="2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149"/>
            <p:cNvSpPr/>
            <p:nvPr/>
          </p:nvSpPr>
          <p:spPr>
            <a:xfrm>
              <a:off x="6445080" y="2527200"/>
              <a:ext cx="14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对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50"/>
          <p:cNvGrpSpPr/>
          <p:nvPr/>
        </p:nvGrpSpPr>
        <p:grpSpPr>
          <a:xfrm>
            <a:off x="6588000" y="4686480"/>
            <a:ext cx="1414440" cy="1036800"/>
            <a:chOff x="6588000" y="4686480"/>
            <a:chExt cx="1414440" cy="1036800"/>
          </a:xfrm>
        </p:grpSpPr>
        <p:grpSp>
          <p:nvGrpSpPr>
            <p:cNvPr id="269" name="Group 151"/>
            <p:cNvGrpSpPr/>
            <p:nvPr/>
          </p:nvGrpSpPr>
          <p:grpSpPr>
            <a:xfrm>
              <a:off x="6685560" y="4686480"/>
              <a:ext cx="1130400" cy="1036800"/>
              <a:chOff x="6685560" y="4686480"/>
              <a:chExt cx="1130400" cy="1036800"/>
            </a:xfrm>
          </p:grpSpPr>
          <p:grpSp>
            <p:nvGrpSpPr>
              <p:cNvPr id="270" name="Group 152"/>
              <p:cNvGrpSpPr/>
              <p:nvPr/>
            </p:nvGrpSpPr>
            <p:grpSpPr>
              <a:xfrm>
                <a:off x="6685560" y="4686480"/>
                <a:ext cx="1130400" cy="1036800"/>
                <a:chOff x="6685560" y="4686480"/>
                <a:chExt cx="1130400" cy="1036800"/>
              </a:xfrm>
            </p:grpSpPr>
            <p:sp>
              <p:nvSpPr>
                <p:cNvPr id="271" name="Oval 153"/>
                <p:cNvSpPr/>
                <p:nvPr/>
              </p:nvSpPr>
              <p:spPr>
                <a:xfrm rot="12960000">
                  <a:off x="6890400" y="5078880"/>
                  <a:ext cx="39240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4"/>
                <p:cNvSpPr/>
                <p:nvPr/>
              </p:nvSpPr>
              <p:spPr>
                <a:xfrm rot="8640000">
                  <a:off x="7236000" y="5109840"/>
                  <a:ext cx="392400" cy="55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55"/>
                <p:cNvSpPr/>
                <p:nvPr/>
              </p:nvSpPr>
              <p:spPr>
                <a:xfrm rot="17280000">
                  <a:off x="6811200" y="484272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56"/>
                <p:cNvSpPr/>
                <p:nvPr/>
              </p:nvSpPr>
              <p:spPr>
                <a:xfrm>
                  <a:off x="7047720" y="4686480"/>
                  <a:ext cx="39240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157"/>
                <p:cNvSpPr/>
                <p:nvPr/>
              </p:nvSpPr>
              <p:spPr>
                <a:xfrm rot="4320000">
                  <a:off x="7297200" y="4856760"/>
                  <a:ext cx="392760" cy="550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158"/>
              <p:cNvGrpSpPr/>
              <p:nvPr/>
            </p:nvGrpSpPr>
            <p:grpSpPr>
              <a:xfrm>
                <a:off x="6733800" y="4727520"/>
                <a:ext cx="1036080" cy="950760"/>
                <a:chOff x="6733800" y="4727520"/>
                <a:chExt cx="1036080" cy="950760"/>
              </a:xfrm>
            </p:grpSpPr>
            <p:sp>
              <p:nvSpPr>
                <p:cNvPr id="277" name="Oval 159"/>
                <p:cNvSpPr/>
                <p:nvPr/>
              </p:nvSpPr>
              <p:spPr>
                <a:xfrm rot="12960000">
                  <a:off x="6921360" y="508680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160"/>
                <p:cNvSpPr/>
                <p:nvPr/>
              </p:nvSpPr>
              <p:spPr>
                <a:xfrm rot="8640000">
                  <a:off x="7238880" y="5115600"/>
                  <a:ext cx="360000" cy="50472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161"/>
                <p:cNvSpPr/>
                <p:nvPr/>
              </p:nvSpPr>
              <p:spPr>
                <a:xfrm rot="17280000">
                  <a:off x="6849000" y="487080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2"/>
                <p:cNvSpPr/>
                <p:nvPr/>
              </p:nvSpPr>
              <p:spPr>
                <a:xfrm>
                  <a:off x="7065720" y="472752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3"/>
                <p:cNvSpPr/>
                <p:nvPr/>
              </p:nvSpPr>
              <p:spPr>
                <a:xfrm rot="4320000">
                  <a:off x="7294320" y="4883400"/>
                  <a:ext cx="360000" cy="504360"/>
                </a:xfrm>
                <a:prstGeom prst="ellips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Oval 164"/>
              <p:cNvSpPr/>
              <p:nvPr/>
            </p:nvSpPr>
            <p:spPr>
              <a:xfrm>
                <a:off x="7135560" y="5057640"/>
                <a:ext cx="217080" cy="21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165"/>
            <p:cNvSpPr/>
            <p:nvPr/>
          </p:nvSpPr>
          <p:spPr>
            <a:xfrm>
              <a:off x="6588000" y="4830840"/>
              <a:ext cx="141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图画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提土旁"/>
          <p:cNvPicPr/>
          <p:nvPr/>
        </p:nvPicPr>
        <p:blipFill>
          <a:blip r:embed="rId4"/>
          <a:stretch/>
        </p:blipFill>
        <p:spPr>
          <a:xfrm>
            <a:off x="3780000" y="549360"/>
            <a:ext cx="1285560" cy="215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坡"/>
          <p:cNvPicPr/>
          <p:nvPr/>
        </p:nvPicPr>
        <p:blipFill>
          <a:blip r:embed="rId5"/>
          <a:stretch/>
        </p:blipFill>
        <p:spPr>
          <a:xfrm>
            <a:off x="468360" y="3452760"/>
            <a:ext cx="2521080" cy="2344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提土旁"/>
          <p:cNvPicPr/>
          <p:nvPr/>
        </p:nvPicPr>
        <p:blipFill>
          <a:blip r:embed="rId6"/>
          <a:stretch/>
        </p:blipFill>
        <p:spPr>
          <a:xfrm>
            <a:off x="468360" y="3584520"/>
            <a:ext cx="1076400" cy="1801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地"/>
          <p:cNvPicPr/>
          <p:nvPr/>
        </p:nvPicPr>
        <p:blipFill>
          <a:blip r:embed="rId7"/>
          <a:stretch/>
        </p:blipFill>
        <p:spPr>
          <a:xfrm>
            <a:off x="3419640" y="3382920"/>
            <a:ext cx="2527200" cy="2351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提土旁"/>
          <p:cNvPicPr/>
          <p:nvPr/>
        </p:nvPicPr>
        <p:blipFill>
          <a:blip r:embed="rId8"/>
          <a:stretch/>
        </p:blipFill>
        <p:spPr>
          <a:xfrm>
            <a:off x="3433680" y="3627360"/>
            <a:ext cx="1079640" cy="1808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场"/>
          <p:cNvPicPr/>
          <p:nvPr/>
        </p:nvPicPr>
        <p:blipFill>
          <a:blip r:embed="rId9"/>
          <a:stretch/>
        </p:blipFill>
        <p:spPr>
          <a:xfrm>
            <a:off x="6221520" y="3382920"/>
            <a:ext cx="2527200" cy="2351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提土旁"/>
          <p:cNvPicPr/>
          <p:nvPr/>
        </p:nvPicPr>
        <p:blipFill>
          <a:blip r:embed="rId10"/>
          <a:stretch/>
        </p:blipFill>
        <p:spPr>
          <a:xfrm>
            <a:off x="6365880" y="3470400"/>
            <a:ext cx="1079640" cy="1807920"/>
          </a:xfrm>
          <a:prstGeom prst="rect">
            <a:avLst/>
          </a:prstGeom>
          <a:ln w="0">
            <a:noFill/>
          </a:ln>
        </p:spPr>
      </p:pic>
      <p:sp>
        <p:nvSpPr>
          <p:cNvPr id="294" name="Line 12"/>
          <p:cNvSpPr/>
          <p:nvPr/>
        </p:nvSpPr>
        <p:spPr>
          <a:xfrm flipH="1">
            <a:off x="2195280" y="2708280"/>
            <a:ext cx="1655640" cy="576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4500720" y="27082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4932360" y="2637000"/>
            <a:ext cx="2160720" cy="647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1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2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3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4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5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468360" y="476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一学   描一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6"/>
          <p:cNvGrpSpPr/>
          <p:nvPr/>
        </p:nvGrpSpPr>
        <p:grpSpPr>
          <a:xfrm>
            <a:off x="1692360" y="1125360"/>
            <a:ext cx="1942920" cy="2227320"/>
            <a:chOff x="1692360" y="1125360"/>
            <a:chExt cx="1942920" cy="2227320"/>
          </a:xfrm>
        </p:grpSpPr>
        <p:pic>
          <p:nvPicPr>
            <p:cNvPr id="302" name="Picture 7" descr="田字格"/>
            <p:cNvPicPr/>
            <p:nvPr/>
          </p:nvPicPr>
          <p:blipFill>
            <a:blip r:embed="rId4"/>
            <a:stretch/>
          </p:blipFill>
          <p:spPr>
            <a:xfrm>
              <a:off x="1692360" y="1324080"/>
              <a:ext cx="1942920" cy="19429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03" name="Text Box 8"/>
            <p:cNvSpPr/>
            <p:nvPr/>
          </p:nvSpPr>
          <p:spPr>
            <a:xfrm>
              <a:off x="2041560" y="112536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坡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"/>
          <p:cNvGrpSpPr/>
          <p:nvPr/>
        </p:nvGrpSpPr>
        <p:grpSpPr>
          <a:xfrm>
            <a:off x="5508720" y="1014480"/>
            <a:ext cx="1942920" cy="2232000"/>
            <a:chOff x="5508720" y="1014480"/>
            <a:chExt cx="1942920" cy="2232000"/>
          </a:xfrm>
        </p:grpSpPr>
        <p:pic>
          <p:nvPicPr>
            <p:cNvPr id="305" name="Picture 10" descr="田字格"/>
            <p:cNvPicPr/>
            <p:nvPr/>
          </p:nvPicPr>
          <p:blipFill>
            <a:blip r:embed="rId5"/>
            <a:stretch/>
          </p:blipFill>
          <p:spPr>
            <a:xfrm>
              <a:off x="5508720" y="1303200"/>
              <a:ext cx="1942920" cy="194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06" name="Text Box 11"/>
            <p:cNvSpPr/>
            <p:nvPr/>
          </p:nvSpPr>
          <p:spPr>
            <a:xfrm>
              <a:off x="5869080" y="101448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图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2"/>
          <p:cNvGrpSpPr/>
          <p:nvPr/>
        </p:nvGrpSpPr>
        <p:grpSpPr>
          <a:xfrm>
            <a:off x="1692360" y="3646440"/>
            <a:ext cx="1943280" cy="2230560"/>
            <a:chOff x="1692360" y="3646440"/>
            <a:chExt cx="1943280" cy="2230560"/>
          </a:xfrm>
        </p:grpSpPr>
        <p:pic>
          <p:nvPicPr>
            <p:cNvPr id="308" name="Picture 13" descr="田字格"/>
            <p:cNvPicPr/>
            <p:nvPr/>
          </p:nvPicPr>
          <p:blipFill>
            <a:blip r:embed="rId6"/>
            <a:stretch/>
          </p:blipFill>
          <p:spPr>
            <a:xfrm>
              <a:off x="1692360" y="3933720"/>
              <a:ext cx="1943280" cy="194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09" name="Text Box 14"/>
            <p:cNvSpPr/>
            <p:nvPr/>
          </p:nvSpPr>
          <p:spPr>
            <a:xfrm>
              <a:off x="2052720" y="364644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种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5"/>
          <p:cNvGrpSpPr/>
          <p:nvPr/>
        </p:nvGrpSpPr>
        <p:grpSpPr>
          <a:xfrm>
            <a:off x="5508720" y="3651120"/>
            <a:ext cx="1942920" cy="2227320"/>
            <a:chOff x="5508720" y="3651120"/>
            <a:chExt cx="1942920" cy="2227320"/>
          </a:xfrm>
        </p:grpSpPr>
        <p:pic>
          <p:nvPicPr>
            <p:cNvPr id="311" name="Picture 16" descr="田字格"/>
            <p:cNvPicPr/>
            <p:nvPr/>
          </p:nvPicPr>
          <p:blipFill>
            <a:blip r:embed="rId7"/>
            <a:stretch/>
          </p:blipFill>
          <p:spPr>
            <a:xfrm>
              <a:off x="5508720" y="3933720"/>
              <a:ext cx="1942920" cy="194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12" name="Text Box 17"/>
            <p:cNvSpPr/>
            <p:nvPr/>
          </p:nvSpPr>
          <p:spPr>
            <a:xfrm>
              <a:off x="5869080" y="365112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植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851415274163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2093040" y="1539360"/>
            <a:ext cx="51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沙沙，春雨沙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沙沙的春雨，像千万条丝线飘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1836720" y="2781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2341440" y="2781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286160" y="2781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4789440" y="2781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738180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324000" y="104940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395280" y="2576520"/>
            <a:ext cx="856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读读生字、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正确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add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49360"/>
            <a:ext cx="83808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395280" y="2138760"/>
            <a:ext cx="856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语言实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用自己的话说说课文向大家介绍了哪些春雨中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"/>
          <p:cNvSpPr/>
          <p:nvPr/>
        </p:nvSpPr>
        <p:spPr>
          <a:xfrm>
            <a:off x="857160" y="5035680"/>
            <a:ext cx="70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9FC-F279-4F63-8221-37E5819A3F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ai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春图2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5942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一幅美丽的春天图画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2360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燕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828800" y="3351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405080" y="6195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858000" y="2132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</a:t>
            </a:r>
            <a:r>
              <a:rPr b="1" lang="zh-CN" sz="3600" spc="-1" strike="noStrike">
                <a:solidFill>
                  <a:srgbClr val="ff0505"/>
                </a:solidFill>
                <a:latin typeface="Times New Roman"/>
              </a:rPr>
              <a:t>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284720" y="3434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播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987640" y="3572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</a:t>
            </a:r>
            <a:r>
              <a:rPr b="1" lang="zh-CN" sz="3600" spc="-1" strike="noStrike">
                <a:solidFill>
                  <a:srgbClr val="ff0505"/>
                </a:solidFill>
                <a:latin typeface="Times New Roman"/>
              </a:rPr>
              <a:t>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886200" y="1065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gif012"/>
          <p:cNvPicPr/>
          <p:nvPr/>
        </p:nvPicPr>
        <p:blipFill>
          <a:blip r:embed="rId3"/>
          <a:stretch/>
        </p:blipFill>
        <p:spPr>
          <a:xfrm>
            <a:off x="8001000" y="5334120"/>
            <a:ext cx="762120" cy="68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200736124856179"/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395280" y="1413000"/>
            <a:ext cx="577800" cy="726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200736124856179"/>
          <p:cNvPicPr/>
          <p:nvPr/>
        </p:nvPicPr>
        <p:blipFill>
          <a:blip r:embed="rId5"/>
          <a:stretch/>
        </p:blipFill>
        <p:spPr>
          <a:xfrm>
            <a:off x="755640" y="1413000"/>
            <a:ext cx="577800" cy="726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7"/>
          <p:cNvSpPr/>
          <p:nvPr/>
        </p:nvSpPr>
        <p:spPr>
          <a:xfrm>
            <a:off x="1042920" y="1197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娃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468360" y="4005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1619280" y="522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659640" y="836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356000" y="24271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桃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367000" y="1224000"/>
            <a:ext cx="4410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367000" y="1219320"/>
            <a:ext cx="4410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362320" y="1214280"/>
            <a:ext cx="44193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362320" y="1214280"/>
            <a:ext cx="44193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362320" y="1214280"/>
            <a:ext cx="44193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6:21:0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30:18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