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C0E3-E7BB-462C-8AC1-22030CF68D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B15-CF24-4188-A97C-D0F79AE1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25A-835F-4C2F-A33E-EA650FDD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035-9525-4C42-831A-B5F0C97B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EBD-33FD-4316-8F27-FCFD7C77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ECC3-0750-49C1-8D44-65ED51CB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E8F-B171-4C1A-AB0D-4628A5DF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411-CFA0-47EE-8B85-6ED248EC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876-8867-4D5F-9CE4-EA274625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62C-31AE-4D96-8CFD-866645BE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15B-5808-4E16-988C-C0C64F8C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8DE-5F2F-41E4-9A14-DE461E89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005-6FB5-4AAD-B284-CDA721CF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853C-7345-42BC-BFC0-797CA52C0A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811160" y="2492280"/>
            <a:ext cx="518508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多梦的季节</a:t>
            </a:r>
            <a:endParaRPr b="1" lang="en-US" sz="1800" spc="-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693440" y="6165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332000" y="25653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选择自己最喜欢的小节读一读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68360" y="692280"/>
            <a:ext cx="42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反复吟诵，体会意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116000" y="213372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作者用优美、生动的语言为我们描画了一个梦魇般的童年，表达了作者对童年时代的向往和快乐成长的眷恋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39640" y="765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042920" y="1989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每个人的童年生活是互不相同的。学过这首诗后，你是不是觉得这写的就是自己？我们每个人都有美好的童年，说说自己“一天天长大的童年”吧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9640" y="765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2340000" y="2276640"/>
            <a:ext cx="3508200" cy="21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D0CC-5226-4572-9B3F-46D1D972DD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2692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822240" y="2852640"/>
            <a:ext cx="748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．认识、会写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哼、繁、鹰、遨、曾、哗、旋、涡、谜、默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  <a:ea typeface="黑体"/>
              </a:rPr>
              <a:t>”</a:t>
            </a:r>
            <a:r>
              <a:rPr b="1" lang="en-US" sz="2000" spc="-1" strike="noStrike">
                <a:solidFill>
                  <a:srgbClr val="008000"/>
                </a:solidFill>
                <a:latin typeface="黑体"/>
                <a:ea typeface="黑体"/>
              </a:rPr>
              <a:t>10</a:t>
            </a:r>
            <a:r>
              <a:rPr b="1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个生字。联系课文理解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繁茂、遨游、旋涡、沉默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等词语的意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．练习正确、流利、有感情地朗读课文，背诵课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．理解诗歌所表达的深刻含义，体会成长的快乐与责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1571760" y="5780160"/>
            <a:ext cx="59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71640" y="981000"/>
            <a:ext cx="727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重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掌握生字的音、形、义，背诵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难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理解诗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沉默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多梦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含义，体会成长的快乐与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84360" y="83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生字学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258920" y="2205000"/>
            <a:ext cx="68421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哼   繁   鹰   遨   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哗   旋   涡   谜   默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0"/>
          <p:cNvSpPr/>
          <p:nvPr/>
        </p:nvSpPr>
        <p:spPr>
          <a:xfrm>
            <a:off x="2411280" y="34304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684360" y="76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词语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71640" y="1844640"/>
            <a:ext cx="568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繁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遨游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旋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沉默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763640" y="191628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草木）繁密茂盛：花木～ㄧ枝叶～，苍翠欲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908000" y="256536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漫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游历 。可指鱼在水中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类遨游太空等，也可指在知识的海洋中遨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407760" y="3213000"/>
            <a:ext cx="153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急速自旋的水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流体旋转时形成的螺旋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同半球旋转方向不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835280" y="3860640"/>
            <a:ext cx="58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说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言不发的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寡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爱交谈的。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了一会儿就继续说下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95280" y="692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初读课文，整体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68360" y="177336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自由读诗歌，借助拼音把生字读准，难读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词句多读几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快速浏览诗歌，说说这首诗共有几小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读了这首诗，你有什么感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68360" y="69228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自主读书，整体建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9640" y="1268280"/>
            <a:ext cx="748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了解诗歌的结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由诗歌，边读边想，这首诗在结构上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吟诵开头与结尾的两小节，体会这两小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表达的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很熟很熟的路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是指哪条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 你怎样理解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哼着一天天长大的童年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句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95280" y="692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读悟结合，走进文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4360" y="1268280"/>
            <a:ext cx="80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朗读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-4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节。（这次我们再读课文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除了用口念，还要用脑想，更重要的是用心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感受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想一想，各小节主要写了什么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合作学习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节，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 自由朗读课文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 用横线画出写景象的语句，用波浪线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出写作者心理的语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84360" y="141300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集体品读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节，体会这节诗歌表达的深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 全班朗读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节。着重理解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沉默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多梦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 你认为小作者会梦见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95280" y="692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读悟结合，走进文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0:44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6:27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