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20.jpeg" ContentType="image/jpeg"/>
  <Override PartName="/ppt/media/image29.jpeg" ContentType="image/jpeg"/>
  <Override PartName="/ppt/media/image5.png" ContentType="image/png"/>
  <Override PartName="/ppt/media/image42.gif" ContentType="image/gif"/>
  <Override PartName="/ppt/media/image8.jpeg" ContentType="image/jpeg"/>
  <Override PartName="/ppt/media/image39.jpeg" ContentType="image/jpeg"/>
  <Override PartName="/ppt/media/image41.gif" ContentType="image/gif"/>
  <Override PartName="/ppt/media/image28.jpeg" ContentType="image/jpeg"/>
  <Override PartName="/ppt/media/image31.jpeg" ContentType="image/jpeg"/>
  <Override PartName="/ppt/media/image32.jpeg" ContentType="image/jpeg"/>
  <Override PartName="/ppt/media/image38.jpeg" ContentType="image/jpeg"/>
  <Override PartName="/ppt/media/image9.jpeg" ContentType="image/jpeg"/>
  <Override PartName="/ppt/media/image30.jpeg" ContentType="image/jpeg"/>
  <Override PartName="/ppt/media/image43.png" ContentType="image/png"/>
  <Override PartName="/ppt/media/image34.jpeg" ContentType="image/jpeg"/>
  <Override PartName="/ppt/media/image7.png" ContentType="image/pn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type.wav" ContentType="audio/x-wav"/>
  <Override PartName="/ppt/media/image36.jpeg" ContentType="image/jpeg"/>
  <Override PartName="/ppt/media/hammer.wav" ContentType="audio/x-wav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E427-DC31-4E36-903D-2B7D378558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D614-51F5-49D4-9716-53B81491B7AF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E32-D127-41F5-ABA4-C1F30AC9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34D-EF3B-42E3-B810-4E1F3B50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B25F9-BE0A-48F1-BC75-164008E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D7E63-CB93-4D66-AA4E-8356DF5B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B65C-6CA9-4A3A-8466-7C04B25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9F07B-5CC7-4FFD-822E-106DE51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D9DEF-8C1C-45FB-B4AF-2B3F510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2DAC-FC6C-4CC2-ABB5-039D8D2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60218-4D9A-4768-B6EF-31C7E25C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3E6A1-BBA7-4DE0-AD1B-9657791D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0219C-5668-4AB7-902C-26F0B34E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7A6E7-025A-451B-84C3-07D6716A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0B4-E65D-4740-A941-17703692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6EB83-CE7D-4AEC-A45E-76600F6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E7D5C-374E-4CDF-9DDB-1FA81C22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D94D6-2D12-4256-80D5-FE8914F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60A16-89F5-49F0-B02D-CCBD69EF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64603-6C61-4095-97FA-0B4E6E9C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7930B-CE31-4FED-BA77-4ABADE85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2F95F-B30B-4A11-8B42-95779DF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EE949-0E0D-4FBA-9F84-70155BB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9E1A7-417F-4C57-B309-DF9C2943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411A7-5D8D-4F67-8C29-99D3D7A5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18A-318A-4232-B75E-CC654E14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D7D36-7AA6-45AF-9768-3C7ED644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F1E79-BD1E-4CFA-81D9-7BB6E0E9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5EDBE-41AA-4D4D-9210-2B2CEBA6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1C689-DE50-44E1-AB91-C7054329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2FF56-96F8-46F8-8019-3CC2F486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F345-C2E4-42A9-957B-D9AF656F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BABE-5E5A-4620-BF6C-76D3827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38D7D-DE94-4E92-ACC0-32765DA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24B99-F008-42D4-9AAE-77C0A43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69962-44B3-4443-B4B3-E7A03371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968-1FA9-47ED-AA1A-A4932881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A5EDC-428A-4D12-B0F2-0721D8D5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72FA-B982-4963-9681-C442966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A968B-F4AE-4F99-97FD-59A6144D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8A771-671E-4F9E-A4A7-02FFD76F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B2233-5C94-418F-8750-C7D2C9CF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C1466-6D66-4FD4-BC7D-7112CEA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BFD70-1E5F-4E0B-B5A8-4ECBEE9E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8D969-7D1F-4DAA-B1F9-F98AD407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7CBDE-E862-497A-85A6-9E782F1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BF73-FA93-4D88-AE6D-98B8658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A9B5-D7E1-43EE-A3C9-73EBC3F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C2C12-EE08-4FA5-91EF-E449EEB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A4FF1-0F8F-408A-899A-9123F894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1BDDA-7368-406A-83C6-463B293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D2BC4-CD0C-4903-B042-22B67F16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B9AD-5440-4968-A10B-53047920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CBB28-9EE1-45CB-BDF3-C035FD41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1C1FD-4877-4E1C-8724-4CF8BDFC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F6E27-0B1D-44BE-A52F-3EBF0CCB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6C693-EC1B-4663-BAE7-C623AE85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15A2C-C58F-4001-BA20-394C0AA2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CF4-69DD-48AA-BFEC-8E60999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5B399-8C49-4E28-838E-0CAF462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7E6F5-6EA7-4AC9-BCA5-756CEB8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4F375-25CC-4D72-8DE2-1F592E6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C47A5-36C9-43D8-AE0C-A74586B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FA6D9-17F1-4A15-AE5A-41DFE937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A15CE-59BF-4F57-AF06-78E62FB7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ABE8C-2930-468F-8F26-F70B6DC5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CE977-E5DF-4A52-A564-5EDA5427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59D1D-14A8-4724-8006-8F09A83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D6936-51C5-4E7B-88D6-BF42C538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F860-188A-4BA9-A4B0-7509EB07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CB1B6-B451-4279-8863-597AA91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9B557-5CE7-4B78-BD65-12C03285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65696-643E-4CED-A288-C9AF127F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D47D4-4EEF-4EF1-8919-A2AA13A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9CD19-9085-4ABE-BBE6-EC9A3FF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9217F-3460-4D57-8AA1-EC84D4E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40768-81A8-4464-8FF0-0EACA2A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74E5F-9454-4177-848E-71CF8145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1903A-88EB-492A-9D98-8E97ED42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FBD-EB07-4D78-B122-C6F7B51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ABC-1A69-4AF1-AFAA-798F9DC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ACB3-1B17-4F33-AC14-B864AF8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B29-BA5C-4301-AF64-9D2BBB51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6AD4-CF2D-4B75-B09B-5B7077C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6C43-7465-4697-BA81-988DDA7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57AD-487B-45E6-A8E6-E038E8A2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A9E5-A060-48F8-B8FA-9D2EAC7D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907-FFE3-44C3-BC71-8D45B3A2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001A-286E-485C-AA72-BCE0E654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F6AC-FFE3-4A6C-B643-D674C5F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DA94-4767-4B1A-9211-85845FE1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7542-D0D5-4482-8F93-21D4E7A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F527-D7B4-42F4-8D1D-5B133B7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1C9-96A1-47CF-866A-4AFA7BF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1912-E184-495A-9B7F-FFAE667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7A3A-0FB9-459A-9873-CBF4C753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47DA-DD15-4183-85BF-28B4EB5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6802-21DC-4519-82AD-E5A2869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B9DC-E682-4CF4-AE96-21D436D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5E9C-788E-4770-B429-4F97C5FA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ECE4-9A1A-4643-98D5-CD23BDAE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EA58C-8BE7-42AA-8B81-FD88C8FC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E5C5-BAC0-4B7E-9B2A-B0B3F1C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4673-0144-40EB-B765-A5D7CEDA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14A-BE66-40D3-A584-7246D09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D45C-7167-4854-83D0-AA69CCB0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1723-817A-448F-A449-9B443D70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D11A-BFC9-46AA-9407-36428ECE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FC2C-1C3E-4E8D-8DCA-F979856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9128-8F9B-461D-A318-CC9662B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0C61-2DA9-4F68-BCD0-3212721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BFA3-8EC2-4BAA-B90F-3A7FE42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472A-C5B3-47F2-9182-A6C1C2DC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2A2A-63DF-4390-AE17-DEAA456C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1C2C0-B49B-4F80-BD85-3F8DB446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892-5E2C-4667-93F7-08E2D699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9F29-171B-43FF-AA68-302146F1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649C-8E0D-44E4-B1CD-331F02A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F473-94E9-4541-A44D-4AC0212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5A3A-3593-4C59-8DFD-1FE4083A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42D4-CFE2-46D2-BAB9-F1A0ABFE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1BE1-FEDA-41FA-9265-FD467C8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0F24-C0B4-4E5D-9AE3-36C1703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FDEB-09AA-4453-99FF-3E41B7D5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583E-559E-441C-8A02-46316FF7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1887-C70D-435E-BC34-396AEA93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1D9-4CA4-4E79-ABF6-DFE1AD10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685A-7163-47CA-91EE-E916743C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E965-2FB0-41FA-9FB1-758D995E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DDD6-DFE0-44F1-B335-8D839173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C775-CD5E-4D66-85D5-7D39A1D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081B-4C5D-41C0-812E-5A6F3516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4C08-DAC5-468D-BC43-1F64F19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93AE8-170A-44C0-A6CC-EB05C21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2543-1FED-4F84-8992-6E9D5FC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05C4-9F3A-4E1D-9A0A-EFC1A5C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6E055-0AC5-407B-AC80-1E5D668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8C8-288F-44E2-AD81-6A38CBC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6EBC-E4BA-484F-B8F5-02D861D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9EB6D-9B66-4171-B2FA-A14E6647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4532-7641-422F-B84A-0E0661CE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DB9B-F933-4600-A609-90A18717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A8894-CD01-4C72-940A-4FB758E1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88DFB-C0AC-4593-8558-BFB0CF97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F5D36-A342-4FAB-B26B-1AE6077A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A9EA9-BC61-48CA-B4A9-5D7C6BFF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66EA3-B2A4-403A-A1E5-48FF2E0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7D77-15F2-428A-9C98-8E8E54C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C3F-9E5E-411F-A16E-84EDE69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16E0-33F9-40E8-93BC-F3B478E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CF02-6FAA-49C3-A883-B9775BA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0B24-78C3-4AF1-96BC-4B9E852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8B87-B9ED-497C-B9DA-4ECDB2B3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50B34-9A93-49DE-B721-D79B6E35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45A7-32FE-4F8F-AADA-C68EA7CA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D184-6E07-4854-8F6F-BB693B3A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FAD45-3040-43F1-B6C8-C64B6410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1A16E-AA91-4EC4-B0AF-947DBA94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D10B-6FE5-4D41-BA47-5F1DB290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AA0-C146-4298-B0DF-39D2280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78000-002D-4756-AAED-5D0F2881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1C00-17DD-445E-AA2E-66BAA868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A32B-F665-4ABF-88D6-41309DE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C601-279B-4868-8BEB-0B76527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A9FCA-0968-4E23-8250-2D6B6DA2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873BD-6457-4AA9-8E22-5DD84CD0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5F67-D017-4E1E-B5CB-971A82D7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6A0C-B11F-4C74-9C02-D614CCD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AAE6F-9FD7-41CE-A246-4C88AF99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DD79D-2737-4DE8-953D-E39AF81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8577-7795-4564-AB78-7BDC4EB68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324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120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24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1888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BEC-B036-4F5B-A507-540153674446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379-68ED-4115-98D6-109F135F89A3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3607-72C5-4250-BBE0-A5EA36325A70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212-AFDE-4EE5-8D0C-C4934412A515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15D0-55B0-461F-8547-27786401CC9E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10AB-D58E-4B6F-895B-B9EF9B2EAB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4120" y="4636440"/>
              <a:ext cx="99504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2240" y="4622400"/>
              <a:ext cx="660240" cy="4194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640" y="455652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2920" y="47577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A8A6-BBEE-44CC-B9A5-575E9162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C8B9-528E-4C2C-8330-77B34496C2CD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6E4-2052-4444-87F9-3EED3373BC8C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FB41-0DC8-4470-9183-B7A3DE3A9CF9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C473-70B4-443A-98A0-0CBD1266974F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CA3A-21CC-4248-9DDD-99979BCB931F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2D5-FDC3-451C-91C6-3786520A5670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8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" Target="slide13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0.jpeg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20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1" name="Picture 3" descr="04"/>
          <p:cNvPicPr/>
          <p:nvPr/>
        </p:nvPicPr>
        <p:blipFill>
          <a:blip r:embed="rId1"/>
          <a:stretch/>
        </p:blipFill>
        <p:spPr>
          <a:xfrm>
            <a:off x="723960" y="76320"/>
            <a:ext cx="7696080" cy="5181480"/>
          </a:xfrm>
          <a:prstGeom prst="rect">
            <a:avLst/>
          </a:prstGeom>
          <a:ln w="0">
            <a:noFill/>
          </a:ln>
        </p:spPr>
      </p:pic>
      <p:sp>
        <p:nvSpPr>
          <p:cNvPr id="652" name="WordArt 4"/>
          <p:cNvSpPr txBox="1"/>
          <p:nvPr/>
        </p:nvSpPr>
        <p:spPr>
          <a:xfrm>
            <a:off x="1609560" y="4729320"/>
            <a:ext cx="622008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只有一个地球</a:t>
            </a:r>
            <a:endParaRPr b="1" lang="en-US" sz="4800" spc="-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53" name="矩形 4"/>
          <p:cNvSpPr/>
          <p:nvPr/>
        </p:nvSpPr>
        <p:spPr>
          <a:xfrm>
            <a:off x="182700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3"/>
          <p:cNvSpPr txBox="1"/>
          <p:nvPr/>
        </p:nvSpPr>
        <p:spPr>
          <a:xfrm>
            <a:off x="179280" y="92160"/>
            <a:ext cx="864072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7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课文运用了哪些说明方法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007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160200" y="900000"/>
            <a:ext cx="873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二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但是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同茫茫宇宙相比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地球是渺小的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它是一个半径只有六千三百多千米的星球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在群星璀璨的宇宙中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就像一叶扁舟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它只这么大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不会再长大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179280" y="3645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这段话运用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说明方法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3767040" y="3584520"/>
            <a:ext cx="196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列数字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5599080" y="3567240"/>
            <a:ext cx="17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打比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7308720" y="35672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作比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16"/>
          <p:cNvSpPr/>
          <p:nvPr/>
        </p:nvSpPr>
        <p:spPr>
          <a:xfrm>
            <a:off x="179280" y="4724280"/>
            <a:ext cx="83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这样写的目的是什么 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250920" y="5300640"/>
            <a:ext cx="85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地球很小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意味着地球资源是有限的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应该珍惜和保护地球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3349800" y="1557360"/>
            <a:ext cx="5109840" cy="360"/>
            <a:chOff x="3349800" y="1557360"/>
            <a:chExt cx="5109840" cy="360"/>
          </a:xfrm>
        </p:grpSpPr>
        <p:sp>
          <p:nvSpPr>
            <p:cNvPr id="713" name="Line 13"/>
            <p:cNvSpPr/>
            <p:nvPr/>
          </p:nvSpPr>
          <p:spPr>
            <a:xfrm>
              <a:off x="3349800" y="1557360"/>
              <a:ext cx="5109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3349800" y="1557360"/>
              <a:ext cx="51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179280" y="2158920"/>
            <a:ext cx="1656000" cy="360"/>
            <a:chOff x="179280" y="2158920"/>
            <a:chExt cx="1656000" cy="360"/>
          </a:xfrm>
        </p:grpSpPr>
        <p:sp>
          <p:nvSpPr>
            <p:cNvPr id="716" name="Line 13"/>
            <p:cNvSpPr/>
            <p:nvPr/>
          </p:nvSpPr>
          <p:spPr>
            <a:xfrm>
              <a:off x="179280" y="2158920"/>
              <a:ext cx="165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179280" y="215892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043080" y="2158920"/>
            <a:ext cx="5416560" cy="360"/>
            <a:chOff x="3043080" y="2158920"/>
            <a:chExt cx="5416560" cy="360"/>
          </a:xfrm>
        </p:grpSpPr>
        <p:sp>
          <p:nvSpPr>
            <p:cNvPr id="719" name="Line 13"/>
            <p:cNvSpPr/>
            <p:nvPr/>
          </p:nvSpPr>
          <p:spPr>
            <a:xfrm>
              <a:off x="3043080" y="2158920"/>
              <a:ext cx="5416560" cy="0"/>
            </a:xfrm>
            <a:prstGeom prst="line">
              <a:avLst/>
            </a:prstGeom>
            <a:ln w="38160">
              <a:solidFill>
                <a:srgbClr val="ffe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043080" y="2158920"/>
              <a:ext cx="5416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79360" y="2781360"/>
            <a:ext cx="2556000" cy="360"/>
            <a:chOff x="279360" y="2781360"/>
            <a:chExt cx="2556000" cy="360"/>
          </a:xfrm>
        </p:grpSpPr>
        <p:sp>
          <p:nvSpPr>
            <p:cNvPr id="722" name="Line 13"/>
            <p:cNvSpPr/>
            <p:nvPr/>
          </p:nvSpPr>
          <p:spPr>
            <a:xfrm>
              <a:off x="279360" y="2781360"/>
              <a:ext cx="2556000" cy="0"/>
            </a:xfrm>
            <a:prstGeom prst="line">
              <a:avLst/>
            </a:prstGeom>
            <a:ln w="38160">
              <a:solidFill>
                <a:srgbClr val="ffe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279360" y="2781360"/>
              <a:ext cx="25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24" name="Line 15"/>
          <p:cNvSpPr/>
          <p:nvPr/>
        </p:nvSpPr>
        <p:spPr>
          <a:xfrm>
            <a:off x="279360" y="3429000"/>
            <a:ext cx="2089080" cy="0"/>
          </a:xfrm>
          <a:prstGeom prst="line">
            <a:avLst/>
          </a:prstGeom>
          <a:ln w="3816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5" name="组合 4"/>
          <p:cNvGrpSpPr/>
          <p:nvPr/>
        </p:nvGrpSpPr>
        <p:grpSpPr>
          <a:xfrm>
            <a:off x="7292880" y="5786280"/>
            <a:ext cx="1968480" cy="1171800"/>
            <a:chOff x="7292880" y="5786280"/>
            <a:chExt cx="1968480" cy="1171800"/>
          </a:xfrm>
        </p:grpSpPr>
        <p:pic>
          <p:nvPicPr>
            <p:cNvPr id="726" name="图片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7280" y="5786280"/>
              <a:ext cx="1954080" cy="11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矩形 1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292880" y="5944320"/>
              <a:ext cx="1903320" cy="70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u=3005090214,1167616663&amp;gp=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5"/>
          <p:cNvSpPr/>
          <p:nvPr/>
        </p:nvSpPr>
        <p:spPr>
          <a:xfrm>
            <a:off x="539640" y="44956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99ff33"/>
                </a:solidFill>
                <a:latin typeface="黑体"/>
                <a:ea typeface="黑体"/>
              </a:rPr>
              <a:t>遨游太空的宇航员为什么会发出</a:t>
            </a:r>
            <a:r>
              <a:rPr b="1" lang="zh-CN" sz="4400" spc="-1" strike="noStrike">
                <a:solidFill>
                  <a:srgbClr val="99ff33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99ff33"/>
                </a:solidFill>
                <a:latin typeface="黑体"/>
                <a:ea typeface="黑体"/>
              </a:rPr>
              <a:t>我们这个地球太可爱了，同时又太容易破碎了</a:t>
            </a:r>
            <a:r>
              <a:rPr b="1" lang="zh-CN" sz="4400" spc="-1" strike="noStrike">
                <a:solidFill>
                  <a:srgbClr val="99ff33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99ff33"/>
                </a:solidFill>
                <a:latin typeface="黑体"/>
                <a:ea typeface="黑体"/>
              </a:rPr>
              <a:t>的感叹呢？</a:t>
            </a:r>
            <a:r>
              <a:rPr b="0" lang="zh-CN" sz="3600" spc="-1" strike="noStrike">
                <a:solidFill>
                  <a:srgbClr val="99ff33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6858000" y="114300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WordArt 3"/>
          <p:cNvSpPr txBox="1"/>
          <p:nvPr/>
        </p:nvSpPr>
        <p:spPr>
          <a:xfrm>
            <a:off x="289080" y="404640"/>
            <a:ext cx="57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点探究，深入感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1089000" y="2708280"/>
            <a:ext cx="458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WordArt 5"/>
          <p:cNvSpPr txBox="1"/>
          <p:nvPr/>
        </p:nvSpPr>
        <p:spPr>
          <a:xfrm>
            <a:off x="1295280" y="2421000"/>
            <a:ext cx="637236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地球的易碎性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2195640" y="249228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1835280" y="242100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2195640" y="249228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9" name="Picture 4" descr="21efe92da8d0fb02359bf7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0" name="WordArt 5"/>
          <p:cNvSpPr txBox="1"/>
          <p:nvPr/>
        </p:nvSpPr>
        <p:spPr>
          <a:xfrm>
            <a:off x="5148360" y="5143680"/>
            <a:ext cx="36576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们的大气资源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3" name="Picture 4" descr="2007121811917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WordArt 5"/>
          <p:cNvSpPr txBox="1"/>
          <p:nvPr/>
        </p:nvSpPr>
        <p:spPr>
          <a:xfrm>
            <a:off x="395280" y="3860640"/>
            <a:ext cx="327672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们的水资源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4041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40410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WordArt 4"/>
          <p:cNvSpPr txBox="1"/>
          <p:nvPr/>
        </p:nvSpPr>
        <p:spPr>
          <a:xfrm>
            <a:off x="914400" y="4419720"/>
            <a:ext cx="327672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们的水资源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1035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102404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WordArt 4"/>
          <p:cNvSpPr txBox="1"/>
          <p:nvPr/>
        </p:nvSpPr>
        <p:spPr>
          <a:xfrm>
            <a:off x="2666880" y="3352680"/>
            <a:ext cx="40388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的森林资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200491812233182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066680" y="4952880"/>
            <a:ext cx="365760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的生物资源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5" name="Picture 4" descr="2009260399765778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56" name="WordArt 5"/>
          <p:cNvSpPr txBox="1"/>
          <p:nvPr/>
        </p:nvSpPr>
        <p:spPr>
          <a:xfrm>
            <a:off x="4788000" y="4941720"/>
            <a:ext cx="365760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的生活环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gg031031_05"/>
          <p:cNvPicPr/>
          <p:nvPr/>
        </p:nvPicPr>
        <p:blipFill>
          <a:blip r:embed="rId1"/>
          <a:stretch/>
        </p:blipFill>
        <p:spPr>
          <a:xfrm>
            <a:off x="0" y="0"/>
            <a:ext cx="6629400" cy="6870600"/>
          </a:xfrm>
          <a:prstGeom prst="rect">
            <a:avLst/>
          </a:prstGeom>
          <a:ln w="0">
            <a:noFill/>
          </a:ln>
        </p:spPr>
      </p:pic>
      <p:sp>
        <p:nvSpPr>
          <p:cNvPr id="758" name="WordArt 3"/>
          <p:cNvSpPr txBox="1"/>
          <p:nvPr/>
        </p:nvSpPr>
        <p:spPr>
          <a:xfrm rot="5457000">
            <a:off x="5143320" y="240012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ff00ff"/>
                </a:solidFill>
                <a:latin typeface="宋体"/>
              </a:rPr>
              <a:t>大肆捕杀 血流成河</a:t>
            </a:r>
            <a:endParaRPr b="0" lang="en-US" sz="2800" spc="-1" strike="noStrike">
              <a:ln w="0">
                <a:noFill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b_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3"/>
          <p:cNvSpPr/>
          <p:nvPr/>
        </p:nvSpPr>
        <p:spPr>
          <a:xfrm>
            <a:off x="129528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1" name="Picture 8" descr="u=3340780942,1329497521&amp;gp=12"/>
          <p:cNvPicPr/>
          <p:nvPr/>
        </p:nvPicPr>
        <p:blipFill>
          <a:blip r:embed="rId2"/>
          <a:stretch/>
        </p:blipFill>
        <p:spPr>
          <a:xfrm>
            <a:off x="3203640" y="2781360"/>
            <a:ext cx="3024000" cy="2519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u=848581926,2867644783&amp;gp=-48"/>
          <p:cNvPicPr/>
          <p:nvPr/>
        </p:nvPicPr>
        <p:blipFill>
          <a:blip r:embed="rId3"/>
          <a:stretch/>
        </p:blipFill>
        <p:spPr>
          <a:xfrm>
            <a:off x="3203640" y="0"/>
            <a:ext cx="3097080" cy="2781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0" descr="u=2835572498,69276033&amp;gp=10"/>
          <p:cNvPicPr/>
          <p:nvPr/>
        </p:nvPicPr>
        <p:blipFill>
          <a:blip r:embed="rId4"/>
          <a:stretch/>
        </p:blipFill>
        <p:spPr>
          <a:xfrm>
            <a:off x="6227640" y="2781360"/>
            <a:ext cx="2916360" cy="2508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7" descr="u=3802528146,4182607646&amp;gp=44"/>
          <p:cNvPicPr/>
          <p:nvPr/>
        </p:nvPicPr>
        <p:blipFill>
          <a:blip r:embed="rId5"/>
          <a:stretch/>
        </p:blipFill>
        <p:spPr>
          <a:xfrm>
            <a:off x="6227640" y="0"/>
            <a:ext cx="2916360" cy="27813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2" descr="u=3388784585,2032222534&amp;gp=8"/>
          <p:cNvPicPr/>
          <p:nvPr/>
        </p:nvPicPr>
        <p:blipFill>
          <a:blip r:embed="rId6"/>
          <a:stretch/>
        </p:blipFill>
        <p:spPr>
          <a:xfrm>
            <a:off x="0" y="2781360"/>
            <a:ext cx="3203640" cy="25369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6" descr="2007528153111553"/>
          <p:cNvPicPr/>
          <p:nvPr/>
        </p:nvPicPr>
        <p:blipFill>
          <a:blip r:embed="rId7"/>
          <a:stretch/>
        </p:blipFill>
        <p:spPr>
          <a:xfrm>
            <a:off x="0" y="0"/>
            <a:ext cx="3168720" cy="275904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13"/>
          <p:cNvSpPr/>
          <p:nvPr/>
        </p:nvSpPr>
        <p:spPr>
          <a:xfrm>
            <a:off x="106200" y="5445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不加节制地开采，加速了地球上矿产资源的枯竭。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276720" y="544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随意毁坏森林资源，影响了再生资源的再生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15"/>
          <p:cNvSpPr/>
          <p:nvPr/>
        </p:nvSpPr>
        <p:spPr>
          <a:xfrm>
            <a:off x="6300720" y="5481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不顾后果地滥用化学品，造成了一系列生态灾难。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250920" y="271620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Times New Roman"/>
                <a:ea typeface="黑体"/>
              </a:rPr>
              <a:t>自然资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2700360" y="143208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矿物资源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2771640" y="2708280"/>
            <a:ext cx="396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水资源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森林资源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生物资源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大气资源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4932360" y="1554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不可再生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10"/>
          <p:cNvSpPr/>
          <p:nvPr/>
        </p:nvSpPr>
        <p:spPr>
          <a:xfrm>
            <a:off x="5364000" y="4221000"/>
            <a:ext cx="27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可以再生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AutoShape 13"/>
          <p:cNvSpPr/>
          <p:nvPr/>
        </p:nvSpPr>
        <p:spPr>
          <a:xfrm>
            <a:off x="2340000" y="1844640"/>
            <a:ext cx="287280" cy="25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33" descr="4"/>
          <p:cNvPicPr/>
          <p:nvPr/>
        </p:nvPicPr>
        <p:blipFill>
          <a:blip r:embed="rId1"/>
          <a:stretch/>
        </p:blipFill>
        <p:spPr>
          <a:xfrm>
            <a:off x="4572000" y="35812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2" descr="3"/>
          <p:cNvPicPr/>
          <p:nvPr/>
        </p:nvPicPr>
        <p:blipFill>
          <a:blip r:embed="rId2"/>
          <a:stretch/>
        </p:blipFill>
        <p:spPr>
          <a:xfrm>
            <a:off x="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0" descr="1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1" descr="2"/>
          <p:cNvPicPr/>
          <p:nvPr/>
        </p:nvPicPr>
        <p:blipFill>
          <a:blip r:embed="rId4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2"/>
          <p:cNvSpPr/>
          <p:nvPr/>
        </p:nvSpPr>
        <p:spPr>
          <a:xfrm>
            <a:off x="4881240" y="3573360"/>
            <a:ext cx="11559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空气资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13"/>
          <p:cNvSpPr/>
          <p:nvPr/>
        </p:nvSpPr>
        <p:spPr>
          <a:xfrm>
            <a:off x="3832920" y="1959840"/>
            <a:ext cx="667800" cy="17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水资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13"/>
          <p:cNvSpPr/>
          <p:nvPr/>
        </p:nvSpPr>
        <p:spPr>
          <a:xfrm>
            <a:off x="4094640" y="1749600"/>
            <a:ext cx="1155240" cy="175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生物资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3004920" y="3573360"/>
            <a:ext cx="11559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森林资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4" name="组合 4"/>
          <p:cNvGrpSpPr/>
          <p:nvPr/>
        </p:nvGrpSpPr>
        <p:grpSpPr>
          <a:xfrm>
            <a:off x="7292880" y="5786280"/>
            <a:ext cx="1968480" cy="1171800"/>
            <a:chOff x="7292880" y="5786280"/>
            <a:chExt cx="1968480" cy="1171800"/>
          </a:xfrm>
        </p:grpSpPr>
        <p:pic>
          <p:nvPicPr>
            <p:cNvPr id="785" name="图片 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7280" y="5786280"/>
              <a:ext cx="1954080" cy="11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矩形 3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292880" y="5944320"/>
              <a:ext cx="1903320" cy="70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75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75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75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75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b_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5"/>
          <p:cNvSpPr/>
          <p:nvPr/>
        </p:nvSpPr>
        <p:spPr>
          <a:xfrm>
            <a:off x="685800" y="609480"/>
            <a:ext cx="79246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耕地：每分钟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损失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公顷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约损失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2100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万公顷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森林：每分钟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消失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公顷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消失约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1100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万公顷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沙漠化：每分钟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公顷土地沙漠化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约有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600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万公顷土地沙漠化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污水：每分钟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85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万吨污水排入江河大海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污水排放量约为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4500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亿吨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人：每分钟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28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人死于环境污染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约有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1500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万人死于环境污染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3"/>
          <p:cNvSpPr/>
          <p:nvPr/>
        </p:nvSpPr>
        <p:spPr>
          <a:xfrm>
            <a:off x="4573800" y="5335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4116240" y="5830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3657600" y="1371600"/>
            <a:ext cx="324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1116000" y="146700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是（   ）资源，（  ）是可以不断再生，长期给人类做贡献的。如（   ）。可是，由于人类的破坏，我（   ）不能再生，（  ）造成（    ）生态灾难。如（       ）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WordArt 7"/>
          <p:cNvSpPr txBox="1"/>
          <p:nvPr/>
        </p:nvSpPr>
        <p:spPr>
          <a:xfrm>
            <a:off x="395280" y="189000"/>
            <a:ext cx="172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填空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75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"/>
          <p:cNvSpPr/>
          <p:nvPr/>
        </p:nvSpPr>
        <p:spPr>
          <a:xfrm>
            <a:off x="6858000" y="114300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WordArt 4"/>
          <p:cNvSpPr txBox="1"/>
          <p:nvPr/>
        </p:nvSpPr>
        <p:spPr>
          <a:xfrm>
            <a:off x="431640" y="333360"/>
            <a:ext cx="57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点探究，深入感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116000" y="2708280"/>
            <a:ext cx="458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WordArt 6"/>
          <p:cNvSpPr txBox="1"/>
          <p:nvPr/>
        </p:nvSpPr>
        <p:spPr>
          <a:xfrm>
            <a:off x="324000" y="2131920"/>
            <a:ext cx="554328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地球的唯一性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2195640" y="249228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1835280" y="242100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0" name="Picture 11" descr="49401a0c9692e6d40b7b8279"/>
          <p:cNvPicPr/>
          <p:nvPr/>
        </p:nvPicPr>
        <p:blipFill>
          <a:blip r:embed="rId3"/>
          <a:stretch/>
        </p:blipFill>
        <p:spPr>
          <a:xfrm>
            <a:off x="6156360" y="4373640"/>
            <a:ext cx="2987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太阳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AutoShape 5"/>
          <p:cNvSpPr/>
          <p:nvPr/>
        </p:nvSpPr>
        <p:spPr>
          <a:xfrm>
            <a:off x="179280" y="0"/>
            <a:ext cx="6477120" cy="2592360"/>
          </a:xfrm>
          <a:prstGeom prst="wedgeEllipseCallout">
            <a:avLst>
              <a:gd name="adj1" fmla="val -46643"/>
              <a:gd name="adj2" fmla="val 84046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6"/>
          <p:cNvSpPr/>
          <p:nvPr/>
        </p:nvSpPr>
        <p:spPr>
          <a:xfrm>
            <a:off x="1752480" y="11430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295280" y="380880"/>
            <a:ext cx="49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宇宙空间不是大得很吗，那里有数不清的星球，在地球资源枯竭的时候，我们不能移居到别的星球上去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AutoShape 9"/>
          <p:cNvSpPr/>
          <p:nvPr/>
        </p:nvSpPr>
        <p:spPr>
          <a:xfrm>
            <a:off x="2268360" y="2565360"/>
            <a:ext cx="6586560" cy="3168720"/>
          </a:xfrm>
          <a:prstGeom prst="wedgeEllipseCallout">
            <a:avLst>
              <a:gd name="adj1" fmla="val 54962"/>
              <a:gd name="adj2" fmla="val 52703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2843280" y="299736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科学家已经证明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以地球为中心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万亿千米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范围内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没有适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类居住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二个星球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类不能指望在破坏地球以后再移居到别的星球上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1600200" y="5029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971640" y="2646360"/>
            <a:ext cx="7561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至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最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意思，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强调了目前的研究成果还只限于这个范围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万亿千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以外的情况还不能确定，体现了说明文的严谨性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亿千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直观地表明了范围之大，大到人类根本无法到达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395280" y="26028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科学家已经证明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至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以地球为中心的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万亿千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范围内，没有适合人类居住的</a:t>
            </a:r>
            <a:r>
              <a:rPr b="1" lang="zh-CN" sz="2800" spc="-1" strike="noStrike">
                <a:solidFill>
                  <a:srgbClr val="703dff"/>
                </a:solidFill>
                <a:latin typeface="黑体"/>
                <a:ea typeface="黑体"/>
              </a:rPr>
              <a:t>第二个星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人类不能指望在破坏地球以后再移居到别的星球上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矩形 3"/>
          <p:cNvSpPr txBox="1"/>
          <p:nvPr/>
        </p:nvSpPr>
        <p:spPr>
          <a:xfrm>
            <a:off x="179280" y="92160"/>
            <a:ext cx="864072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7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课文运用了哪些说明方法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007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08000" y="86184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三、科学家已经证明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至少在以地球为中心的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万亿千米的范围内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没有适合人类居住的第二个星球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611280" y="2708280"/>
            <a:ext cx="76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这句话运用什么说明方法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1763640" y="328464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举例子   列数字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684360" y="4002120"/>
            <a:ext cx="836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万亿千米”直观地表明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982800" y="4508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范围之大，大到人类根本无法到达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0" y="5214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说明方法的作用体现了说明文语言    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1835280" y="57484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科学性、严谨性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1027" descr="太阳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AutoShape 1026"/>
          <p:cNvSpPr/>
          <p:nvPr/>
        </p:nvSpPr>
        <p:spPr>
          <a:xfrm>
            <a:off x="914400" y="838080"/>
            <a:ext cx="5486400" cy="1828800"/>
          </a:xfrm>
          <a:prstGeom prst="wedgeEllipseCallout">
            <a:avLst>
              <a:gd name="adj1" fmla="val -57120"/>
              <a:gd name="adj2" fmla="val 49652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1028"/>
          <p:cNvSpPr/>
          <p:nvPr/>
        </p:nvSpPr>
        <p:spPr>
          <a:xfrm>
            <a:off x="1447920" y="1295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火星或月球上建造移民基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AutoShape 1029"/>
          <p:cNvSpPr/>
          <p:nvPr/>
        </p:nvSpPr>
        <p:spPr>
          <a:xfrm>
            <a:off x="3048120" y="3505320"/>
            <a:ext cx="5486400" cy="1828800"/>
          </a:xfrm>
          <a:prstGeom prst="wedgeEllipseCallout">
            <a:avLst>
              <a:gd name="adj1" fmla="val 42361"/>
              <a:gd name="adj2" fmla="val 74652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 Box 1030"/>
          <p:cNvSpPr/>
          <p:nvPr/>
        </p:nvSpPr>
        <p:spPr>
          <a:xfrm>
            <a:off x="3851280" y="37893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些设想即使能实现，又有多少人能够去居住呢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AutoShape 1031">
            <a:hlinkClick r:id="rId2" action="ppaction://hlinksldjump"/>
          </p:cNvPr>
          <p:cNvSpPr/>
          <p:nvPr/>
        </p:nvSpPr>
        <p:spPr>
          <a:xfrm>
            <a:off x="7596360" y="6381720"/>
            <a:ext cx="504720" cy="476280"/>
          </a:xfrm>
          <a:prstGeom prst="smileyFace">
            <a:avLst>
              <a:gd name="adj" fmla="val 4653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612720" y="250488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地球是太阳系从内到外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颗行星，也是太阳系中直径、质量和密度最大的类地行星。地球已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亿岁，有一颗天然卫星月球围绕着地球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的周期旋转，而地球以近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时的周期自转并且以一年的周期绕太阳公转。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5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天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小时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分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6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秒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WordArt 4"/>
          <p:cNvSpPr txBox="1"/>
          <p:nvPr/>
        </p:nvSpPr>
        <p:spPr>
          <a:xfrm>
            <a:off x="468360" y="260280"/>
            <a:ext cx="136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地球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6858000" y="114300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WordArt 4"/>
          <p:cNvSpPr txBox="1"/>
          <p:nvPr/>
        </p:nvSpPr>
        <p:spPr>
          <a:xfrm>
            <a:off x="360360" y="333360"/>
            <a:ext cx="57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华情感，拓展延伸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1089000" y="2708280"/>
            <a:ext cx="458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95640" y="249228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1835280" y="242100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9" name="Picture 8" descr="20100606025026612_23110948cbb22155052225"/>
          <p:cNvPicPr/>
          <p:nvPr/>
        </p:nvPicPr>
        <p:blipFill>
          <a:blip r:embed="rId3"/>
          <a:stretch/>
        </p:blipFill>
        <p:spPr>
          <a:xfrm>
            <a:off x="1835280" y="1916280"/>
            <a:ext cx="6769080" cy="4524120"/>
          </a:xfrm>
          <a:prstGeom prst="rect">
            <a:avLst/>
          </a:prstGeom>
          <a:ln w="0">
            <a:noFill/>
          </a:ln>
        </p:spPr>
      </p:pic>
      <p:sp>
        <p:nvSpPr>
          <p:cNvPr id="830" name="WordArt 9"/>
          <p:cNvSpPr txBox="1"/>
          <p:nvPr/>
        </p:nvSpPr>
        <p:spPr>
          <a:xfrm>
            <a:off x="395280" y="3429000"/>
            <a:ext cx="637236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讨论：我们应该怎样保护地球？</a:t>
            </a:r>
            <a:endParaRPr b="1" i="1" lang="en-US" sz="32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31" name="Picture 10" descr="pic003"/>
          <p:cNvPicPr/>
          <p:nvPr/>
        </p:nvPicPr>
        <p:blipFill>
          <a:blip r:embed="rId4"/>
          <a:stretch/>
        </p:blipFill>
        <p:spPr>
          <a:xfrm>
            <a:off x="0" y="4941720"/>
            <a:ext cx="18730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79280" y="692280"/>
            <a:ext cx="856944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你想对地球、对人类或自己说些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9640" y="1989000"/>
            <a:ext cx="74883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我想对地球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omic Sans MS"/>
              </a:rPr>
              <a:t>我想对人类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我想对自己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文本框 1"/>
          <p:cNvSpPr/>
          <p:nvPr/>
        </p:nvSpPr>
        <p:spPr>
          <a:xfrm>
            <a:off x="2286000" y="604836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l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标题 1"/>
          <p:cNvSpPr txBox="1"/>
          <p:nvPr/>
        </p:nvSpPr>
        <p:spPr>
          <a:xfrm>
            <a:off x="1403280" y="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/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7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你知道吗？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007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0" y="1052640"/>
            <a:ext cx="91440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环保纪念日有哪些？</a:t>
            </a:r>
            <a:br>
              <a:rPr sz="44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际湿地日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　　　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水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气象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　　　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球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无烟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 　　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环境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防治荒漠化和干旱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人口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际保护臭氧层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动物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粮食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际生物多样性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7" name="Picture 9" descr="SUN_026"/>
          <p:cNvPicPr/>
          <p:nvPr/>
        </p:nvPicPr>
        <p:blipFill>
          <a:blip r:embed="rId1"/>
          <a:stretch/>
        </p:blipFill>
        <p:spPr>
          <a:xfrm>
            <a:off x="179280" y="27000"/>
            <a:ext cx="1040040" cy="10969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4" descr="19"/>
          <p:cNvPicPr/>
          <p:nvPr/>
        </p:nvPicPr>
        <p:blipFill>
          <a:blip r:embed="rId2"/>
          <a:stretch/>
        </p:blipFill>
        <p:spPr>
          <a:xfrm>
            <a:off x="6084720" y="27000"/>
            <a:ext cx="17859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173-5104-411D-B8A6-1D95847B91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dd4f65002b6a274a3b12bb6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108000" y="2667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19f2"/>
                </a:solidFill>
                <a:latin typeface="Arial"/>
              </a:rPr>
              <a:t>通过对课文的预习，你对地球有哪些了解</a:t>
            </a:r>
            <a:r>
              <a:rPr b="1" lang="en-US" sz="3600" spc="-1" strike="noStrike">
                <a:solidFill>
                  <a:srgbClr val="0e19f2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279360" y="1268280"/>
            <a:ext cx="8640720" cy="1739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我了解到了地球的可爱，因为地球是一个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晶莹透亮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球体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，裹着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水蓝色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的“纱衣”。地球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类生命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的摇篮，既美丽壮观又和蔼可亲。了解到了地球的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脆弱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，因为她在茫茫宇宙中就像大海中的“一叶扁舟”。还了解到了地球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资源的有限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，不加节制的开采和随意的破坏，地球不仅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受到破坏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，人类生存也会有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严重威胁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矩形 9"/>
          <p:cNvSpPr/>
          <p:nvPr/>
        </p:nvSpPr>
        <p:spPr>
          <a:xfrm>
            <a:off x="5008680" y="404028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WordArt 4"/>
          <p:cNvSpPr txBox="1"/>
          <p:nvPr/>
        </p:nvSpPr>
        <p:spPr>
          <a:xfrm>
            <a:off x="395280" y="260280"/>
            <a:ext cx="842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归纳概括，课文写了关于地球哪几个方面的内容</a:t>
            </a:r>
            <a:r>
              <a:rPr b="1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3" name="Oval 6"/>
          <p:cNvSpPr/>
          <p:nvPr/>
        </p:nvSpPr>
        <p:spPr>
          <a:xfrm>
            <a:off x="684360" y="1413000"/>
            <a:ext cx="2376360" cy="839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黑体"/>
              </a:rPr>
              <a:t>地球的美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Oval 7"/>
          <p:cNvSpPr/>
          <p:nvPr/>
        </p:nvSpPr>
        <p:spPr>
          <a:xfrm>
            <a:off x="2556000" y="2227320"/>
            <a:ext cx="28191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黑体"/>
              </a:rPr>
              <a:t>地球的渺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Oval 8"/>
          <p:cNvSpPr/>
          <p:nvPr/>
        </p:nvSpPr>
        <p:spPr>
          <a:xfrm>
            <a:off x="3995640" y="3378240"/>
            <a:ext cx="2952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然资源有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Oval 9"/>
          <p:cNvSpPr/>
          <p:nvPr/>
        </p:nvSpPr>
        <p:spPr>
          <a:xfrm>
            <a:off x="5940360" y="4508640"/>
            <a:ext cx="3024360" cy="936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ahoma"/>
                <a:ea typeface="黑体"/>
              </a:rPr>
              <a:t>不能移居别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WordArt 10"/>
          <p:cNvSpPr txBox="1"/>
          <p:nvPr/>
        </p:nvSpPr>
        <p:spPr>
          <a:xfrm>
            <a:off x="503280" y="5661000"/>
            <a:ext cx="81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地球太可爱了，又太容易破碎了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4"/>
          <p:cNvSpPr/>
          <p:nvPr/>
        </p:nvSpPr>
        <p:spPr>
          <a:xfrm>
            <a:off x="239760" y="15368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</a:rPr>
              <a:t>根据课文填空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为人类活动的范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地球上的 （                    ），人类不能指望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所以我们要（                ）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372280" y="2205000"/>
            <a:ext cx="34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3584520" y="2841480"/>
            <a:ext cx="554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自然资源也是有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210960" y="3406680"/>
            <a:ext cx="846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在破坏了地球以后移居到其它星球上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833400" y="47242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精心保护地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4"/>
          <p:cNvSpPr txBox="1"/>
          <p:nvPr/>
        </p:nvSpPr>
        <p:spPr>
          <a:xfrm>
            <a:off x="241200" y="174600"/>
            <a:ext cx="8434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/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关于地球的哪几个方面的内容？</a:t>
            </a:r>
            <a:endParaRPr b="1" lang="en-US" sz="4400" spc="-1" strike="noStrike">
              <a:ln w="0">
                <a:noFill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674" name="组合 4"/>
          <p:cNvGrpSpPr/>
          <p:nvPr/>
        </p:nvGrpSpPr>
        <p:grpSpPr>
          <a:xfrm>
            <a:off x="7308720" y="5786280"/>
            <a:ext cx="1952640" cy="1171800"/>
            <a:chOff x="7308720" y="5786280"/>
            <a:chExt cx="1952640" cy="1171800"/>
          </a:xfrm>
        </p:grpSpPr>
        <p:pic>
          <p:nvPicPr>
            <p:cNvPr id="675" name="图片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8720" y="5786280"/>
              <a:ext cx="1952640" cy="11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矩形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22120" y="5944320"/>
              <a:ext cx="1648080" cy="70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6858000" y="114300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WordArt 4"/>
          <p:cNvSpPr txBox="1"/>
          <p:nvPr/>
        </p:nvSpPr>
        <p:spPr>
          <a:xfrm>
            <a:off x="504720" y="549360"/>
            <a:ext cx="57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点探究，深入感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1116000" y="2708280"/>
            <a:ext cx="458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WordArt 6"/>
          <p:cNvSpPr txBox="1"/>
          <p:nvPr/>
        </p:nvSpPr>
        <p:spPr>
          <a:xfrm>
            <a:off x="738360" y="1900080"/>
            <a:ext cx="7262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地球的美</a:t>
            </a:r>
            <a:endParaRPr b="0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282420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b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3"/>
          <p:cNvSpPr/>
          <p:nvPr/>
        </p:nvSpPr>
        <p:spPr>
          <a:xfrm>
            <a:off x="380880" y="189000"/>
            <a:ext cx="8439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据有幸飞上太空的宇航员介绍，他们在天际遨游时遥望地球，映入眼帘的是一个晶莹透亮的球体，上面蓝色和白色的纹痕相互交错，周围裹着一层薄薄的水蓝色“纱衣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它是一个半径只有六千三百多千米的星球，在群星璀璨的宇宙里，就像一叶扁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4" name="Picture 4" descr="u=3285598391,3016021794&amp;gp=20"/>
          <p:cNvPicPr/>
          <p:nvPr/>
        </p:nvPicPr>
        <p:blipFill>
          <a:blip r:embed="rId2"/>
          <a:stretch/>
        </p:blipFill>
        <p:spPr>
          <a:xfrm>
            <a:off x="4648320" y="4680000"/>
            <a:ext cx="1822320" cy="2133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u=3355767742,3060575578&amp;gp=32"/>
          <p:cNvPicPr/>
          <p:nvPr/>
        </p:nvPicPr>
        <p:blipFill>
          <a:blip r:embed="rId3"/>
          <a:stretch/>
        </p:blipFill>
        <p:spPr>
          <a:xfrm>
            <a:off x="228600" y="46800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u=4071470314,4238124992&amp;gp=24"/>
          <p:cNvPicPr/>
          <p:nvPr/>
        </p:nvPicPr>
        <p:blipFill>
          <a:blip r:embed="rId4"/>
          <a:stretch/>
        </p:blipFill>
        <p:spPr>
          <a:xfrm>
            <a:off x="6705720" y="46800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u=3195725471,3097290655&amp;gp=0"/>
          <p:cNvPicPr/>
          <p:nvPr/>
        </p:nvPicPr>
        <p:blipFill>
          <a:blip r:embed="rId5"/>
          <a:stretch/>
        </p:blipFill>
        <p:spPr>
          <a:xfrm>
            <a:off x="2590920" y="4680000"/>
            <a:ext cx="182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矩形 3"/>
          <p:cNvSpPr txBox="1"/>
          <p:nvPr/>
        </p:nvSpPr>
        <p:spPr>
          <a:xfrm>
            <a:off x="179280" y="92160"/>
            <a:ext cx="864072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7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课文运用了哪些说明方法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007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160200" y="900000"/>
            <a:ext cx="873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地球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这位人类的母亲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这个生命的摇篮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是那样的美丽壮观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和蔼可亲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587520" y="2260440"/>
            <a:ext cx="830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这句话是作者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赞美，突出了地球的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，体现了作者对地球的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5091120" y="2205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地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4116240" y="278136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可爱与美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5138640" y="334800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热爱之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804960" y="3908520"/>
            <a:ext cx="74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这句话运用什么说明方法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11"/>
          <p:cNvSpPr/>
          <p:nvPr/>
        </p:nvSpPr>
        <p:spPr>
          <a:xfrm>
            <a:off x="6905520" y="3933720"/>
            <a:ext cx="24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打比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12"/>
          <p:cNvSpPr/>
          <p:nvPr/>
        </p:nvSpPr>
        <p:spPr>
          <a:xfrm>
            <a:off x="539640" y="4635360"/>
            <a:ext cx="73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句中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568440" y="5300640"/>
            <a:ext cx="7545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打比方的运用使句子在表达上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611280" y="5889600"/>
            <a:ext cx="48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通俗易懂又生动形象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13"/>
          <p:cNvSpPr/>
          <p:nvPr/>
        </p:nvSpPr>
        <p:spPr>
          <a:xfrm>
            <a:off x="2219400" y="4492800"/>
            <a:ext cx="17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地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14"/>
          <p:cNvSpPr/>
          <p:nvPr/>
        </p:nvSpPr>
        <p:spPr>
          <a:xfrm>
            <a:off x="4659480" y="4508640"/>
            <a:ext cx="29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母亲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摇篮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1" name="组合 4"/>
          <p:cNvGrpSpPr/>
          <p:nvPr/>
        </p:nvGrpSpPr>
        <p:grpSpPr>
          <a:xfrm>
            <a:off x="7292880" y="5786280"/>
            <a:ext cx="1968480" cy="1171800"/>
            <a:chOff x="7292880" y="5786280"/>
            <a:chExt cx="1968480" cy="1171800"/>
          </a:xfrm>
        </p:grpSpPr>
        <p:pic>
          <p:nvPicPr>
            <p:cNvPr id="702" name="图片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7280" y="5786280"/>
              <a:ext cx="1954080" cy="11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矩形 1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292880" y="5944320"/>
              <a:ext cx="1903320" cy="70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2:38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3:00Z</dcterms:modified>
  <cp:revision>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