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6440"/>
                </a:solidFill>
                <a:latin typeface="Microsoft Sans Serif"/>
              </a:rPr>
              <a:t>Click to move the slide</a:t>
            </a: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58BD-074C-460F-988B-AA05429817B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8A2E-43F0-45A0-B22E-F92958D11227}" type="slidenum">
              <a:rPr b="0" lang="zh-CN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6440"/>
                </a:solidFill>
                <a:latin typeface="Microsoft Sans Serif"/>
              </a:rPr>
              <a:t>Click to edit the title text format</a:t>
            </a: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6440"/>
                </a:solidFill>
                <a:latin typeface="Microsoft Sans Serif"/>
              </a:rPr>
              <a:t>Click to edit the title text format</a:t>
            </a: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"/>
          <p:cNvSpPr/>
          <p:nvPr/>
        </p:nvSpPr>
        <p:spPr>
          <a:xfrm>
            <a:off x="2698560" y="2362320"/>
            <a:ext cx="383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d4d4d"/>
                </a:solidFill>
                <a:latin typeface="华文楷体"/>
                <a:ea typeface="华文楷体"/>
              </a:rPr>
              <a:t>第十二块纱布</a:t>
            </a:r>
            <a:endParaRPr b="0" lang="en-US" sz="8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1872720" y="5913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4d4d4d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-119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100,-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-119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100,-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04920" y="232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同桌合作读课文，如果他有读得不通顺的地方，让他多读两遍；如果他有读得好的地方，多向他学习；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读完之后，互相指读生字；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互相说一说自己读完后的感受。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834120" y="1371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</a:rPr>
              <a:t>学习目标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419720" y="2220840"/>
            <a:ext cx="144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楷体_GB2312"/>
              </a:rPr>
              <a:t>纱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楷体_GB2312"/>
              </a:rPr>
              <a:t>布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438280" y="2219400"/>
            <a:ext cx="16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责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任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6705720" y="41148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且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294600" y="314172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复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杂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666880" y="327672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缝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合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6248520" y="228600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严肃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62120" y="320040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清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楚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419720" y="320040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睬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41911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毫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示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弱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553080" y="3962520"/>
            <a:ext cx="15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838080" y="419112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泛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起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2590920" y="419112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欣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慰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762120" y="220968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握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着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1477800" y="5199120"/>
            <a:ext cx="15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担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3429000" y="5257800"/>
            <a:ext cx="156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大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4648320" y="5181480"/>
            <a:ext cx="146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即将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-119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100,-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-119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100,-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cc"/>
              </a:solidFill>
              <a:latin typeface="黑体"/>
              <a:ea typeface="楷体_GB2312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1447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4495680" y="2362320"/>
            <a:ext cx="144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楷体_GB2312"/>
              </a:rPr>
              <a:t>纱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438280" y="2362320"/>
            <a:ext cx="164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责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705720" y="411480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且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6553080" y="312408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复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666880" y="327672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缝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248520" y="228600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严肃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762120" y="320040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楚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419720" y="320040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睬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41911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　示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6553080" y="3962520"/>
            <a:ext cx="15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838080" y="419112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泛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590920" y="419112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欣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762120" y="2209680"/>
            <a:ext cx="15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握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477800" y="5199120"/>
            <a:ext cx="1570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-119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100,-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0,-119,-13)"/>
                                          </p:val>
                                        </p:tav>
                                        <p:tav tm="50000">
                                          <p:val>
                                            <p:strVal val="rgb(64,100,-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icrosoft Sans Serif"/>
                <a:ea typeface="楷体_GB2312"/>
              </a:rPr>
              <a:t>　　在这次手术中，有一位年轻的护士是第一次担任责任护士，而且是为一位赫赫有名的外科专家做助手。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icrosoft Sans Serif"/>
                <a:ea typeface="楷体_GB2312"/>
              </a:rPr>
              <a:t>　　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icrosoft Sans Serif"/>
                <a:ea typeface="楷体_GB2312"/>
              </a:rPr>
              <a:t>　　直到这时，外科专家冷漠的脸上才泛起一丝欣慰的笑容。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cc"/>
              </a:solidFill>
              <a:latin typeface="Microsoft Sans Serif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Microsoft Sans Serif"/>
                <a:ea typeface="楷体_GB2312"/>
              </a:rPr>
              <a:t>　　默读课文，边读边想：你最佩服护士的那一点？画出课文中的语句，并在旁边写上自己的感受。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d4d4d"/>
                </a:solidFill>
                <a:latin typeface="Microsoft Sans Serif"/>
              </a:rPr>
              <a:t>　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直到这时，外科专家冷漠的脸上才泛起一丝欣慰的笑容。他举起左手心里握着的第十二块纱布，向所有的人宣布：“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她是我合格的助手！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”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4" name="文本框 1"/>
          <p:cNvSpPr/>
          <p:nvPr/>
        </p:nvSpPr>
        <p:spPr>
          <a:xfrm>
            <a:off x="457200" y="5337000"/>
            <a:ext cx="58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86440"/>
                </a:solidFill>
                <a:latin typeface="Microsoft Sans Serif"/>
              </a:rPr>
              <a:t>使用规范说明</a:t>
            </a:r>
            <a:endParaRPr b="0" lang="en-US" sz="3200" spc="-1" strike="noStrike">
              <a:solidFill>
                <a:srgbClr val="f86440"/>
              </a:solidFill>
              <a:latin typeface="Microsoft Sans Serif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站点介绍：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Microsoft Sans Serif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Microsoft Sans Serif"/>
              </a:rPr>
              <a:t> </a:t>
            </a:r>
            <a:r>
              <a:rPr b="0" lang="zh-CN" sz="1200" spc="-1" strike="noStrike" u="sng">
                <a:solidFill>
                  <a:srgbClr val="f86440"/>
                </a:solidFill>
                <a:uFillTx/>
                <a:latin typeface="Microsoft Sans Serif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f86440"/>
                </a:solidFill>
                <a:uFillTx/>
                <a:latin typeface="Microsoft Sans Serif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 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Microsoft Sans Serif"/>
              </a:rPr>
              <a:t>栏目推荐：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           </a:t>
            </a: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dongtai/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           </a:t>
            </a: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chuangyi/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gongzuo/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Microsoft Sans Serif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kejian/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shangwu/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sucai/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fengjing/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f86440"/>
                </a:solidFill>
                <a:uFillTx/>
                <a:latin typeface="Microsoft Sans Serif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jianjie/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jiaoyu/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lunwen/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Microsoft Sans Serif"/>
              </a:rPr>
              <a:t>http://www.eeppt.com/moban/yiliao/</a:t>
            </a: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E382-9FFA-47D4-81E2-62E3D9FA01B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2T14:13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9:17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