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153-D821-415D-8693-4CBBCEB464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1377-4703-44C1-887A-E5B80554A0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067-20C0-41D0-9E2B-C3BD7A16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045-CD8A-43DB-8683-CC353DD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F6F-C7BB-450F-9CEC-1915A311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4DA-4747-4727-9163-1A72245A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C5C-BF42-45B3-81F8-98E1271F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C37-4249-405E-BB3F-D44F488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B89-7F7C-4C57-BE1E-53AA0B48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221-5600-4C30-8985-83F2D50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2FA-15D0-4DF0-B7AD-13304975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488-2D09-4F66-B4EA-A4A3C01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F8E-69A6-470C-ADE0-5AB363C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F59-92DC-446E-B7E1-281B4D5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6605-2CC1-4C95-808C-98839868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619280" y="1773360"/>
            <a:ext cx="57913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华文隶书"/>
                <a:ea typeface="华文隶书"/>
              </a:rPr>
              <a:t>登 山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99720" y="5229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登上山顶，一道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阳光正好射穿黎明前的薄雾。远处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湖水反射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亮光，树丛和草地上的露珠也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光芒。鸟儿们放开歌喉，欢快地歌唱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小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435640" y="1557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940360" y="20574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蔚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484360" y="2492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耀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690560" y="2997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闪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C90C-354A-4616-A345-4E56785D76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2376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557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列宁这个人物给了你怎样的印象？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55640" y="3429000"/>
            <a:ext cx="7056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勇于战胜困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自觉锻炼意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12345"/>
          <p:cNvPicPr/>
          <p:nvPr/>
        </p:nvPicPr>
        <p:blipFill>
          <a:blip r:embed="rId1"/>
          <a:stretch/>
        </p:blipFill>
        <p:spPr>
          <a:xfrm>
            <a:off x="250920" y="765000"/>
            <a:ext cx="3225600" cy="410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454560" y="549000"/>
            <a:ext cx="56894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文中哪些语句，体现了小路之险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51280" y="256536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巴果茨基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贴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峭壁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扭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头，不去看深渊，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碎小的步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狭窄的小路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向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19159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面对如此危险的小路，列宁如何表现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读一读，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登上山顶，一道柔和的阳光正好射穿黎明前的薄雾。远处，蔚蓝色的湖水反射出耀眼的亮光，树丛和草地上的露珠也闪烁着光芒。鸟儿们放开歌喉，欢快地歌唱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4941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抒发了列宁战胜自己后的喜悦心情，也揭示了“无限风光在险峰”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1480" y="4221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文章题目是登山，为什么写美丽景色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360" y="6919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列宁两次走小路有什么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24000" y="24922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1 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不必走，而列宁仍旧走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2 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列宁先走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3 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列宁在最险的地方没有停下，毅然决然地走了过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11280" y="162864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二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说说你对这段话的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4920" y="2133360"/>
            <a:ext cx="8497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就是因为我害怕它。”列宁说，“我们不应该让害怕把自己压倒，得每时每刻、随时随地锻炼自己的意志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4360" y="9810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没有付出就没有收获，面对困难，我们应该怎么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55640" y="314172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要时时刻刻、随时随地锻炼自己的意志，做个意志坚强的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057400" y="4800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小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果茨基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峭壁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头，不去看深渊，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步子在狭窄的小路上慢慢向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几秒钟，定了定神，又小心地向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步。终于，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走过了这段危险的小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987640" y="15541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贴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219640" y="1484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扭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914560" y="20574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碎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124000" y="2492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835280" y="3213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站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690560" y="3716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580000" y="371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步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1327320" y="5459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4:04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3:15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