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type.wav" ContentType="audio/x-wav"/>
  <Override PartName="/ppt/media/image20.jpeg" ContentType="image/jpeg"/>
  <Override PartName="/ppt/media/image15.jpeg" ContentType="image/jpeg"/>
  <Override PartName="/ppt/media/image19.png" ContentType="image/png"/>
  <Override PartName="/ppt/media/image16.jpeg" ContentType="image/jpeg"/>
  <Override PartName="/ppt/media/chimes.wav" ContentType="audio/x-wav"/>
  <Override PartName="/ppt/media/image14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62F7-AEA3-4DF1-B6E3-D8E053DC96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6E6D-5306-4498-AC98-F30A943AAF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7703-F80A-421B-B962-94B57321188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851-B112-44EC-9986-2CDCF852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1218-7E7F-4AC2-BF67-7BD97F74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20B-676C-40C2-ABFA-E8C31F6A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08E-2BD8-4EF4-9ABC-2DEDC550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D90A-E4CC-4586-980D-578C3E1B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7028-EE00-417D-9AE7-B77057B9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6694-A7A9-4977-985F-426D1E0C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B792-EB50-4E48-955E-5D64D46D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FD9B-0585-44D1-9F4B-235A5B2F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9E89-AE95-49EB-94C1-8C5760A3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4A1A-D2CA-48D4-97DD-85F38FCB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9AF-C75A-4A76-8938-6D67DC9E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A97A-35C2-435E-A274-7F2714B0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5429-54D2-42BA-99FB-CD5F71F4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C298-92D6-43C5-AF7B-F4D633CE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D1C2-B27A-452B-B5C2-E7174644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1A9A-B83E-4719-BEA8-854CCC06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CED5C-B816-4B50-A72A-3C0F3D1E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56D90-BFB7-4945-BAF2-DFC1B8BD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60E6F-A609-45F1-B66F-0E108236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FA0AC-EA40-4007-B77F-2DDE0B59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6813A-63B6-4397-A14A-C2D90DCB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8F2-BA33-419E-9FFE-D77ADA4E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BFC1-C964-4F40-804F-A8180B6F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38BCB-D56F-4715-AC8C-7EC1EB13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14C10-1589-4D29-8CDF-26652E81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4699-49F4-4DAD-BD18-0CB4834D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B937F-A664-4002-A21F-DE176BC2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73A16-A960-439E-985D-88EAC2D0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E7CCC-8F21-4BC9-87D5-3BE4C25D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BC786-034A-4CA2-995F-8EF8CD18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1E683-AC8A-4828-B236-8E32802A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77CE0-A369-44A6-8005-40944C3F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023-5002-4D51-BDD8-9B3EFFE1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1B3FC-56C4-40DE-B307-01766747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DCFA4-995B-485E-B707-1CCA7185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EF7BB-8306-48DF-9C57-831FFE88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788DA-2875-473E-B89C-FAA4D9A2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4D92D-377E-4BD2-BD9C-A19C4B01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B2D3E-6D42-40B6-81FE-D8726E82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79C68-3AC5-4DAE-8CA5-C13F62D1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E314F-091C-428B-AECD-74BBBCFE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5CD1A-7B59-4C05-A017-4C61D979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AAF-7E80-4E56-9DE6-BDD03611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63B-6701-4CD8-A658-555287A6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836-F94F-454F-8DB8-69B3B684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E3E-4E6B-4A8E-90B1-A7549796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F62-BD51-430C-A489-86484E9C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AF5B-152E-4BEF-BD0B-800EE9DA853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680"/>
            <a:ext cx="2430000" cy="2250360"/>
            <a:chOff x="7170120" y="-85680"/>
            <a:chExt cx="2430000" cy="22503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680"/>
              <a:ext cx="2430000" cy="2250360"/>
              <a:chOff x="7170120" y="-85680"/>
              <a:chExt cx="2430000" cy="225036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680"/>
                <a:ext cx="2430000" cy="2250360"/>
                <a:chOff x="7170120" y="-85680"/>
                <a:chExt cx="2430000" cy="225036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81120" y="113040"/>
                  <a:ext cx="24372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06400" y="522360"/>
                  <a:ext cx="4287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04360" y="285120"/>
                  <a:ext cx="8049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1040" y="-27000"/>
                  <a:ext cx="12078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2400" y="1422360"/>
                  <a:ext cx="26928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2200" y="127728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11000" y="332640"/>
                  <a:ext cx="28836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48360" y="21888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7831-5CD6-4EBC-AB57-5BFB3FCDDC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BBF1-BC0A-4DEF-9E7C-CAFD6B00948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7240" y="4317480"/>
            <a:ext cx="983160" cy="1161720"/>
            <a:chOff x="7797240" y="4317480"/>
            <a:chExt cx="983160" cy="1161720"/>
          </a:xfrm>
        </p:grpSpPr>
        <p:sp>
          <p:nvSpPr>
            <p:cNvPr id="181" name="未知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 rot="7320000">
              <a:off x="7930080" y="4617360"/>
              <a:ext cx="66060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7240" y="4317480"/>
              <a:ext cx="983160" cy="1161720"/>
              <a:chOff x="7797240" y="4317480"/>
              <a:chExt cx="983160" cy="1161720"/>
            </a:xfrm>
          </p:grpSpPr>
          <p:sp>
            <p:nvSpPr>
              <p:cNvPr id="185" name="未知"/>
              <p:cNvSpPr/>
              <p:nvPr/>
            </p:nvSpPr>
            <p:spPr>
              <a:xfrm rot="7320000">
                <a:off x="7916400" y="5061960"/>
                <a:ext cx="93960" cy="975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 rot="7320000">
                <a:off x="7759080" y="4649400"/>
                <a:ext cx="1058760" cy="4978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 rot="7320000">
                <a:off x="8039880" y="4756680"/>
                <a:ext cx="749160" cy="281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 rot="7320000">
                <a:off x="8513640" y="4554720"/>
                <a:ext cx="100080" cy="188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rot="7320000">
                <a:off x="8150400" y="4754520"/>
                <a:ext cx="306360" cy="1666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0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514B-1835-473F-807D-7604A848488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7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1未命名"/>
          <p:cNvPicPr/>
          <p:nvPr/>
        </p:nvPicPr>
        <p:blipFill>
          <a:blip r:embed="rId1"/>
          <a:srcRect l="0" t="0" r="1940" b="0"/>
          <a:stretch/>
        </p:blipFill>
        <p:spPr>
          <a:xfrm>
            <a:off x="1951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piano.wma" descr=""/>
          <p:cNvPicPr/>
          <p:nvPr/>
        </p:nvPicPr>
        <p:blipFill>
          <a:blip r:embed="rId2"/>
          <a:stretch/>
        </p:blipFill>
        <p:spPr>
          <a:xfrm>
            <a:off x="8604360" y="260280"/>
            <a:ext cx="342720" cy="3621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971640" y="2320920"/>
            <a:ext cx="5761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0000"/>
                </a:solidFill>
                <a:latin typeface="华文隶书"/>
                <a:ea typeface="华文隶书"/>
              </a:rPr>
              <a:t>搭 石</a:t>
            </a:r>
            <a:endParaRPr b="0" lang="en-US" sz="13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矩形 6" descr=""/>
          <p:cNvPicPr/>
          <p:nvPr/>
        </p:nvPicPr>
        <p:blipFill>
          <a:blip r:embed="rId3"/>
          <a:stretch/>
        </p:blipFill>
        <p:spPr>
          <a:xfrm>
            <a:off x="1343160" y="568008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0577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44366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话搭石（第</a:t>
            </a: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段）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摆搭石（第</a:t>
            </a: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段）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   走搭石（第</a:t>
            </a: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段）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赞搭石（第</a:t>
            </a: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段）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图片15551"/>
          <p:cNvPicPr/>
          <p:nvPr/>
        </p:nvPicPr>
        <p:blipFill>
          <a:blip r:embed="rId1"/>
          <a:stretch/>
        </p:blipFill>
        <p:spPr>
          <a:xfrm>
            <a:off x="0" y="2319480"/>
            <a:ext cx="9144000" cy="4538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"/>
          <p:cNvSpPr/>
          <p:nvPr/>
        </p:nvSpPr>
        <p:spPr>
          <a:xfrm>
            <a:off x="324000" y="42840"/>
            <a:ext cx="8459640" cy="69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秋天，天气变凉，家乡的人们会根据水的深浅，从河的两岸找来一些平整方正的石头，按照二尺左右的间隔，在小溪里横着摆上一排，让人们从上面踏过，这就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搭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4"/>
          <p:cNvSpPr/>
          <p:nvPr/>
        </p:nvSpPr>
        <p:spPr>
          <a:xfrm flipH="1">
            <a:off x="4211280" y="3284640"/>
            <a:ext cx="576360" cy="2592360"/>
          </a:xfrm>
          <a:prstGeom prst="line">
            <a:avLst/>
          </a:prstGeom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4788000" y="3284640"/>
            <a:ext cx="71280" cy="2736720"/>
          </a:xfrm>
          <a:prstGeom prst="line">
            <a:avLst/>
          </a:prstGeom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4788000" y="3284640"/>
            <a:ext cx="647640" cy="2665440"/>
          </a:xfrm>
          <a:prstGeom prst="line">
            <a:avLst/>
          </a:prstGeom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4788000" y="3284640"/>
            <a:ext cx="1150920" cy="2592360"/>
          </a:xfrm>
          <a:prstGeom prst="line">
            <a:avLst/>
          </a:prstGeom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4788000" y="3284640"/>
            <a:ext cx="1512720" cy="2303280"/>
          </a:xfrm>
          <a:prstGeom prst="line">
            <a:avLst/>
          </a:prstGeom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250920" y="0"/>
            <a:ext cx="8459640" cy="69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秋天，天气变凉，家乡的人们会根据水的深浅，从河的两岸找来一些平整方正的石头，按照二尺左右的间隔，在小溪里横着摆上一排，让人们从上面踏过，这就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搭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754200" y="836640"/>
            <a:ext cx="5473080" cy="4397040"/>
            <a:chOff x="754200" y="836640"/>
            <a:chExt cx="5473080" cy="4397040"/>
          </a:xfrm>
        </p:grpSpPr>
        <p:sp>
          <p:nvSpPr>
            <p:cNvPr id="282" name="Text Box 4"/>
            <p:cNvSpPr/>
            <p:nvPr/>
          </p:nvSpPr>
          <p:spPr>
            <a:xfrm>
              <a:off x="1401840" y="2565360"/>
              <a:ext cx="4825440" cy="26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1a19"/>
                  </a:solidFill>
                  <a:latin typeface="Arial"/>
                  <a:ea typeface="宋体"/>
                </a:rPr>
                <a:t>“</a:t>
              </a:r>
              <a:r>
                <a:rPr b="0" lang="zh-CN" sz="4800" spc="-1" strike="noStrike">
                  <a:solidFill>
                    <a:srgbClr val="001a19"/>
                  </a:solidFill>
                  <a:latin typeface="Arial"/>
                  <a:ea typeface="宋体"/>
                </a:rPr>
                <a:t>搭石”给你留下了怎样的印象</a:t>
              </a:r>
              <a:r>
                <a:rPr b="0" lang="en-US" sz="4800" spc="-1" strike="noStrike">
                  <a:solidFill>
                    <a:srgbClr val="001a19"/>
                  </a:solidFill>
                  <a:latin typeface="Arial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Text Box 5"/>
            <p:cNvSpPr/>
            <p:nvPr/>
          </p:nvSpPr>
          <p:spPr>
            <a:xfrm>
              <a:off x="754200" y="836640"/>
              <a:ext cx="3312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交流：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xin_54305062108426711109413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289080" y="4686480"/>
            <a:ext cx="867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洪过后，人们出工、收工、赶集、访友，来来去去，必须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脱鞋挽裤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4"/>
          <p:cNvSpPr/>
          <p:nvPr/>
        </p:nvSpPr>
        <p:spPr>
          <a:xfrm>
            <a:off x="1184400" y="2085840"/>
            <a:ext cx="70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a19"/>
                </a:solidFill>
                <a:latin typeface="Arial"/>
                <a:ea typeface="宋体"/>
              </a:rPr>
              <a:t>如果没有搭石，家乡的人们怎么过小溪呢？谁也能用课文中的句子来说一说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395280" y="371628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一次又一次的脱鞋绾裤啊，你体会到了什么？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0" y="549360"/>
            <a:ext cx="9144000" cy="3528720"/>
            <a:chOff x="0" y="549360"/>
            <a:chExt cx="9144000" cy="3528720"/>
          </a:xfrm>
        </p:grpSpPr>
        <p:pic>
          <p:nvPicPr>
            <p:cNvPr id="289" name="Picture 4" descr="87b18418cc8d46a64bedbcd7"/>
            <p:cNvPicPr/>
            <p:nvPr/>
          </p:nvPicPr>
          <p:blipFill>
            <a:blip r:embed="rId1"/>
            <a:stretch/>
          </p:blipFill>
          <p:spPr>
            <a:xfrm>
              <a:off x="0" y="549360"/>
              <a:ext cx="9144000" cy="26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5"/>
            <p:cNvSpPr/>
            <p:nvPr/>
          </p:nvSpPr>
          <p:spPr>
            <a:xfrm>
              <a:off x="0" y="954720"/>
              <a:ext cx="8791560" cy="31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cc0066"/>
                </a:buClr>
                <a:buSzPct val="7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山洪过后，人们出工、收工、赶集、访友，来来去去，必须脱鞋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绾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裤 。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1" name="Text Box 6"/>
          <p:cNvSpPr/>
          <p:nvPr/>
        </p:nvSpPr>
        <p:spPr>
          <a:xfrm>
            <a:off x="826920" y="5229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1a19"/>
                </a:solidFill>
                <a:latin typeface="Arial"/>
                <a:ea typeface="宋体"/>
              </a:rPr>
              <a:t>不便、麻烦、甚至很辛苦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863640" y="19875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a19"/>
                </a:solidFill>
                <a:latin typeface="Arial"/>
                <a:ea typeface="宋体"/>
              </a:rPr>
              <a:t>默读</a:t>
            </a:r>
            <a:r>
              <a:rPr b="0" lang="en-US" sz="4400" spc="-1" strike="noStrike">
                <a:solidFill>
                  <a:srgbClr val="001a19"/>
                </a:solidFill>
                <a:latin typeface="Arial"/>
              </a:rPr>
              <a:t>2-4</a:t>
            </a:r>
            <a:r>
              <a:rPr b="0" lang="zh-CN" sz="4400" spc="-1" strike="noStrike">
                <a:solidFill>
                  <a:srgbClr val="001a19"/>
                </a:solidFill>
                <a:latin typeface="Arial"/>
                <a:ea typeface="宋体"/>
              </a:rPr>
              <a:t>自然段，用波浪线划出家乡的人们走搭石的相关语句，再想一想那是一幅怎样的画面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图片15551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6924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3"/>
          <p:cNvSpPr/>
          <p:nvPr/>
        </p:nvSpPr>
        <p:spPr>
          <a:xfrm>
            <a:off x="1042920" y="333360"/>
            <a:ext cx="5832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上了点年岁的人，无论怎样急着赶路，只要发现哪块搭石不平稳，一定会放下带的东西，找来合适的石头搭上，再在上边踏上几个来回，直到满意了才肯离去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5" name="Picture 4" descr="u=593975918,1819102922&amp;fm=15&amp;gp=0"/>
          <p:cNvPicPr/>
          <p:nvPr/>
        </p:nvPicPr>
        <p:blipFill>
          <a:blip r:embed="rId2"/>
          <a:stretch/>
        </p:blipFill>
        <p:spPr>
          <a:xfrm rot="694200">
            <a:off x="7885080" y="333360"/>
            <a:ext cx="442800" cy="471600"/>
          </a:xfrm>
          <a:prstGeom prst="rect">
            <a:avLst/>
          </a:prstGeom>
          <a:ln w="0">
            <a:noFill/>
          </a:ln>
        </p:spPr>
      </p:pic>
      <p:sp>
        <p:nvSpPr>
          <p:cNvPr id="296" name="Line 5"/>
          <p:cNvSpPr/>
          <p:nvPr/>
        </p:nvSpPr>
        <p:spPr>
          <a:xfrm>
            <a:off x="5867280" y="907920"/>
            <a:ext cx="72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6"/>
          <p:cNvSpPr/>
          <p:nvPr/>
        </p:nvSpPr>
        <p:spPr>
          <a:xfrm flipV="1">
            <a:off x="2700360" y="4869000"/>
            <a:ext cx="144000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图片15551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692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"/>
          <p:cNvSpPr/>
          <p:nvPr/>
        </p:nvSpPr>
        <p:spPr>
          <a:xfrm>
            <a:off x="1042920" y="333360"/>
            <a:ext cx="583272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上了点年岁的人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无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怎样急着赶路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现哪块搭石不平稳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会放下带的东西，找来合适的石头搭上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上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踏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几个来回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直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满意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肯离去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0" name="Picture 4" descr="u=593975918,1819102922&amp;fm=15&amp;gp=0"/>
          <p:cNvPicPr/>
          <p:nvPr/>
        </p:nvPicPr>
        <p:blipFill>
          <a:blip r:embed="rId2"/>
          <a:stretch/>
        </p:blipFill>
        <p:spPr>
          <a:xfrm rot="694200">
            <a:off x="7885080" y="333360"/>
            <a:ext cx="442800" cy="471600"/>
          </a:xfrm>
          <a:prstGeom prst="rect">
            <a:avLst/>
          </a:prstGeom>
          <a:ln w="0">
            <a:noFill/>
          </a:ln>
        </p:spPr>
      </p:pic>
      <p:sp>
        <p:nvSpPr>
          <p:cNvPr id="301" name="Line 5"/>
          <p:cNvSpPr/>
          <p:nvPr/>
        </p:nvSpPr>
        <p:spPr>
          <a:xfrm>
            <a:off x="5867280" y="907920"/>
            <a:ext cx="72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6"/>
          <p:cNvSpPr/>
          <p:nvPr/>
        </p:nvSpPr>
        <p:spPr>
          <a:xfrm flipV="1">
            <a:off x="2700360" y="4869000"/>
            <a:ext cx="144000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404640"/>
            <a:ext cx="8785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每当上工、下工，一</a:t>
            </a:r>
            <a:r>
              <a:rPr b="1" lang="zh-CN" sz="4000" spc="-1" strike="noStrike">
                <a:solidFill>
                  <a:srgbClr val="001a19"/>
                </a:solidFill>
                <a:latin typeface="Arial"/>
              </a:rPr>
              <a:t>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人走搭石的时候，动作是那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xié)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调有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xù)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！前面的抬起脚来，后面的紧跟上去，踏踏的声音，像轻快的音乐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波漾漾，人影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hu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绰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给人画一般的美感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4" name="Picture 3" descr="fe12c76f201bc4c580cb4aac"/>
          <p:cNvPicPr/>
          <p:nvPr/>
        </p:nvPicPr>
        <p:blipFill>
          <a:blip r:embed="rId1"/>
          <a:stretch/>
        </p:blipFill>
        <p:spPr>
          <a:xfrm>
            <a:off x="4940280" y="3800520"/>
            <a:ext cx="4203720" cy="30574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4"/>
          <p:cNvSpPr/>
          <p:nvPr/>
        </p:nvSpPr>
        <p:spPr>
          <a:xfrm>
            <a:off x="5148360" y="3860640"/>
            <a:ext cx="3456000" cy="20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绰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号，诨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宽裕；富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形容姿态柔美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4932360" y="6021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很多，影子映在水里，很美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AutoShape 6"/>
          <p:cNvSpPr/>
          <p:nvPr/>
        </p:nvSpPr>
        <p:spPr>
          <a:xfrm>
            <a:off x="5508720" y="0"/>
            <a:ext cx="2449440" cy="549360"/>
          </a:xfrm>
          <a:prstGeom prst="wedgeRectCallout">
            <a:avLst>
              <a:gd name="adj1" fmla="val -43194"/>
              <a:gd name="adj2" fmla="val 80925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xíng    há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9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-4680" y="-7920"/>
            <a:ext cx="9155160" cy="6875280"/>
          </a:xfrm>
          <a:prstGeom prst="rect">
            <a:avLst/>
          </a:prstGeom>
          <a:ln w="0">
            <a:noFill/>
          </a:ln>
        </p:spPr>
      </p:pic>
      <p:sp>
        <p:nvSpPr>
          <p:cNvPr id="245" name="WordArt 3"/>
          <p:cNvSpPr txBox="1"/>
          <p:nvPr/>
        </p:nvSpPr>
        <p:spPr>
          <a:xfrm>
            <a:off x="684360" y="476280"/>
            <a:ext cx="2735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学提示：</a:t>
            </a:r>
            <a:endParaRPr b="1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755640" y="1989000"/>
            <a:ext cx="7920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自由读课文，读准字音，读通句子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什么是搭石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搭石给你留下怎样的印象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图片1587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3"/>
          <p:cNvSpPr/>
          <p:nvPr/>
        </p:nvSpPr>
        <p:spPr>
          <a:xfrm>
            <a:off x="3203640" y="3789360"/>
            <a:ext cx="3744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绰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chuò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；不狭窄。②宽裕；富裕。③形容姿态柔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39640" y="169920"/>
            <a:ext cx="8604360" cy="18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每当上工，下工，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走搭石的时候，动作是那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协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xié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调有序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xù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！前面的抬起脚来，后面的紧跟上去，踏踏的声音，象轻快的音乐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清波漾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人影绰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chuò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给人画一般的美感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301400" y="4508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绰绰有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2" name="Group 6"/>
          <p:cNvGrpSpPr/>
          <p:nvPr/>
        </p:nvGrpSpPr>
        <p:grpSpPr>
          <a:xfrm>
            <a:off x="3276720" y="3789360"/>
            <a:ext cx="4203720" cy="3057480"/>
            <a:chOff x="3276720" y="3789360"/>
            <a:chExt cx="4203720" cy="3057480"/>
          </a:xfrm>
        </p:grpSpPr>
        <p:pic>
          <p:nvPicPr>
            <p:cNvPr id="313" name="Picture 7" descr="fe12c76f201bc4c580cb4aac"/>
            <p:cNvPicPr/>
            <p:nvPr/>
          </p:nvPicPr>
          <p:blipFill>
            <a:blip r:embed="rId2"/>
            <a:stretch/>
          </p:blipFill>
          <p:spPr>
            <a:xfrm>
              <a:off x="3276720" y="3789360"/>
              <a:ext cx="4203720" cy="30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8"/>
            <p:cNvSpPr/>
            <p:nvPr/>
          </p:nvSpPr>
          <p:spPr>
            <a:xfrm>
              <a:off x="3419640" y="3994200"/>
              <a:ext cx="3960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1a19"/>
                  </a:solidFill>
                  <a:latin typeface="Arial"/>
                </a:rPr>
                <a:t>你们从哪儿体会到这幅画面的美呢？ 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3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0060608234209993"/>
          <p:cNvPicPr/>
          <p:nvPr/>
        </p:nvPicPr>
        <p:blipFill>
          <a:blip r:embed="rId1"/>
          <a:stretch/>
        </p:blipFill>
        <p:spPr>
          <a:xfrm>
            <a:off x="2325600" y="0"/>
            <a:ext cx="481356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"/>
          <p:cNvSpPr/>
          <p:nvPr/>
        </p:nvSpPr>
        <p:spPr>
          <a:xfrm>
            <a:off x="1068480" y="836640"/>
            <a:ext cx="8506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66"/>
                </a:solidFill>
                <a:latin typeface="Arial"/>
              </a:rPr>
              <a:t>清　波　漾　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6521760" y="907920"/>
            <a:ext cx="164268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清波漾漾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清色的水波在荡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20060608234209130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250920" y="5516640"/>
            <a:ext cx="47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人　影　绰　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012680" y="835200"/>
            <a:ext cx="740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人影绰绰：人一个接一个，形容人很多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2ea7dbf96cbe7d7e242df200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7396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1258920" y="1125360"/>
            <a:ext cx="35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每当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上工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下工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一行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走搭石的时候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动作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是那么协调有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前面的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抬起脚来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5003640" y="1052640"/>
            <a:ext cx="30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后面的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紧跟上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踏踏的声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像轻快的音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清波漾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人影绰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给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a19"/>
                </a:solidFill>
                <a:latin typeface="Arial"/>
                <a:ea typeface="宋体"/>
              </a:rPr>
              <a:t>画一般的美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WordArt 5"/>
          <p:cNvSpPr txBox="1"/>
          <p:nvPr/>
        </p:nvSpPr>
        <p:spPr>
          <a:xfrm>
            <a:off x="250920" y="189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朗读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325" name="kiss the rain.mp3" descr=""/>
          <p:cNvPicPr/>
          <p:nvPr/>
        </p:nvPicPr>
        <p:blipFill>
          <a:blip r:embed="rId2"/>
          <a:stretch/>
        </p:blipFill>
        <p:spPr>
          <a:xfrm>
            <a:off x="745164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260757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图片1553"/>
          <p:cNvPicPr/>
          <p:nvPr/>
        </p:nvPicPr>
        <p:blipFill>
          <a:blip r:embed="rId1"/>
          <a:stretch/>
        </p:blipFill>
        <p:spPr>
          <a:xfrm>
            <a:off x="-34920" y="-98280"/>
            <a:ext cx="9178920" cy="48225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771640" y="630864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468360" y="4653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有两个人面对面同时走到溪边，总会在第一块搭石前止步，招手示意，让对方先走，等对方过了河，俩人再说上几句家常话，才相背而行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3687840" y="285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4397400" y="623736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谦  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图片1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3"/>
          <p:cNvSpPr/>
          <p:nvPr/>
        </p:nvSpPr>
        <p:spPr>
          <a:xfrm>
            <a:off x="1187280" y="1989000"/>
            <a:ext cx="6912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如遇上老人来走搭石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轻人总要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伏（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f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ú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身子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人过去，人们把这看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然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事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4428360" y="5051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尊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019160" y="895320"/>
            <a:ext cx="64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a19"/>
                </a:solidFill>
                <a:latin typeface="Arial"/>
              </a:rPr>
              <a:t>两人相遇，招手礼让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4920" y="115560"/>
            <a:ext cx="914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当这位老人年轻的时候，他一定也曾经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（                                     ）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当这位年轻人老了的时候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也一定会有（                                      ）</a:t>
            </a:r>
            <a:r>
              <a:rPr b="0" lang="en-US" sz="4000" spc="-1" strike="noStrike" u="sng">
                <a:solidFill>
                  <a:srgbClr val="0033cc"/>
                </a:solidFill>
                <a:uFillTx/>
                <a:latin typeface="Arial"/>
              </a:rPr>
              <a:t>                                  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因为（                                              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2987640" y="213372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年轻人伏下身子背他过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835280" y="3573360"/>
            <a:ext cx="701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人们把这看成是理所当然的事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900000" y="76500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宋体"/>
              </a:rPr>
              <a:t>伏下身子背其他的老人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0" y="-360"/>
            <a:ext cx="9144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透过这个“伏”，一代又一代人的“理所当然”，你又体会到了什么？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WordArt 3"/>
          <p:cNvSpPr txBox="1"/>
          <p:nvPr/>
        </p:nvSpPr>
        <p:spPr>
          <a:xfrm>
            <a:off x="900000" y="3645000"/>
            <a:ext cx="7201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尊老敬老的心灵美！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a19"/>
                </a:solidFill>
                <a:latin typeface="Arial"/>
              </a:rPr>
              <a:t>这份美好情感也是 </a:t>
            </a:r>
            <a:r>
              <a:rPr b="0" lang="en-US" sz="4000" spc="-1" strike="noStrike">
                <a:solidFill>
                  <a:srgbClr val="001a19"/>
                </a:solidFill>
                <a:latin typeface="Arial"/>
              </a:rPr>
              <a:t>-----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4427640" y="2637000"/>
            <a:ext cx="4465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家乡的一道风景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395280" y="3645000"/>
            <a:ext cx="854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风景美心灵更美，这更是家乡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6372360" y="443700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一道风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250920" y="1341360"/>
            <a:ext cx="86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       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假如遇到孩子来走搭石，大人总要</a:t>
            </a:r>
            <a:r>
              <a:rPr b="0" lang="zh-CN" sz="4000" spc="-1" strike="noStrike" u="sng">
                <a:solidFill>
                  <a:srgbClr val="cc0066"/>
                </a:solidFill>
                <a:uFillTx/>
                <a:latin typeface="Arial"/>
                <a:ea typeface="宋体"/>
              </a:rPr>
              <a:t>             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，人们把这看成理所当然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的事。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50920" y="26028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572"/>
                </a:solidFill>
                <a:latin typeface="Arial"/>
                <a:ea typeface="宋体"/>
              </a:rPr>
              <a:t>激发想象，练习表达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250920" y="3573360"/>
            <a:ext cx="86407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        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如果遇到</a:t>
            </a:r>
            <a:r>
              <a:rPr b="0" lang="zh-CN" sz="4000" spc="-1" strike="noStrike" u="sng">
                <a:solidFill>
                  <a:srgbClr val="cc0066"/>
                </a:solidFill>
                <a:uFillTx/>
                <a:latin typeface="Arial"/>
                <a:ea typeface="宋体"/>
              </a:rPr>
              <a:t>            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 ，</a:t>
            </a:r>
            <a:r>
              <a:rPr b="0" lang="zh-CN" sz="4000" spc="-1" strike="noStrike" u="sng">
                <a:solidFill>
                  <a:srgbClr val="cc0066"/>
                </a:solidFill>
                <a:uFillTx/>
                <a:latin typeface="Arial"/>
                <a:ea typeface="宋体"/>
              </a:rPr>
              <a:t>           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总要  </a:t>
            </a:r>
            <a:r>
              <a:rPr b="0" lang="zh-CN" sz="4000" spc="-1" strike="noStrike" u="sng">
                <a:solidFill>
                  <a:srgbClr val="cc0066"/>
                </a:solidFill>
                <a:uFillTx/>
                <a:latin typeface="Arial"/>
                <a:ea typeface="宋体"/>
              </a:rPr>
              <a:t>              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，人们把这看成理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当然的事。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         </a:t>
            </a:r>
            <a:r>
              <a:rPr b="0" lang="zh-CN" sz="4000" spc="-1" strike="noStrike" u="sng">
                <a:solidFill>
                  <a:srgbClr val="cc0066"/>
                </a:solidFill>
                <a:uFillTx/>
                <a:latin typeface="Arial"/>
                <a:ea typeface="宋体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-4680" y="-28440"/>
            <a:ext cx="9155160" cy="6918120"/>
          </a:xfrm>
          <a:prstGeom prst="rect">
            <a:avLst/>
          </a:prstGeom>
          <a:ln w="0">
            <a:noFill/>
          </a:ln>
        </p:spPr>
      </p:pic>
      <p:sp>
        <p:nvSpPr>
          <p:cNvPr id="248" name="WordArt 3"/>
          <p:cNvSpPr txBox="1"/>
          <p:nvPr/>
        </p:nvSpPr>
        <p:spPr>
          <a:xfrm>
            <a:off x="611280" y="620640"/>
            <a:ext cx="2305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读：</a:t>
            </a:r>
            <a:endParaRPr b="1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6920" y="1916280"/>
            <a:ext cx="7777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谴责       懒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平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平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语       联结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 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下          俩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山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洪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发      溪水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猛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脱鞋挽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裤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协调有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清波漾漾      人影绰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55640" y="1557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qiǎ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98764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du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948360" y="2421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li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4211640" y="4076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yà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236000" y="4076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chu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21_04">
            <a:hlinkClick r:id="rId1" action="ppaction://hlinksldjump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3"/>
          <p:cNvSpPr/>
          <p:nvPr/>
        </p:nvSpPr>
        <p:spPr>
          <a:xfrm>
            <a:off x="2268360" y="1844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0" y="220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这看得见的画面“美”和看不见的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灵“美”构成了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1" name="kiss the rain.mp3" descr=""/>
          <p:cNvPicPr/>
          <p:nvPr/>
        </p:nvPicPr>
        <p:blipFill>
          <a:blip r:embed="rId3"/>
          <a:stretch/>
        </p:blipFill>
        <p:spPr>
          <a:xfrm>
            <a:off x="802800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2" name="Line 6"/>
          <p:cNvSpPr/>
          <p:nvPr/>
        </p:nvSpPr>
        <p:spPr>
          <a:xfrm>
            <a:off x="3851280" y="3357720"/>
            <a:ext cx="2376360" cy="0"/>
          </a:xfrm>
          <a:prstGeom prst="line">
            <a:avLst/>
          </a:prstGeom>
          <a:ln w="572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WordArt 7"/>
          <p:cNvSpPr txBox="1"/>
          <p:nvPr/>
        </p:nvSpPr>
        <p:spPr>
          <a:xfrm>
            <a:off x="1771560" y="4081320"/>
            <a:ext cx="559908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家乡的一道风景</a:t>
            </a:r>
            <a:endParaRPr b="0" lang="en-US" sz="1800" spc="1" strike="noStrike">
              <a:ln w="19080">
                <a:solidFill>
                  <a:srgbClr val="ffff00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dissolv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60757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21_04">
            <a:hlinkClick r:id="rId1" action="ppaction://hlinksldjump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3"/>
          <p:cNvSpPr/>
          <p:nvPr/>
        </p:nvSpPr>
        <p:spPr>
          <a:xfrm>
            <a:off x="2268360" y="1844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611280" y="1557360"/>
            <a:ext cx="7632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　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宋体"/>
              </a:rPr>
              <a:t>　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排排搭石，任人走，任人踏，它们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联结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着故乡的小路，也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联结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着乡亲们美好的情感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58" name="Picture 3" descr="FR_03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4"/>
            <p:cNvSpPr/>
            <p:nvPr/>
          </p:nvSpPr>
          <p:spPr>
            <a:xfrm>
              <a:off x="1295280" y="2438280"/>
              <a:ext cx="6400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0" name="Text Box 5"/>
          <p:cNvSpPr/>
          <p:nvPr/>
        </p:nvSpPr>
        <p:spPr>
          <a:xfrm>
            <a:off x="1556640" y="530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理所当然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1116000" y="4653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举例说说我们身边哪些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理所当然的事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”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663480" y="21178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课文中“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理所当然的事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”指什么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AutoShape 8">
            <a:hlinkClick r:id="rId2" action="ppaction://hlinksldjump"/>
          </p:cNvPr>
          <p:cNvSpPr/>
          <p:nvPr/>
        </p:nvSpPr>
        <p:spPr>
          <a:xfrm>
            <a:off x="845820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950760" y="3002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663480" y="3429000"/>
            <a:ext cx="75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遇上老人来走搭石，年轻人总要伏下身子背老人过去，人们把这看成理所当然的事情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背景3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3"/>
          <p:cNvSpPr/>
          <p:nvPr/>
        </p:nvSpPr>
        <p:spPr>
          <a:xfrm>
            <a:off x="723960" y="297828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这句话赞扬了搭石任人踩踏，却无怨无悔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默默无语的品格。（    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这句话实际是赞扬了乡亲们默默无闻、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私奉献的精神。（    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这句话含义深刻，不仅写了搭石任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踩踏、默默奉献的精神，而且赞扬了乡亲们默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闻、无私奉献的精神，搭石也是乡亲们相亲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爱、友好互助的情感纽带。（    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3097440" y="1066680"/>
            <a:ext cx="28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一排排搭石，任人走，任人踏，它们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联结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着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故乡的小路，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也联结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着乡亲们美好的情感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3518280" y="2133720"/>
            <a:ext cx="193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中心句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5219640" y="5661000"/>
            <a:ext cx="360360" cy="36036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9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738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4360" y="404280"/>
            <a:ext cx="79200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彩云"/>
              </a:rPr>
              <a:t> </a:t>
            </a:r>
            <a:r>
              <a:rPr b="1" lang="zh-CN" sz="4400" spc="-1" strike="noStrike">
                <a:solidFill>
                  <a:srgbClr val="ff00ff"/>
                </a:solidFill>
                <a:latin typeface="华文行楷"/>
                <a:ea typeface="华文行楷"/>
              </a:rPr>
              <a:t>美是一把雨中的小伞；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华文行楷"/>
                <a:ea typeface="华文行楷"/>
              </a:rPr>
              <a:t>    </a:t>
            </a:r>
            <a:r>
              <a:rPr b="1" lang="zh-CN" sz="4400" spc="-1" strike="noStrike">
                <a:solidFill>
                  <a:srgbClr val="ff00ff"/>
                </a:solidFill>
                <a:latin typeface="华文行楷"/>
                <a:ea typeface="华文行楷"/>
              </a:rPr>
              <a:t>美是一句风中的问候；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华文行楷"/>
                <a:ea typeface="华文行楷"/>
              </a:rPr>
              <a:t>       </a:t>
            </a:r>
            <a:r>
              <a:rPr b="1" lang="zh-CN" sz="4400" spc="-1" strike="noStrike">
                <a:solidFill>
                  <a:srgbClr val="ff00ff"/>
                </a:solidFill>
                <a:latin typeface="华文行楷"/>
                <a:ea typeface="华文行楷"/>
              </a:rPr>
              <a:t>美是一个关怀的眼神；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华文行楷"/>
                <a:ea typeface="华文行楷"/>
              </a:rPr>
              <a:t>          </a:t>
            </a:r>
            <a:r>
              <a:rPr b="1" lang="zh-CN" sz="4400" spc="-1" strike="noStrike">
                <a:solidFill>
                  <a:srgbClr val="ff00ff"/>
                </a:solidFill>
                <a:latin typeface="华文行楷"/>
                <a:ea typeface="华文行楷"/>
              </a:rPr>
              <a:t>美是一片温暖的阳光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行楷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3" name="piano.wma" descr=""/>
          <p:cNvPicPr/>
          <p:nvPr/>
        </p:nvPicPr>
        <p:blipFill>
          <a:blip r:embed="rId2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220577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572"/>
                </a:solidFill>
                <a:latin typeface="Arial"/>
                <a:ea typeface="楷体_GB2312"/>
              </a:rPr>
              <a:t>生活中并不缺少美，而是缺少发现美的眼睛。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5" name="文本框 1"/>
          <p:cNvSpPr/>
          <p:nvPr/>
        </p:nvSpPr>
        <p:spPr>
          <a:xfrm>
            <a:off x="1173240" y="5937120"/>
            <a:ext cx="52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826920" y="2489040"/>
            <a:ext cx="770436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美在身边，美是校园中弯腰捡垃圾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美在身边，美是汽车上给老人让座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美在身边，美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美在身边，美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Line 3"/>
          <p:cNvSpPr/>
          <p:nvPr/>
        </p:nvSpPr>
        <p:spPr>
          <a:xfrm>
            <a:off x="4356000" y="472428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8" name="Picture 4" descr="u=795929155,1185648449&amp;fm=15&amp;gp=0"/>
          <p:cNvPicPr/>
          <p:nvPr/>
        </p:nvPicPr>
        <p:blipFill>
          <a:blip r:embed="rId1"/>
          <a:stretch/>
        </p:blipFill>
        <p:spPr>
          <a:xfrm>
            <a:off x="307800" y="115920"/>
            <a:ext cx="2176560" cy="2282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u=1740429377,3887803554&amp;fm=15&amp;gp=0"/>
          <p:cNvPicPr/>
          <p:nvPr/>
        </p:nvPicPr>
        <p:blipFill>
          <a:blip r:embed="rId2"/>
          <a:stretch/>
        </p:blipFill>
        <p:spPr>
          <a:xfrm>
            <a:off x="7550280" y="5057640"/>
            <a:ext cx="1593720" cy="1800360"/>
          </a:xfrm>
          <a:prstGeom prst="rect">
            <a:avLst/>
          </a:prstGeom>
          <a:ln w="0">
            <a:noFill/>
          </a:ln>
        </p:spPr>
      </p:pic>
      <p:sp>
        <p:nvSpPr>
          <p:cNvPr id="380" name="WordArt 6"/>
          <p:cNvSpPr txBox="1"/>
          <p:nvPr/>
        </p:nvSpPr>
        <p:spPr>
          <a:xfrm>
            <a:off x="2771640" y="836640"/>
            <a:ext cx="2881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小练笔</a:t>
            </a:r>
            <a:endParaRPr b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prev1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3"/>
          <p:cNvSpPr/>
          <p:nvPr/>
        </p:nvSpPr>
        <p:spPr>
          <a:xfrm>
            <a:off x="1187280" y="2060640"/>
            <a:ext cx="9757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谢谢！</a:t>
            </a:r>
            <a:endParaRPr b="0" lang="en-US" sz="12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1B08-A70D-4BE5-84BD-5BCC287103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9"/>
          <p:cNvSpPr/>
          <p:nvPr/>
        </p:nvSpPr>
        <p:spPr>
          <a:xfrm>
            <a:off x="2268360" y="2871720"/>
            <a:ext cx="73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-4680" y="-28440"/>
            <a:ext cx="9155160" cy="6918120"/>
          </a:xfrm>
          <a:prstGeom prst="rect">
            <a:avLst/>
          </a:prstGeom>
          <a:ln w="0">
            <a:noFill/>
          </a:ln>
        </p:spPr>
      </p:pic>
      <p:sp>
        <p:nvSpPr>
          <p:cNvPr id="257" name="WordArt 3"/>
          <p:cNvSpPr txBox="1"/>
          <p:nvPr/>
        </p:nvSpPr>
        <p:spPr>
          <a:xfrm>
            <a:off x="250920" y="260280"/>
            <a:ext cx="2305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读：</a:t>
            </a:r>
            <a:endParaRPr b="1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395280" y="1197000"/>
            <a:ext cx="820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每年汛期，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山洪暴发，溪水猛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人们来来去去，必须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脱鞋挽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每当上工、下工，一行人走搭石的时候，动作是   那么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协调有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清波漾漾、人影绰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给人画一般的美感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等对方过了河，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俩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再说上几句家常话，才相背而行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5219640" y="2492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5148360" y="2276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xí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250920" y="1197000"/>
            <a:ext cx="79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听课文朗读，边听边想什么是搭石？搭石给你留下了怎样的印象？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395280" y="836640"/>
            <a:ext cx="820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再读课文，注意读准字音，读通句子，生字多读两遍。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图片15551"/>
          <p:cNvPicPr/>
          <p:nvPr/>
        </p:nvPicPr>
        <p:blipFill>
          <a:blip r:embed="rId1"/>
          <a:stretch/>
        </p:blipFill>
        <p:spPr>
          <a:xfrm>
            <a:off x="0" y="2319480"/>
            <a:ext cx="9144000" cy="4538520"/>
          </a:xfrm>
          <a:prstGeom prst="rect">
            <a:avLst/>
          </a:prstGeom>
          <a:ln w="0">
            <a:noFill/>
          </a:ln>
        </p:spPr>
      </p:pic>
      <p:sp>
        <p:nvSpPr>
          <p:cNvPr id="264" name="Line 3"/>
          <p:cNvSpPr/>
          <p:nvPr/>
        </p:nvSpPr>
        <p:spPr>
          <a:xfrm flipH="1">
            <a:off x="4211280" y="3284640"/>
            <a:ext cx="576360" cy="2592360"/>
          </a:xfrm>
          <a:prstGeom prst="line">
            <a:avLst/>
          </a:prstGeom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788000" y="3284640"/>
            <a:ext cx="71280" cy="2736720"/>
          </a:xfrm>
          <a:prstGeom prst="line">
            <a:avLst/>
          </a:prstGeom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4788000" y="3284640"/>
            <a:ext cx="647640" cy="2665440"/>
          </a:xfrm>
          <a:prstGeom prst="line">
            <a:avLst/>
          </a:prstGeom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4788000" y="3284640"/>
            <a:ext cx="1150920" cy="2592360"/>
          </a:xfrm>
          <a:prstGeom prst="line">
            <a:avLst/>
          </a:prstGeom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4788000" y="3284640"/>
            <a:ext cx="1512720" cy="2303280"/>
          </a:xfrm>
          <a:prstGeom prst="line">
            <a:avLst/>
          </a:prstGeom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50920" y="0"/>
            <a:ext cx="845964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1a19"/>
                </a:solidFill>
                <a:latin typeface="Arial"/>
              </a:rPr>
              <a:t>进入秋天，天气变凉，家乡的人们会根据水的深浅，从河的两岸找来一些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平整方正</a:t>
            </a:r>
            <a:r>
              <a:rPr b="0" lang="zh-CN" sz="3200" spc="-1" strike="noStrike">
                <a:solidFill>
                  <a:srgbClr val="001a19"/>
                </a:solidFill>
                <a:latin typeface="Arial"/>
              </a:rPr>
              <a:t>的石头，按照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二尺左右</a:t>
            </a:r>
            <a:r>
              <a:rPr b="0" lang="zh-CN" sz="3200" spc="-1" strike="noStrike">
                <a:solidFill>
                  <a:srgbClr val="001a19"/>
                </a:solidFill>
                <a:latin typeface="Arial"/>
              </a:rPr>
              <a:t>的间隔，在小溪里横着摆上一排，让人们从上面踏过，这就是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搭石</a:t>
            </a:r>
            <a:r>
              <a:rPr b="0" lang="zh-CN" sz="3200" spc="-1" strike="noStrike">
                <a:solidFill>
                  <a:srgbClr val="001a1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3"/>
          <p:cNvSpPr/>
          <p:nvPr/>
        </p:nvSpPr>
        <p:spPr>
          <a:xfrm>
            <a:off x="324000" y="112536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1a19"/>
                </a:solidFill>
                <a:latin typeface="Arial"/>
                <a:ea typeface="宋体"/>
              </a:rPr>
              <a:t>进入秋天，天气变凉，家乡的人们会根据水的深浅，从河的两岸找来一些</a:t>
            </a:r>
            <a:r>
              <a:rPr b="0" lang="zh-CN" sz="4400" spc="-1" strike="noStrike">
                <a:solidFill>
                  <a:srgbClr val="006666"/>
                </a:solidFill>
                <a:latin typeface="Arial"/>
                <a:ea typeface="宋体"/>
              </a:rPr>
              <a:t>平整方正</a:t>
            </a:r>
            <a:r>
              <a:rPr b="0" lang="zh-CN" sz="4400" spc="-1" strike="noStrike">
                <a:solidFill>
                  <a:srgbClr val="001a19"/>
                </a:solidFill>
                <a:latin typeface="Arial"/>
                <a:ea typeface="宋体"/>
              </a:rPr>
              <a:t>的石头，按照</a:t>
            </a:r>
            <a:r>
              <a:rPr b="0" lang="zh-CN" sz="4400" spc="-1" strike="noStrike">
                <a:solidFill>
                  <a:srgbClr val="006666"/>
                </a:solidFill>
                <a:latin typeface="Arial"/>
                <a:ea typeface="宋体"/>
              </a:rPr>
              <a:t>二尺左右</a:t>
            </a:r>
            <a:r>
              <a:rPr b="0" lang="zh-CN" sz="4400" spc="-1" strike="noStrike">
                <a:solidFill>
                  <a:srgbClr val="001a19"/>
                </a:solidFill>
                <a:latin typeface="Arial"/>
                <a:ea typeface="宋体"/>
              </a:rPr>
              <a:t>的间隔，在小溪里横着摆上一排，让人们从上面踏过，这就是</a:t>
            </a:r>
            <a:r>
              <a:rPr b="0" lang="zh-CN" sz="4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搭石</a:t>
            </a:r>
            <a:r>
              <a:rPr b="0" lang="zh-CN" sz="4400" spc="-1" strike="noStrike">
                <a:solidFill>
                  <a:srgbClr val="001a19"/>
                </a:solidFill>
                <a:latin typeface="Arial"/>
                <a:ea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4000" y="429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1a19"/>
                </a:solidFill>
                <a:latin typeface="Comic Sans MS"/>
              </a:rPr>
              <a:t>     </a:t>
            </a:r>
            <a:r>
              <a:rPr b="1" lang="zh-CN" sz="6600" spc="-1" strike="noStrike">
                <a:solidFill>
                  <a:srgbClr val="001a19"/>
                </a:solidFill>
                <a:latin typeface="Comic Sans MS"/>
              </a:rPr>
              <a:t>再读读课文，按总分总的关系将课文分段，并概括成小标题。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5:11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4:25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