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13.png" ContentType="image/png"/>
  <Override PartName="/ppt/media/image20.jpeg" ContentType="image/jpeg"/>
  <Override PartName="/ppt/media/image11.png" ContentType="image/png"/>
  <Override PartName="/ppt/media/image9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D968-811E-4113-A8BD-F7DDC909DA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BED-E0FC-4263-9F64-EB724E374F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03D-9961-4E61-B0EB-A63193A0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0D8-F2DA-43ED-B980-2766DAA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3BF-BDCE-4044-B7A0-2CBC199E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7C4-3A82-4BFB-9A7D-8E6C7AD8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32C-A65B-43A3-961E-602EBB5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E85-C16F-4553-BA80-2F887E7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9CC-D8E8-42DD-92B4-E57238BB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6C2-8254-4C62-B987-75B55CE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243-FD51-4152-8FF2-A630CB16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25-3C85-4243-B046-ED71A031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6A7-03C6-4D99-B280-F5337D2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173-C6C9-408A-9BE8-1785B4C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AD7-6B7D-4F45-84FA-61BE7E73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2.jpeg"/><Relationship Id="rId3" Type="http://schemas.openxmlformats.org/officeDocument/2006/relationships/image" Target="../media/image23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44520" y="9414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9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学校放寒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1881360" y="6095880"/>
            <a:ext cx="5671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09840" y="8222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92760" y="822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游泳捕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1203480"/>
            <a:ext cx="8076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动物学校要放寒假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对学生们说：“寒假里，你们常给我写信，把一些有意义的事告诉我，好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久，北风爷爷捎来了小鸭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514600" y="3886200"/>
            <a:ext cx="64008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象老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学会游泳了！天气很冷，河里结着薄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在水里洗澡，还捉到好几条小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　小鸭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１月２５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21840" y="609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物学校放寒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352680" y="46483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60680" y="19810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学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游泳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128680" y="329580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学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1660680"/>
            <a:ext cx="609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了几天，大象老师又收到小燕子寄来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295280" y="3276720"/>
            <a:ext cx="647712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亲爱的象老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我在温暖的南方给您写信。这里有个小朋友，名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榕榕。我们就住在他家的屋檐下。榕榕也放假了。我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他常在树下看书、写字、游戏，还看见他帮大人做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真是个好孩子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　　　　小燕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　　　１月２９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029200" y="21337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1"/>
          <p:cNvSpPr/>
          <p:nvPr/>
        </p:nvSpPr>
        <p:spPr>
          <a:xfrm>
            <a:off x="1509840" y="2590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燕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792760" y="2590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飞到南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509840" y="8222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792760" y="822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游泳捕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90400" y="1676520"/>
            <a:ext cx="796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还收到了小骆驼、小花鹿、小驴、小企鹅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时间一天天过去，冰雪开始融化，学校要开学了。可是，大象老师还没有收到小熊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90400" y="685800"/>
            <a:ext cx="79632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在一个山洞里找到小熊。一看，他正在呼噜呼噜睡大觉呢。大象老师拍拍小熊的肚子，喊：“小熊，春天到了，快醒醒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熊迷迷糊糊地醒过来，伸伸懒腰，揉揉眼睛问：“老师，下课了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笑着说：“你睡了整整一个冬天，都糊涂了，快起来吧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181480" y="11430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676520" y="1523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9"/>
          <p:cNvSpPr/>
          <p:nvPr/>
        </p:nvSpPr>
        <p:spPr>
          <a:xfrm>
            <a:off x="1509840" y="2666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792760" y="2666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到南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792760" y="44956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洞睡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449360" y="4419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228560" y="5867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09840" y="8222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792760" y="822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捕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t010212466343771e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457200" y="13716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对学生们说：“寒假里，你们常给我写信，把一些有意义的事告诉我，好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40408-12101514233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057400" y="1523880"/>
          <a:ext cx="5410080" cy="46641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609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15" descr="240408-121015142332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1752480" y="1600200"/>
          <a:ext cx="6324480" cy="46641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635040"/>
                <a:gridCol w="609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鱼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宾阳县~2"/>
          <p:cNvPicPr/>
          <p:nvPr/>
        </p:nvPicPr>
        <p:blipFill>
          <a:blip r:embed="rId1"/>
          <a:stretch/>
        </p:blipFill>
        <p:spPr>
          <a:xfrm>
            <a:off x="457200" y="990720"/>
            <a:ext cx="3333600" cy="4095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648080" y="56624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的假期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04920" y="17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u=848062852,3453871452&amp;fm=23&amp;gp=0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14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u=3154382293,977026114&amp;fm=21&amp;gp=0"/>
          <p:cNvPicPr/>
          <p:nvPr/>
        </p:nvPicPr>
        <p:blipFill>
          <a:blip r:embed="rId3"/>
          <a:stretch/>
        </p:blipFill>
        <p:spPr>
          <a:xfrm>
            <a:off x="4343400" y="3352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3301920" y="3108240"/>
            <a:ext cx="57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40408-12101514233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057400" y="1523880"/>
          <a:ext cx="5410080" cy="46641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609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15" descr="240408-121015142332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057400" y="1600200"/>
          <a:ext cx="6324480" cy="411480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4880"/>
                <a:gridCol w="43524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567000"/>
                <a:gridCol w="53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书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088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516400" y="127944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如果是他们写信，信里会写些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xiaolv"/>
          <p:cNvPicPr/>
          <p:nvPr/>
        </p:nvPicPr>
        <p:blipFill>
          <a:blip r:embed="rId1"/>
          <a:stretch/>
        </p:blipFill>
        <p:spPr>
          <a:xfrm>
            <a:off x="6553080" y="2362320"/>
            <a:ext cx="2149560" cy="281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"/>
          <p:cNvPicPr/>
          <p:nvPr/>
        </p:nvPicPr>
        <p:blipFill>
          <a:blip r:embed="rId2"/>
          <a:stretch/>
        </p:blipFill>
        <p:spPr>
          <a:xfrm>
            <a:off x="1981080" y="2514600"/>
            <a:ext cx="2229120" cy="1771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luotuo"/>
          <p:cNvPicPr/>
          <p:nvPr/>
        </p:nvPicPr>
        <p:blipFill>
          <a:blip r:embed="rId3"/>
          <a:stretch/>
        </p:blipFill>
        <p:spPr>
          <a:xfrm>
            <a:off x="4419720" y="3429000"/>
            <a:ext cx="191124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qie"/>
          <p:cNvPicPr/>
          <p:nvPr/>
        </p:nvPicPr>
        <p:blipFill>
          <a:blip r:embed="rId4"/>
          <a:stretch/>
        </p:blipFill>
        <p:spPr>
          <a:xfrm>
            <a:off x="1066680" y="3962520"/>
            <a:ext cx="1160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180020023"/>
          <p:cNvPicPr/>
          <p:nvPr/>
        </p:nvPicPr>
        <p:blipFill>
          <a:blip r:embed="rId1"/>
          <a:stretch/>
        </p:blipFill>
        <p:spPr>
          <a:xfrm>
            <a:off x="152280" y="228600"/>
            <a:ext cx="110520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01b32e4ee48b15cc1c"/>
          <p:cNvPicPr/>
          <p:nvPr/>
        </p:nvPicPr>
        <p:blipFill>
          <a:blip r:embed="rId2"/>
          <a:stretch/>
        </p:blipFill>
        <p:spPr>
          <a:xfrm>
            <a:off x="1752480" y="914400"/>
            <a:ext cx="6705720" cy="4876920"/>
          </a:xfrm>
          <a:prstGeom prst="rect">
            <a:avLst/>
          </a:prstGeom>
          <a:ln w="0">
            <a:noFill/>
          </a:ln>
        </p:spPr>
      </p:pic>
      <p:pic>
        <p:nvPicPr>
          <p:cNvPr id="140" name="第一段 (1).MP3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thumb"/>
          <p:cNvPicPr/>
          <p:nvPr/>
        </p:nvPicPr>
        <p:blipFill>
          <a:blip r:embed="rId4"/>
          <a:stretch/>
        </p:blipFill>
        <p:spPr>
          <a:xfrm>
            <a:off x="1752480" y="838080"/>
            <a:ext cx="6782040" cy="485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4598ae4h84bcc4c64651&amp;690"/>
          <p:cNvPicPr/>
          <p:nvPr/>
        </p:nvPicPr>
        <p:blipFill>
          <a:blip r:embed="rId5"/>
          <a:stretch/>
        </p:blipFill>
        <p:spPr>
          <a:xfrm>
            <a:off x="175248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1"/>
                            </p:stCondLst>
                            <p:childTnLst>
                              <p:par>
                                <p:cTn id="1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1"/>
                            </p:stCondLst>
                            <p:childTnLst>
                              <p:par>
                                <p:cTn id="18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180020023"/>
          <p:cNvPicPr/>
          <p:nvPr/>
        </p:nvPicPr>
        <p:blipFill>
          <a:blip r:embed="rId1"/>
          <a:stretch/>
        </p:blipFill>
        <p:spPr>
          <a:xfrm>
            <a:off x="228600" y="152280"/>
            <a:ext cx="110484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t01ea16df1027afed7d"/>
          <p:cNvPicPr/>
          <p:nvPr/>
        </p:nvPicPr>
        <p:blipFill>
          <a:blip r:embed="rId2"/>
          <a:stretch/>
        </p:blipFill>
        <p:spPr>
          <a:xfrm>
            <a:off x="2133720" y="12193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xin_3820307260900843324622"/>
          <p:cNvPicPr/>
          <p:nvPr/>
        </p:nvPicPr>
        <p:blipFill>
          <a:blip r:embed="rId3"/>
          <a:stretch/>
        </p:blipFill>
        <p:spPr>
          <a:xfrm>
            <a:off x="2133720" y="1219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_100413_6"/>
          <p:cNvPicPr/>
          <p:nvPr/>
        </p:nvPicPr>
        <p:blipFill>
          <a:blip r:embed="rId4"/>
          <a:stretch/>
        </p:blipFill>
        <p:spPr>
          <a:xfrm>
            <a:off x="2133720" y="1219320"/>
            <a:ext cx="594360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t01433de71fe1eba95c"/>
          <p:cNvPicPr/>
          <p:nvPr/>
        </p:nvPicPr>
        <p:blipFill>
          <a:blip r:embed="rId5"/>
          <a:stretch/>
        </p:blipFill>
        <p:spPr>
          <a:xfrm>
            <a:off x="2133720" y="1219320"/>
            <a:ext cx="5867280" cy="422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53687_20120317145305490118_1"/>
          <p:cNvPicPr/>
          <p:nvPr/>
        </p:nvPicPr>
        <p:blipFill>
          <a:blip r:embed="rId6"/>
          <a:stretch/>
        </p:blipFill>
        <p:spPr>
          <a:xfrm>
            <a:off x="2133720" y="1219320"/>
            <a:ext cx="6019560" cy="451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t01297682e7ed26bbc5"/>
          <p:cNvPicPr/>
          <p:nvPr/>
        </p:nvPicPr>
        <p:blipFill>
          <a:blip r:embed="rId7"/>
          <a:stretch/>
        </p:blipFill>
        <p:spPr>
          <a:xfrm>
            <a:off x="2133720" y="1219320"/>
            <a:ext cx="601956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第一段 (1)(0).mp3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60桌面截图20131212184417"/>
          <p:cNvPicPr/>
          <p:nvPr/>
        </p:nvPicPr>
        <p:blipFill>
          <a:blip r:embed="rId1"/>
          <a:stretch/>
        </p:blipFill>
        <p:spPr>
          <a:xfrm>
            <a:off x="0" y="4379760"/>
            <a:ext cx="31240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t0130612d7f1a1129b2"/>
          <p:cNvPicPr/>
          <p:nvPr/>
        </p:nvPicPr>
        <p:blipFill>
          <a:blip r:embed="rId2"/>
          <a:stretch/>
        </p:blipFill>
        <p:spPr>
          <a:xfrm>
            <a:off x="3276720" y="1371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t011307c7b6906fc3e1"/>
          <p:cNvPicPr/>
          <p:nvPr/>
        </p:nvPicPr>
        <p:blipFill>
          <a:blip r:embed="rId3"/>
          <a:stretch/>
        </p:blipFill>
        <p:spPr>
          <a:xfrm>
            <a:off x="3124080" y="0"/>
            <a:ext cx="6019920" cy="4667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t0126071a7ac7731fe4"/>
          <p:cNvPicPr/>
          <p:nvPr/>
        </p:nvPicPr>
        <p:blipFill>
          <a:blip r:embed="rId4"/>
          <a:stretch/>
        </p:blipFill>
        <p:spPr>
          <a:xfrm>
            <a:off x="3124080" y="0"/>
            <a:ext cx="601992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5957e0cdh99406c49511d&amp;690&amp;690"/>
          <p:cNvPicPr/>
          <p:nvPr/>
        </p:nvPicPr>
        <p:blipFill>
          <a:blip r:embed="rId5"/>
          <a:stretch/>
        </p:blipFill>
        <p:spPr>
          <a:xfrm>
            <a:off x="3124080" y="0"/>
            <a:ext cx="601992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00000876508129826980493171_950"/>
          <p:cNvPicPr/>
          <p:nvPr/>
        </p:nvPicPr>
        <p:blipFill>
          <a:blip r:embed="rId6"/>
          <a:stretch/>
        </p:blipFill>
        <p:spPr>
          <a:xfrm>
            <a:off x="3124080" y="0"/>
            <a:ext cx="6019920" cy="4648320"/>
          </a:xfrm>
          <a:prstGeom prst="rect">
            <a:avLst/>
          </a:prstGeom>
          <a:ln w="0">
            <a:noFill/>
          </a:ln>
        </p:spPr>
      </p:pic>
      <p:pic>
        <p:nvPicPr>
          <p:cNvPr id="157" name="未知 - 电话铃.mp3" descr=""/>
          <p:cNvPicPr/>
          <p:nvPr/>
        </p:nvPicPr>
        <p:blipFill>
          <a:blip r:embed="rId7"/>
          <a:stretch/>
        </p:blipFill>
        <p:spPr>
          <a:xfrm>
            <a:off x="7391520" y="5257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8977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800600" y="649116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t0126071a7ac7731fe4"/>
          <p:cNvPicPr/>
          <p:nvPr/>
        </p:nvPicPr>
        <p:blipFill>
          <a:blip r:embed="rId1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7242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跳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514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2666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捕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thumb"/>
          <p:cNvPicPr/>
          <p:nvPr/>
        </p:nvPicPr>
        <p:blipFill>
          <a:blip r:embed="rId2"/>
          <a:stretch/>
        </p:blipFill>
        <p:spPr>
          <a:xfrm>
            <a:off x="0" y="0"/>
            <a:ext cx="4572000" cy="3467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0" y="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挤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t01433de71fe1eba95c"/>
          <p:cNvPicPr/>
          <p:nvPr/>
        </p:nvPicPr>
        <p:blipFill>
          <a:blip r:embed="rId3"/>
          <a:stretch/>
        </p:blipFill>
        <p:spPr>
          <a:xfrm>
            <a:off x="0" y="3492360"/>
            <a:ext cx="4521240" cy="336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换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53687_20120317145356950156_1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464832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奔跑、捕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40408-12101514233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2057400" y="1523880"/>
          <a:ext cx="5410080" cy="46641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609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115" descr="240408-121015142332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752480" y="1600200"/>
          <a:ext cx="6095880" cy="46641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248"/>
          <p:cNvSpPr/>
          <p:nvPr/>
        </p:nvSpPr>
        <p:spPr>
          <a:xfrm>
            <a:off x="2609280" y="533520"/>
            <a:ext cx="49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如果你是这些小动物，你会在信里写些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F3CC-4896-434C-B40D-7E44E6D9F8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3520" y="1203480"/>
            <a:ext cx="807696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动物学校要放寒假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</a:t>
            </a:r>
            <a:r>
              <a:rPr b="0" lang="zh-CN" sz="2500" spc="-1" strike="noStrike">
                <a:solidFill>
                  <a:srgbClr val="0033cc"/>
                </a:solidFill>
                <a:latin typeface="Arial"/>
                <a:ea typeface="楷体_GB2312"/>
              </a:rPr>
              <a:t>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xià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老师对学生们说：“寒假里，你们常给我写信，把一些有意</a:t>
            </a:r>
            <a:r>
              <a:rPr b="0" lang="zh-CN" sz="2500" spc="-1" strike="noStrike">
                <a:solidFill>
                  <a:srgbClr val="0033cc"/>
                </a:solidFill>
                <a:latin typeface="Arial"/>
                <a:ea typeface="楷体_GB2312"/>
              </a:rPr>
              <a:t>义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(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的事告诉我，好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久，北风爷爷捎来了小鸭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514600" y="3886200"/>
            <a:ext cx="64008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象老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学会游泳了！天气很冷，河里结着薄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在水里洗澡，还捉到好几条小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　小鸭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１月２５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704680" y="318960"/>
            <a:ext cx="47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òn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物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wù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学校放寒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ji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3429000" y="4114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880" y="1660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了几天，大象老师又</a:t>
            </a:r>
            <a:r>
              <a:rPr b="0" lang="zh-CN" sz="25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收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s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ōu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小燕子寄来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295280" y="3276720"/>
            <a:ext cx="647712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亲爱的象老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我在温暖的南方给您写信。这里有个小朋友，名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榕榕。我们就住在他家的屋檐下。榕榕也放假了。我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他常在树下看书、写字、游戏，还看见他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帮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(bānɡ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做事。他真是个好孩子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　　　　小燕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　　　１月２９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143000"/>
            <a:ext cx="79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象老师还收到了小骆驼、小花鹿、小驴、小企鹅的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时间一天天过去，冰雪开始融化，学校要开学了。可是，大象老师还没有收到小熊的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80880" y="304920"/>
            <a:ext cx="796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象老师在一个山洞里找到小熊。一看，他正在呼噜呼噜睡大觉呢。大象老师拍拍小熊的肚子，喊：“小熊，春天到了，快醒醒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熊迷迷糊糊地醒过来，伸伸懒腰，揉揉眼睛问：“老师，下课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笑着说：“你睡了整整一个冬天，都糊涂了，快起来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077840" y="1136520"/>
            <a:ext cx="7038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捎  薄  骆  驼 企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493520" y="7430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427800" y="7621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醒  糊  揉  涂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445760" y="39625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ǐ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84440" y="76212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470400" y="3962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314320" y="396252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03360" y="762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ā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7862760" y="762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3152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ockwaveFlash1" descr=""/>
          <p:cNvPicPr/>
          <p:nvPr/>
        </p:nvPicPr>
        <p:blipFill>
          <a:blip r:embed="rId2"/>
          <a:stretch/>
        </p:blipFill>
        <p:spPr>
          <a:xfrm>
            <a:off x="75564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ShockwaveFlash2" descr=""/>
          <p:cNvPicPr/>
          <p:nvPr/>
        </p:nvPicPr>
        <p:blipFill>
          <a:blip r:embed="rId3"/>
          <a:stretch/>
        </p:blipFill>
        <p:spPr>
          <a:xfrm>
            <a:off x="266076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ShockwaveFlash3" descr=""/>
          <p:cNvPicPr/>
          <p:nvPr/>
        </p:nvPicPr>
        <p:blipFill>
          <a:blip r:embed="rId4"/>
          <a:stretch/>
        </p:blipFill>
        <p:spPr>
          <a:xfrm>
            <a:off x="456552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ShockwaveFlash4" descr=""/>
          <p:cNvPicPr/>
          <p:nvPr/>
        </p:nvPicPr>
        <p:blipFill>
          <a:blip r:embed="rId5"/>
          <a:stretch/>
        </p:blipFill>
        <p:spPr>
          <a:xfrm>
            <a:off x="654696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ShockwaveFlash5" descr=""/>
          <p:cNvPicPr/>
          <p:nvPr/>
        </p:nvPicPr>
        <p:blipFill>
          <a:blip r:embed="rId6"/>
          <a:stretch/>
        </p:blipFill>
        <p:spPr>
          <a:xfrm>
            <a:off x="784224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ShockwaveFlash6" descr=""/>
          <p:cNvPicPr/>
          <p:nvPr/>
        </p:nvPicPr>
        <p:blipFill>
          <a:blip r:embed="rId7"/>
          <a:stretch/>
        </p:blipFill>
        <p:spPr>
          <a:xfrm>
            <a:off x="1523880" y="5562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ShockwaveFlash7" descr=""/>
          <p:cNvPicPr/>
          <p:nvPr/>
        </p:nvPicPr>
        <p:blipFill>
          <a:blip r:embed="rId8"/>
          <a:stretch/>
        </p:blipFill>
        <p:spPr>
          <a:xfrm>
            <a:off x="3429000" y="5562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ShockwaveFlash8" descr=""/>
          <p:cNvPicPr/>
          <p:nvPr/>
        </p:nvPicPr>
        <p:blipFill>
          <a:blip r:embed="rId9"/>
          <a:stretch/>
        </p:blipFill>
        <p:spPr>
          <a:xfrm>
            <a:off x="5410080" y="5562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ShockwaveFlash9" descr=""/>
          <p:cNvPicPr/>
          <p:nvPr/>
        </p:nvPicPr>
        <p:blipFill>
          <a:blip r:embed="rId10"/>
          <a:stretch/>
        </p:blipFill>
        <p:spPr>
          <a:xfrm>
            <a:off x="7238880" y="5562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9042317512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04920" y="152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 会 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1371600"/>
            <a:ext cx="731520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82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物      收到       帮助     捎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冰            糊涂         快醒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迷迷糊糊     伸伸懒腰    揉揉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1203480"/>
            <a:ext cx="8076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动物学校要放寒假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象老师对学生们说：“寒假里，你们常给我写信，把一些有意义的事告诉我，好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不久，北风爷爷捎来了小鸭的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14600" y="3886200"/>
            <a:ext cx="64008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象老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学会游泳了！天气很冷，河里结着薄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在水里洗澡，还捉到好几条小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　小鸭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１月２５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21840" y="609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动物学校放寒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6320" y="76320"/>
            <a:ext cx="3352680" cy="1066680"/>
          </a:xfrm>
          <a:prstGeom prst="wedgeRoundRectCallout">
            <a:avLst>
              <a:gd name="adj1" fmla="val -48486"/>
              <a:gd name="adj2" fmla="val 736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中具体写了大象老师的哪些学生？他们是怎么过冬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4495680" y="35812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886200" y="46483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181480" y="4952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400800" y="49528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44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40Z</dcterms:modified>
  <cp:revision>1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