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25AF-5A20-456F-8A83-4107E456C49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E0B4-90AB-4066-82D8-F625DDBE0C3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537-3D8E-489D-BD02-2F75493D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6FC-82C9-463B-9C2C-71516721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794-471A-47A3-B62C-8FE43044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BB0-23D5-4BCA-B51D-D5450117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DE5-957F-4DCF-ACF2-E94F6C5F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4172-E93D-4584-AD6E-86672088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D7F6-A5FA-48AA-B687-1348AB18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FF54-FED9-408D-9AFB-BFF69FC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8E10-BB9A-4841-B9A7-7DFF3628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5E9-5269-4C43-82E2-9D9EE22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149E-2734-4551-BB53-ADD0E1D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8DA-EEFA-49ED-9734-2019D45F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0A5D-11FE-4326-BDE6-D6D9B4F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093B-4955-4788-918A-6734FC5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6A60-9B4E-4B3F-A20D-87BCDACB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B64-5F95-4BE5-AF84-98F58159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F508-B81D-4C99-AAF5-F7535CEB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AD33-3E00-4D0D-A6C4-75B3D5AA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CA8D-958D-436F-B3D3-2297FD2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1AD0-65E6-4339-A195-76BAC30F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358F-D372-42E3-9DB9-6F87A516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02F5-8642-4C31-B2F9-CB6F11B6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4B9-47F8-41C6-B182-378DC026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5F6C-1FEB-474B-B60A-5929317D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E78B-F477-4C87-81DC-B7C3376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7FAF4-783D-48F2-AC47-D55E8B2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681B-BA4D-4EC5-8669-6076266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923E-4649-4C87-8A4B-15FF36FD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8F94-5ACE-4184-A505-DE69B763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0F62-BE02-4BDB-8DE4-2662AA42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A706-303B-4918-B49D-6A0039BB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9770-AF63-41E3-BB52-CFDEE6A3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5D7E2-F22E-4D3C-A356-B7DD08DB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63E-6EFB-49C2-A97F-33D13E29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A34E4-E28B-4A1C-9E9F-CC75FF3F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726B-17F2-4785-8815-21AA23AE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EE0C-BE84-4052-AF3F-751B5392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9BAA-46F6-410F-ADDE-4110F38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50CA-5B07-4A47-A27B-C381737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3F5A-4436-4764-A832-9D3F08A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B866-127C-4D7D-8646-E1EF428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0E21-5784-4A4E-A04B-FA4A706D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9EF4-C20C-4D1C-BD70-189F3AEB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5E9-93E9-463E-A9FF-61D124B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1B3-1041-48B9-9E04-EAE283ED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38C-9EB5-46F5-AE57-36862EC3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D32-EB4D-466D-8581-F48E4E95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D19-A867-4765-80A6-087D7E92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011-CCC1-43A7-81EE-7667FFDCE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32E-F677-4718-AECD-07E2CCABE3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FC2-52C2-4B13-8D4E-A90890154B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CB86-2E31-4C10-BF9B-A5E0A202A7B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1736640" y="9810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带雨的花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_imglo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50920" y="4428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去追赶蝴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它飞进了树林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躲进了一朵小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不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再去捉它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为那朵小花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就是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香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780000" y="260280"/>
            <a:ext cx="504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向叔叔要一条小鱼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向老爷爷要一只小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说，我保证不会吃掉他们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家有个大鱼缸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给他们做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让它们在那儿长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08000" y="3068640"/>
            <a:ext cx="39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在湖边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看一位叔叔钓鱼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一条条青绿的小鱼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真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鲜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豆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还看到那位老爷爷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用一根羊骨头做诱饵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就网上来那么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蹦蹦跳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小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5076720" y="3718440"/>
            <a:ext cx="3456000" cy="627480"/>
          </a:xfrm>
          <a:prstGeom prst="wedgeRoundRectCallout">
            <a:avLst>
              <a:gd name="adj1" fmla="val -48814"/>
              <a:gd name="adj2" fmla="val 272819"/>
              <a:gd name="adj3" fmla="val 16667"/>
            </a:avLst>
          </a:prstGeom>
          <a:solidFill>
            <a:srgbClr val="ccffcc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一个热爱小动物，善良、有爱心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>
            <a:hlinkClick r:id="" action="ppaction://hlinkshowjump?jump=previousslide"/>
          </p:cNvPr>
          <p:cNvSpPr/>
          <p:nvPr/>
        </p:nvSpPr>
        <p:spPr>
          <a:xfrm>
            <a:off x="795672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2008441557195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hx_hudie_017"/>
          <p:cNvPicPr/>
          <p:nvPr/>
        </p:nvPicPr>
        <p:blipFill>
          <a:blip r:embed="rId2"/>
          <a:stretch/>
        </p:blipFill>
        <p:spPr>
          <a:xfrm>
            <a:off x="3240" y="0"/>
            <a:ext cx="2697120" cy="2865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2266920" y="4583160"/>
            <a:ext cx="34592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追赶蝴蝶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248" name="AutoShape 5">
            <a:hlinkClick r:id="" action="ppaction://hlinkshowjump?jump=previousslide"/>
          </p:cNvPr>
          <p:cNvSpPr/>
          <p:nvPr/>
        </p:nvSpPr>
        <p:spPr>
          <a:xfrm>
            <a:off x="795672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"/>
          <p:cNvSpPr/>
          <p:nvPr/>
        </p:nvSpPr>
        <p:spPr>
          <a:xfrm>
            <a:off x="233280" y="6237360"/>
            <a:ext cx="89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_imgloadc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0" y="33336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忽然，下起了雨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雨点又急又大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打在脸颊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又疼，又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人们都在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这时，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想起了家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想起了妈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6300720" y="2471400"/>
            <a:ext cx="2808360" cy="627480"/>
          </a:xfrm>
          <a:prstGeom prst="wedgeRoundRectCallout">
            <a:avLst>
              <a:gd name="adj1" fmla="val -48810"/>
              <a:gd name="adj2" fmla="val 272587"/>
              <a:gd name="adj3" fmla="val 16667"/>
            </a:avLst>
          </a:prstGeom>
          <a:solidFill>
            <a:srgbClr val="ccffcc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一个淘气贪玩，爱妈妈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832200" y="30240"/>
            <a:ext cx="4629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望着雨天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想起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妈妈最喜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这带水珠儿的鲜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在雨中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采着鲜花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采了一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又一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多么高兴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因为我能送给妈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束带水珠儿的鲜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一个人的雨.mp3" descr="一个人的雨"/>
          <p:cNvPicPr/>
          <p:nvPr/>
        </p:nvPicPr>
        <p:blipFill>
          <a:blip r:embed="rId2"/>
          <a:stretch/>
        </p:blipFill>
        <p:spPr>
          <a:xfrm>
            <a:off x="8245440" y="479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7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216732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367160" y="3246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多么高兴，因为我能送给妈妈一束带水珠儿的鲜花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http_imglo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http_imgload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1979640" y="1773360"/>
            <a:ext cx="59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我多么高兴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因为我能送给妈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一束带水珠儿的鲜花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" action="ppaction://hlinkshowjump?jump=previousslide"/>
          </p:cNvPr>
          <p:cNvSpPr/>
          <p:nvPr/>
        </p:nvSpPr>
        <p:spPr>
          <a:xfrm>
            <a:off x="795672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_imglo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179280" y="549360"/>
            <a:ext cx="446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往家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又有些害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是个不听话的孩子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刚才，我真不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偷偷地跑出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也许就因为这个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会挨妈妈一顿骂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甚至一顿打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500720" y="765000"/>
            <a:ext cx="43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望着手中带雨的花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在想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妈妈，您会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5219640" y="3383280"/>
            <a:ext cx="2809800" cy="627480"/>
          </a:xfrm>
          <a:prstGeom prst="wedgeRoundRectCallout">
            <a:avLst>
              <a:gd name="adj1" fmla="val -48810"/>
              <a:gd name="adj2" fmla="val 187726"/>
              <a:gd name="adj3" fmla="val 16667"/>
            </a:avLst>
          </a:prstGeom>
          <a:solidFill>
            <a:srgbClr val="ccffcc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一天真、可爱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previousslide"/>
          </p:cNvPr>
          <p:cNvSpPr/>
          <p:nvPr/>
        </p:nvSpPr>
        <p:spPr>
          <a:xfrm>
            <a:off x="7812000" y="5661000"/>
            <a:ext cx="865440" cy="576360"/>
          </a:xfrm>
          <a:custGeom>
            <a:avLst/>
            <a:gdLst>
              <a:gd name="textAreaLeft" fmla="*/ 37080 w 865440"/>
              <a:gd name="textAreaRight" fmla="*/ 828360 w 865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4392720" cy="80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是您不听话的孩子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偷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地跑出了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穿过树林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走过小桥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在明亮的湖岸上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尽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地玩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忘记了您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也忘记了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请原谅我，妈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去追赶蝴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它飞进了树林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躲进了一朵小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不愿再去捉它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为那朵小花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就是它香甜的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419640" y="549360"/>
            <a:ext cx="395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在湖边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看一位叔叔钓鱼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一条条青绿的小鱼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真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鲜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豆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还看到那位老爷爷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用一根羊骨头做诱饵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就网上来那么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蹦蹦跳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小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419640" y="4221000"/>
            <a:ext cx="51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向叔叔要一条小鱼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向老爷爷要一只小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说，我保证不会吃掉他们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家有个大鱼缸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给他们做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让它们在那儿长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previousslide"/>
          </p:cNvPr>
          <p:cNvSpPr/>
          <p:nvPr/>
        </p:nvSpPr>
        <p:spPr>
          <a:xfrm>
            <a:off x="8028000" y="566100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7" h="21600">
                <a:moveTo>
                  <a:pt x="5162" y="10800"/>
                </a:moveTo>
                <a:lnTo>
                  <a:pt x="19175" y="3794"/>
                </a:lnTo>
                <a:lnTo>
                  <a:pt x="19175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442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忽然，下起了雨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雨点又急又大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打在脸颊上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又疼，又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人们都在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这时，我才想起了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想起了妈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4920" y="3357720"/>
            <a:ext cx="4630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望着雨天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想起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妈妈最喜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这带水珠儿的鲜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在雨中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采着鲜花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采了一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又一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068080" y="0"/>
            <a:ext cx="23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多么高兴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为我能送给妈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一束带水珠儿的鲜花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356000" y="1557360"/>
            <a:ext cx="453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往家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又有些害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是个不听话的孩子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刚才，我真不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偷偷地跑出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也许就因为这个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会挨妈妈一顿骂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甚至一顿打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427640" y="530064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望着手中带雨的花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在想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妈妈，您会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>
            <a:hlinkClick r:id="" action="ppaction://hlinkshowjump?jump=previousslide"/>
          </p:cNvPr>
          <p:cNvSpPr/>
          <p:nvPr/>
        </p:nvSpPr>
        <p:spPr>
          <a:xfrm>
            <a:off x="8028000" y="566100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7" h="21600">
                <a:moveTo>
                  <a:pt x="5162" y="10800"/>
                </a:moveTo>
                <a:lnTo>
                  <a:pt x="19175" y="3794"/>
                </a:lnTo>
                <a:lnTo>
                  <a:pt x="19175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865080" y="1770120"/>
            <a:ext cx="50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了这首诗你体会到了诗人怎样的情感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微软雅黑"/>
              </a:rPr>
              <a:t>对母亲的爱，对生活的爱，对儿童的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_img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1044720" y="549360"/>
            <a:ext cx="683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延伸，积累实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练笔：回到家里，“我”会挨妈妈一顿骂，甚至一顿打吗？如果你是那位妈妈，你会怎样对待孩子呢？代替妈妈给孩子写几句话吧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111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380880" y="152280"/>
            <a:ext cx="8382240" cy="64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欣赏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《如果我是雪花》 金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如果我是一片雪花，你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我会飘落到什么地方去呢？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我不愿飘到小河里 变成一滴水， 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和小鱼小虾游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我不愿飘到广场上，   堆个胖雪人， 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望着你眯眯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我愿飘落到妈妈的脸上，亲亲她，亲亲她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然后就快乐地融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a2713957_s"/>
          <p:cNvPicPr/>
          <p:nvPr/>
        </p:nvPicPr>
        <p:blipFill>
          <a:blip r:embed="rId1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美丽的花6"/>
          <p:cNvPicPr/>
          <p:nvPr/>
        </p:nvPicPr>
        <p:blipFill>
          <a:blip r:embed="rId2"/>
          <a:stretch/>
        </p:blipFill>
        <p:spPr>
          <a:xfrm>
            <a:off x="0" y="350028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2010572213888512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4781358_010213645069_2"/>
          <p:cNvPicPr/>
          <p:nvPr/>
        </p:nvPicPr>
        <p:blipFill>
          <a:blip r:embed="rId4"/>
          <a:stretch/>
        </p:blipFill>
        <p:spPr>
          <a:xfrm>
            <a:off x="2916360" y="3500280"/>
            <a:ext cx="3240000" cy="335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a6007531_s"/>
          <p:cNvPicPr/>
          <p:nvPr/>
        </p:nvPicPr>
        <p:blipFill>
          <a:blip r:embed="rId5"/>
          <a:stretch/>
        </p:blipFill>
        <p:spPr>
          <a:xfrm>
            <a:off x="6156360" y="3500280"/>
            <a:ext cx="298764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0dc7c02368fba2709822edf6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3863160" y="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92280" y="711360"/>
            <a:ext cx="1974600" cy="65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窗外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已经下起了雨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可是，妈妈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不要阻拦我呀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我要到雨中去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戴上草帽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我跑到雨里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我变成一把伞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伞在风雨里飞着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给没带伞的行人遮雨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雨停了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我就又飞走了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飞进雨后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翠绿的树林里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妈妈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也许你不见了女儿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你很着急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你怕我淋湿了雨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048120" y="696960"/>
            <a:ext cx="396216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跑到街上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问雨后的风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问天上的彩虹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问每个行人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我的女儿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她在哪里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来到林中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问小鸟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问花朵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问叶子上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滴落的雨滴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我的女儿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她在哪里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它们都说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那可是个淘气的小姑娘呀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她又在和我们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捉迷藏吧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谁知道她会藏到哪儿呢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713640" y="673200"/>
            <a:ext cx="19746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雨后，林中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蘑菇洒了一地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它们最喜欢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在雨后游戏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妈妈，当你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伸手刚要采下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那个最白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最胖的蘑菇时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忽然，它变了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变成了你的女儿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她眨巴着眼睛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笑眯眯地望着你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——妈妈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我又回来了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你看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仍戴着草帽呀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草帽上还挂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彩色的雨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7"/>
          <p:cNvSpPr txBox="1"/>
          <p:nvPr/>
        </p:nvSpPr>
        <p:spPr>
          <a:xfrm>
            <a:off x="3200400" y="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雨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1ac9e2ed235eeef32e2e21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1058400" y="152280"/>
            <a:ext cx="2207520" cy="65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低低地飞，            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低低地飞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你这红蜻蜓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你丢失了什么？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飞得这样低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飞得这样低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草坪里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铺着嫩绿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花丛里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漫着香气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湖面上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闪着涟漪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红蜻蜓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你丢失了什么？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是被晒干的露水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还是雨天的记忆？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你也许没有找到你丢失的东西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你飞得倦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伏在我家的竹篱上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静静地休息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悄悄地悄悄地走近了你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583240" y="195120"/>
            <a:ext cx="2764080" cy="64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把捏住了你透明的双翼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天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下起了小雨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一滴，一滴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提醒着我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快快回家去！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当我刚刚跑回家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窗外就下起了大雨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我把红蜻蜓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放在绿纱窗上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它望着窗外迷迷蒙蒙的天地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难道它还在寻找、寻找它丢失的东西？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妈妈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是您告诉了我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它在寻找丢失的爱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那世间最珍贵的东西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雨过天晴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我推开窗子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放走了那红蜻蜓，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让它飞向晴朗的天空和开花的土地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5"/>
          <p:cNvSpPr txBox="1"/>
          <p:nvPr/>
        </p:nvSpPr>
        <p:spPr>
          <a:xfrm rot="5400000">
            <a:off x="2171160" y="232416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红蜻蜓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1" name="AutoShape 6">
            <a:hlinkClick r:id="rId2" action="ppaction://hlinksldjump"/>
          </p:cNvPr>
          <p:cNvSpPr/>
          <p:nvPr/>
        </p:nvSpPr>
        <p:spPr>
          <a:xfrm>
            <a:off x="3352680" y="6019920"/>
            <a:ext cx="1067040" cy="457200"/>
          </a:xfrm>
          <a:custGeom>
            <a:avLst/>
            <a:gdLst>
              <a:gd name="textAreaLeft" fmla="*/ 29520 w 1067040"/>
              <a:gd name="textAreaRight" fmla="*/ 1037520 w 1067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89" h="21600">
                <a:moveTo>
                  <a:pt x="0" y="0"/>
                </a:moveTo>
                <a:lnTo>
                  <a:pt x="50389" y="0"/>
                </a:lnTo>
                <a:lnTo>
                  <a:pt x="50389" y="21600"/>
                </a:lnTo>
                <a:lnTo>
                  <a:pt x="0" y="21600"/>
                </a:lnTo>
                <a:close/>
              </a:path>
              <a:path fill="lightenLess" w="50389" h="21600">
                <a:moveTo>
                  <a:pt x="0" y="0"/>
                </a:moveTo>
                <a:lnTo>
                  <a:pt x="50389" y="0"/>
                </a:lnTo>
                <a:lnTo>
                  <a:pt x="48989" y="1400"/>
                </a:lnTo>
                <a:lnTo>
                  <a:pt x="1400" y="1400"/>
                </a:lnTo>
                <a:close/>
              </a:path>
              <a:path fill="darken" w="50389" h="21600">
                <a:moveTo>
                  <a:pt x="50389" y="0"/>
                </a:moveTo>
                <a:lnTo>
                  <a:pt x="50389" y="21600"/>
                </a:lnTo>
                <a:lnTo>
                  <a:pt x="48989" y="20200"/>
                </a:lnTo>
                <a:lnTo>
                  <a:pt x="48989" y="1400"/>
                </a:lnTo>
                <a:close/>
              </a:path>
              <a:path fill="darkenLess" w="50389" h="21600">
                <a:moveTo>
                  <a:pt x="50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9" y="20200"/>
                </a:lnTo>
                <a:close/>
              </a:path>
              <a:path fill="lighten" w="50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DA69-2B08-4B9D-AC92-6C74B3DC6D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_i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828720" y="112392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要求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71640" y="1989000"/>
            <a:ext cx="7273800" cy="16304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借助拼音，读准字音，读通句子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选择一个你最喜欢的小节，多读几遍，做到正确、流利、有感情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8101080" y="580536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20051031124053400"/>
          <p:cNvPicPr/>
          <p:nvPr/>
        </p:nvPicPr>
        <p:blipFill>
          <a:blip r:embed="rId1"/>
          <a:stretch/>
        </p:blipFill>
        <p:spPr>
          <a:xfrm>
            <a:off x="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-72360" y="11430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我会读词语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514600" y="1447920"/>
            <a:ext cx="4876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尽情    原谅     香甜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诱饵    鱼缸     脸颊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挨骂    保证     鲜花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蹦蹦跳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631800" y="1916280"/>
            <a:ext cx="1203480" cy="1166760"/>
            <a:chOff x="631800" y="1916280"/>
            <a:chExt cx="1203480" cy="1166760"/>
          </a:xfrm>
        </p:grpSpPr>
        <p:pic>
          <p:nvPicPr>
            <p:cNvPr id="188" name="Picture 3" descr="花3"/>
            <p:cNvPicPr/>
            <p:nvPr/>
          </p:nvPicPr>
          <p:blipFill>
            <a:blip r:embed="rId2"/>
            <a:stretch/>
          </p:blipFill>
          <p:spPr>
            <a:xfrm>
              <a:off x="631800" y="191628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4"/>
            <p:cNvSpPr/>
            <p:nvPr/>
          </p:nvSpPr>
          <p:spPr>
            <a:xfrm>
              <a:off x="900000" y="220536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2270160" y="1916280"/>
            <a:ext cx="1203120" cy="1166760"/>
            <a:chOff x="2270160" y="1916280"/>
            <a:chExt cx="1203120" cy="1166760"/>
          </a:xfrm>
        </p:grpSpPr>
        <p:pic>
          <p:nvPicPr>
            <p:cNvPr id="191" name="Picture 6" descr="花3"/>
            <p:cNvPicPr/>
            <p:nvPr/>
          </p:nvPicPr>
          <p:blipFill>
            <a:blip r:embed="rId3"/>
            <a:stretch/>
          </p:blipFill>
          <p:spPr>
            <a:xfrm>
              <a:off x="2270160" y="1916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7"/>
            <p:cNvSpPr/>
            <p:nvPr/>
          </p:nvSpPr>
          <p:spPr>
            <a:xfrm>
              <a:off x="2536560" y="220536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8"/>
          <p:cNvGrpSpPr/>
          <p:nvPr/>
        </p:nvGrpSpPr>
        <p:grpSpPr>
          <a:xfrm>
            <a:off x="3908520" y="1916280"/>
            <a:ext cx="1203120" cy="1166760"/>
            <a:chOff x="3908520" y="1916280"/>
            <a:chExt cx="1203120" cy="1166760"/>
          </a:xfrm>
        </p:grpSpPr>
        <p:pic>
          <p:nvPicPr>
            <p:cNvPr id="194" name="Picture 9" descr="花3"/>
            <p:cNvPicPr/>
            <p:nvPr/>
          </p:nvPicPr>
          <p:blipFill>
            <a:blip r:embed="rId4"/>
            <a:stretch/>
          </p:blipFill>
          <p:spPr>
            <a:xfrm>
              <a:off x="3908520" y="1916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"/>
            <p:cNvSpPr/>
            <p:nvPr/>
          </p:nvSpPr>
          <p:spPr>
            <a:xfrm>
              <a:off x="4174920" y="220536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谅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1"/>
          <p:cNvGrpSpPr/>
          <p:nvPr/>
        </p:nvGrpSpPr>
        <p:grpSpPr>
          <a:xfrm>
            <a:off x="5546880" y="1916280"/>
            <a:ext cx="1203120" cy="1166760"/>
            <a:chOff x="5546880" y="1916280"/>
            <a:chExt cx="1203120" cy="1166760"/>
          </a:xfrm>
        </p:grpSpPr>
        <p:pic>
          <p:nvPicPr>
            <p:cNvPr id="197" name="Picture 12" descr="花3"/>
            <p:cNvPicPr/>
            <p:nvPr/>
          </p:nvPicPr>
          <p:blipFill>
            <a:blip r:embed="rId5"/>
            <a:stretch/>
          </p:blipFill>
          <p:spPr>
            <a:xfrm>
              <a:off x="5546880" y="1916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13"/>
            <p:cNvSpPr/>
            <p:nvPr/>
          </p:nvSpPr>
          <p:spPr>
            <a:xfrm>
              <a:off x="5811480" y="220536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躲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4"/>
          <p:cNvGrpSpPr/>
          <p:nvPr/>
        </p:nvGrpSpPr>
        <p:grpSpPr>
          <a:xfrm>
            <a:off x="684360" y="3573360"/>
            <a:ext cx="1203120" cy="1166760"/>
            <a:chOff x="684360" y="3573360"/>
            <a:chExt cx="1203120" cy="1166760"/>
          </a:xfrm>
        </p:grpSpPr>
        <p:pic>
          <p:nvPicPr>
            <p:cNvPr id="200" name="Picture 15" descr="花3"/>
            <p:cNvPicPr/>
            <p:nvPr/>
          </p:nvPicPr>
          <p:blipFill>
            <a:blip r:embed="rId6"/>
            <a:stretch/>
          </p:blipFill>
          <p:spPr>
            <a:xfrm>
              <a:off x="684360" y="357336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6"/>
            <p:cNvSpPr/>
            <p:nvPr/>
          </p:nvSpPr>
          <p:spPr>
            <a:xfrm>
              <a:off x="948960" y="386244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诱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7"/>
          <p:cNvGrpSpPr/>
          <p:nvPr/>
        </p:nvGrpSpPr>
        <p:grpSpPr>
          <a:xfrm>
            <a:off x="3924360" y="3573360"/>
            <a:ext cx="1203120" cy="1166760"/>
            <a:chOff x="3924360" y="3573360"/>
            <a:chExt cx="1203120" cy="1166760"/>
          </a:xfrm>
        </p:grpSpPr>
        <p:pic>
          <p:nvPicPr>
            <p:cNvPr id="203" name="Picture 18" descr="花3"/>
            <p:cNvPicPr/>
            <p:nvPr/>
          </p:nvPicPr>
          <p:blipFill>
            <a:blip r:embed="rId7"/>
            <a:stretch/>
          </p:blipFill>
          <p:spPr>
            <a:xfrm>
              <a:off x="3924360" y="357336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19"/>
            <p:cNvSpPr/>
            <p:nvPr/>
          </p:nvSpPr>
          <p:spPr>
            <a:xfrm>
              <a:off x="4192200" y="384624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疼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0"/>
          <p:cNvGrpSpPr/>
          <p:nvPr/>
        </p:nvGrpSpPr>
        <p:grpSpPr>
          <a:xfrm>
            <a:off x="2195640" y="3573360"/>
            <a:ext cx="1203120" cy="1166760"/>
            <a:chOff x="2195640" y="3573360"/>
            <a:chExt cx="1203120" cy="1166760"/>
          </a:xfrm>
        </p:grpSpPr>
        <p:pic>
          <p:nvPicPr>
            <p:cNvPr id="206" name="Picture 21" descr="花3"/>
            <p:cNvPicPr/>
            <p:nvPr/>
          </p:nvPicPr>
          <p:blipFill>
            <a:blip r:embed="rId8"/>
            <a:stretch/>
          </p:blipFill>
          <p:spPr>
            <a:xfrm>
              <a:off x="2195640" y="357336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22"/>
            <p:cNvSpPr/>
            <p:nvPr/>
          </p:nvSpPr>
          <p:spPr>
            <a:xfrm>
              <a:off x="2460240" y="384624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虾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3"/>
          <p:cNvGrpSpPr/>
          <p:nvPr/>
        </p:nvGrpSpPr>
        <p:grpSpPr>
          <a:xfrm>
            <a:off x="7308720" y="3645000"/>
            <a:ext cx="1203480" cy="1166760"/>
            <a:chOff x="7308720" y="3645000"/>
            <a:chExt cx="1203480" cy="1166760"/>
          </a:xfrm>
        </p:grpSpPr>
        <p:pic>
          <p:nvPicPr>
            <p:cNvPr id="209" name="Picture 24" descr="花3"/>
            <p:cNvPicPr/>
            <p:nvPr/>
          </p:nvPicPr>
          <p:blipFill>
            <a:blip r:embed="rId9"/>
            <a:stretch/>
          </p:blipFill>
          <p:spPr>
            <a:xfrm>
              <a:off x="7308720" y="364500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25"/>
            <p:cNvSpPr/>
            <p:nvPr/>
          </p:nvSpPr>
          <p:spPr>
            <a:xfrm>
              <a:off x="7576920" y="393408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缸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6"/>
          <p:cNvGrpSpPr/>
          <p:nvPr/>
        </p:nvGrpSpPr>
        <p:grpSpPr>
          <a:xfrm>
            <a:off x="7236000" y="1917720"/>
            <a:ext cx="1203120" cy="1165320"/>
            <a:chOff x="7236000" y="1917720"/>
            <a:chExt cx="1203120" cy="1165320"/>
          </a:xfrm>
        </p:grpSpPr>
        <p:pic>
          <p:nvPicPr>
            <p:cNvPr id="212" name="Picture 27" descr="花3"/>
            <p:cNvPicPr/>
            <p:nvPr/>
          </p:nvPicPr>
          <p:blipFill>
            <a:blip r:embed="rId10"/>
            <a:stretch/>
          </p:blipFill>
          <p:spPr>
            <a:xfrm>
              <a:off x="7236000" y="1917720"/>
              <a:ext cx="120312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28"/>
            <p:cNvSpPr/>
            <p:nvPr/>
          </p:nvSpPr>
          <p:spPr>
            <a:xfrm>
              <a:off x="7503840" y="220644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叔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9"/>
          <p:cNvGrpSpPr/>
          <p:nvPr/>
        </p:nvGrpSpPr>
        <p:grpSpPr>
          <a:xfrm>
            <a:off x="5580000" y="3645000"/>
            <a:ext cx="1203480" cy="1166760"/>
            <a:chOff x="5580000" y="3645000"/>
            <a:chExt cx="1203480" cy="1166760"/>
          </a:xfrm>
        </p:grpSpPr>
        <p:pic>
          <p:nvPicPr>
            <p:cNvPr id="215" name="Picture 30" descr="花3"/>
            <p:cNvPicPr/>
            <p:nvPr/>
          </p:nvPicPr>
          <p:blipFill>
            <a:blip r:embed="rId11"/>
            <a:stretch/>
          </p:blipFill>
          <p:spPr>
            <a:xfrm>
              <a:off x="5580000" y="364500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31"/>
            <p:cNvSpPr/>
            <p:nvPr/>
          </p:nvSpPr>
          <p:spPr>
            <a:xfrm>
              <a:off x="5848200" y="393408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顿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32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304920" y="1981080"/>
            <a:ext cx="121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偷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19" name="WordArt 3"/>
          <p:cNvSpPr txBox="1"/>
          <p:nvPr/>
        </p:nvSpPr>
        <p:spPr>
          <a:xfrm>
            <a:off x="1828800" y="2057400"/>
            <a:ext cx="1143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请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3348000" y="2060640"/>
            <a:ext cx="114768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谅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4861080" y="1989000"/>
            <a:ext cx="110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躲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6300720" y="1989000"/>
            <a:ext cx="101448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叔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304920" y="4114800"/>
            <a:ext cx="114300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诱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1835280" y="4221000"/>
            <a:ext cx="10666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虾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5" name="WordArt 9"/>
          <p:cNvSpPr txBox="1"/>
          <p:nvPr/>
        </p:nvSpPr>
        <p:spPr>
          <a:xfrm>
            <a:off x="3348000" y="4149720"/>
            <a:ext cx="101592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疼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6" name="WordArt 10"/>
          <p:cNvSpPr txBox="1"/>
          <p:nvPr/>
        </p:nvSpPr>
        <p:spPr>
          <a:xfrm>
            <a:off x="4861080" y="4221000"/>
            <a:ext cx="1015920" cy="11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顿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7" name="WordArt 11"/>
          <p:cNvSpPr txBox="1"/>
          <p:nvPr/>
        </p:nvSpPr>
        <p:spPr>
          <a:xfrm>
            <a:off x="6372360" y="4149720"/>
            <a:ext cx="101592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缸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28" name="AutoShape 12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9000">
    <p:split dir="out" orient="vert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5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5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5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5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5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7"/>
          <p:cNvSpPr/>
          <p:nvPr/>
        </p:nvSpPr>
        <p:spPr>
          <a:xfrm>
            <a:off x="2916360" y="22827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-34920" y="1052640"/>
            <a:ext cx="957564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幼圆"/>
              </a:rPr>
              <a:t>默读课文思考：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、文中的“我”是一个怎样的孩子？你是从哪些小节看出来的，在文中勾画出相关的语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、每小节描写了什么场景？小女孩都做了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900000" y="4005360"/>
            <a:ext cx="7620120" cy="2514600"/>
          </a:xfrm>
          <a:prstGeom prst="wedgeRoundRectCallout">
            <a:avLst>
              <a:gd name="adj1" fmla="val -44060"/>
              <a:gd name="adj2" fmla="val 62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幼圆"/>
              </a:rPr>
              <a:t>你可以这样说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幼圆"/>
              </a:rPr>
              <a:t>例如：“蝴蝶躲进了一朵小花，我不愿意再去捉它……”从这可以看出“我”是一个（            ）的孩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2120" y="19810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想一想自己有哪些体验和诗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一样的，比如你有没有偷偷跑出去玩耍的经历，玩得怎么样？当时是心情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_imgload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1763640" y="404640"/>
            <a:ext cx="439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是您不听话的孩子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偷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地跑出了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穿过树林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走过小桥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在明亮的湖岸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尽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地玩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忘记了您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也忘记了家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请原谅我，妈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5435640" y="1557360"/>
            <a:ext cx="3457440" cy="628200"/>
          </a:xfrm>
          <a:prstGeom prst="wedgeRoundRectCallout">
            <a:avLst>
              <a:gd name="adj1" fmla="val -48814"/>
              <a:gd name="adj2" fmla="val 357041"/>
              <a:gd name="adj3" fmla="val 16667"/>
            </a:avLst>
          </a:prstGeom>
          <a:solidFill>
            <a:srgbClr val="ccffcc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一个不听话的，贪玩的，淘气的，无忧无虑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07:58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17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