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F82D-1A04-497F-BE78-2C9F4492A3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E6D-9163-43B3-9F06-2BEBA8F9A1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4B1-AA08-464D-AE0C-E048FE1F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C4A-BDBB-45D6-A03C-AC7520A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ABD-00C3-492A-A63E-AF549D07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BA4-49B5-478A-AA06-2E13B766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599-1D2C-4FE0-96C9-71E4F68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1A4-D414-499E-A7AB-0219F34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214-90C6-4D66-BCD3-EE31B21F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6EA-9950-4BCE-BDA5-0B0A74C1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5B3-D40A-4AD5-AAC5-19C89E7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9F0-BF7E-43E5-BC86-644D5F7C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222-0BCB-42CF-9A27-328511C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6B2-FAD9-4A03-98BC-8A1995D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56D-8CAF-4F94-91E1-DAD52510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.baidu.com/ksjtly/album/item/3b2e9aef6e4b30f8ce1b3e80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88880" y="1131840"/>
            <a:ext cx="5639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湘教版语文一年级上册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2286000" y="2200320"/>
            <a:ext cx="4267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雁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028600" y="5651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417480" y="882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培养关爱动物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24000" y="181296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作者在大雁身上找到哪些失去的东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124080"/>
            <a:ext cx="7467840" cy="3048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</a:rPr>
              <a:t>关爱动物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填空练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秋天来了，天气（），树叶（），菊花（），大雁（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口头扩词练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口头词语搭配练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一群（大雁）一群（小孩、小朋友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一群（山羊）一群（小蝌蚪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小红一会儿（唱歌），一会儿（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小玲一会儿（），一会儿（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87080" y="25131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群、群众、合群、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982320" y="297180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往、往来、往东、往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3352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成、排队、排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85800" y="259092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一个文明的国度，不应当是动物的地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今天人类破坏自然，明天自然毁灭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jpg"/>
          <p:cNvPicPr/>
          <p:nvPr/>
        </p:nvPicPr>
        <p:blipFill>
          <a:blip r:embed="rId1"/>
          <a:stretch/>
        </p:blipFill>
        <p:spPr>
          <a:xfrm>
            <a:off x="2819520" y="35812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124080" y="9144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升华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771640" y="205740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保护野生动物，珍爱野生动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987480" y="276120"/>
            <a:ext cx="57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115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4120" y="1324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你还知道哪些诗歌，积累有关写“雁”的诗句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220968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征蓬出汉塞，归雁入胡天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至塞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长风万里送秋雁，对此可以酣高楼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宣州谢眺楼饯别校书叔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乡书何处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归雁洛阳边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王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塞下秋来风景异，衡阳雁去无留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仲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渔家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西风烈，长空雁叫霜晨月。霜晨月，马蹄声碎，喇叭声咽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忆秦娥娄山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411280" y="2276640"/>
            <a:ext cx="417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！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61FA-B21A-41DE-9DC4-B242904149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900920" cy="5087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286000" y="333360"/>
            <a:ext cx="660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幼圆"/>
              </a:rPr>
              <a:t>大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95280" y="1828800"/>
            <a:ext cx="682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大雁属鸟纲，鸭科，是雁亚科各种类的通称，一种大型游禽。形状略似家鹅，有的较小。嘴宽而厚，嘴甲比较宽阔。大雁群居水边，往往千百成群，夜宿时，有雁在周围专司警戒，如果遇到袭击，就鸣叫报警。主食嫩叶、细根、种子，间或啄食农田谷物。雁群飞行，排成“一”字或“人”字，人们称之为“雁字”。大雁的飞行路线是笔直的。中国常见的有鸿雁、豆雁、白额雁等。雁队成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只，或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只的倍数组成，雁群是一些家庭，或者说是一些家庭的聚合体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摘自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辞海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b2e9aef6e4b30f8ce1b3e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本文“爱鸟者”这一贯穿文章始终的感情线索整体把握课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体会课文语言浓浓的抒情色彩，来体会读者笔墨中饱含的深情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分享作者的发现之乐，理解全文保护野生动物，珍爱野生动物的主题思想，从而培养保护野生动物，珍爱野生动物意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一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048120" y="533520"/>
            <a:ext cx="4624200" cy="59436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 rot="5400000">
            <a:off x="114120" y="293364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4024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3733920" y="114300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写字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62120" y="838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朗读课文，把握内容，体会作者感情，感悟文章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66680" y="2133720"/>
            <a:ext cx="6705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作者对大雁做了哪些描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这些描写表达了作者哪些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③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感悟文章主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895480" y="35812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爱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600200" y="4952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保护野生动物，珍爱野生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8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3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