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C85-774B-43DF-A9BE-8474DE44FDA0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765A-C46C-4DB5-A334-93015F5E5486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950-FFC0-4942-AFB5-7E7B2E74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64B-B341-41F4-80E3-C03613E4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D64-9B8A-4707-8A2D-C4F7436A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EE2-F3C5-4B46-9187-D81EB6B9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271-9AB7-451E-ADE9-CBBFBF0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801-F2A3-4A2E-B00E-7840650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B04-5620-4CA1-8267-443E22D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90-A0FA-4052-B827-C13B9B8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413-6C2F-4106-AFA7-6BFCBD34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B86-82F3-4723-BF15-4AE4041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D9D-06B5-4912-8AB8-5FD1E65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637-5DB7-4F28-8AB3-9480D1D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910-E5CA-4EDD-A397-69D914F1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476360" y="18590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禹治水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01276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28600" y="4495680"/>
            <a:ext cx="86104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滔滔的洪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没了农田，冲倒了房屋，害得老百姓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家可归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708360" y="400536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禹下决心要治理洪水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6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686040" y="400536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禹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决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治理洪水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755640" y="1052640"/>
            <a:ext cx="77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0605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吃尽了千辛万苦，走遍了千山万水，仔细地察看水流和地形。他带领老百姓挖通了九条大河，劈开了九座大山，引导洪水流入了大海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24000" y="615960"/>
            <a:ext cx="83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领老百姓挖通了九条大河，劈开了九座大山，引导洪水流入了大海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648320" y="3375000"/>
            <a:ext cx="449568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620640"/>
            <a:ext cx="831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领老百姓挖通了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条大河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劈开了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座大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引导洪水流入了大海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5" name="Object 3" descr=""/>
          <p:cNvPicPr/>
          <p:nvPr/>
        </p:nvPicPr>
        <p:blipFill>
          <a:blip r:embed="rId1"/>
          <a:stretch/>
        </p:blipFill>
        <p:spPr>
          <a:xfrm>
            <a:off x="4648320" y="3375000"/>
            <a:ext cx="449568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620640"/>
            <a:ext cx="831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领老百姓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挖通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条大河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劈开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座大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引导洪水流入了大海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" name="Object 3" descr=""/>
          <p:cNvPicPr/>
          <p:nvPr/>
        </p:nvPicPr>
        <p:blipFill>
          <a:blip r:embed="rId1"/>
          <a:stretch/>
        </p:blipFill>
        <p:spPr>
          <a:xfrm>
            <a:off x="4648320" y="3375000"/>
            <a:ext cx="449568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1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4920" y="148428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吃尽了千辛万苦，走遍了千山万水，仔细地察看水流和地形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gaoyuan"/>
          <p:cNvPicPr/>
          <p:nvPr/>
        </p:nvPicPr>
        <p:blipFill>
          <a:blip r:embed="rId1"/>
          <a:stretch/>
        </p:blipFill>
        <p:spPr>
          <a:xfrm>
            <a:off x="468360" y="3068640"/>
            <a:ext cx="3959280" cy="30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aidao"/>
          <p:cNvPicPr/>
          <p:nvPr/>
        </p:nvPicPr>
        <p:blipFill>
          <a:blip r:embed="rId2"/>
          <a:stretch/>
        </p:blipFill>
        <p:spPr>
          <a:xfrm>
            <a:off x="4500720" y="260280"/>
            <a:ext cx="4174920" cy="273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jiangnan"/>
          <p:cNvPicPr/>
          <p:nvPr/>
        </p:nvPicPr>
        <p:blipFill>
          <a:blip r:embed="rId3"/>
          <a:stretch/>
        </p:blipFill>
        <p:spPr>
          <a:xfrm>
            <a:off x="468360" y="26028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aibei"/>
          <p:cNvPicPr/>
          <p:nvPr/>
        </p:nvPicPr>
        <p:blipFill>
          <a:blip r:embed="rId4"/>
          <a:stretch/>
        </p:blipFill>
        <p:spPr>
          <a:xfrm>
            <a:off x="4500720" y="3068640"/>
            <a:ext cx="4174920" cy="30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700360" y="23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千山万水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2700360" y="1865160"/>
            <a:ext cx="6443640" cy="4992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Arial"/>
                <a:ea typeface="楷体_GB2312"/>
              </a:rPr>
              <a:t>千辛万苦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大禹是我国古代传说中的一名为民造福的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大禹“三过家门而不如入”的原因，感受大禹公而忘私的奉献精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朗读课文，引导想像大禹一心治水，“三过家门而不入”是会是怎样感人的情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755640" y="1052640"/>
            <a:ext cx="77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1253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禹下决心要治理洪水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吃尽了千辛万苦，走遍了千山万水，仔细地察看水流和地形。他带领老百姓挖通了九条大河，劈开了九座大山，引导洪水流入了大海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755640" y="1052640"/>
            <a:ext cx="77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1125360"/>
            <a:ext cx="806472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词语积累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山万水        千辛万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    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)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755640" y="1052640"/>
            <a:ext cx="77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125360"/>
            <a:ext cx="806472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词语积累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山万水       千辛万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言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语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 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家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户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军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马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代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3"/>
          <p:cNvPicPr/>
          <p:nvPr/>
        </p:nvPicPr>
        <p:blipFill>
          <a:blip r:embed="rId1"/>
          <a:stretch/>
        </p:blipFill>
        <p:spPr>
          <a:xfrm>
            <a:off x="-181080" y="115920"/>
            <a:ext cx="4643640" cy="659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4335480" y="304920"/>
            <a:ext cx="477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曾经三次路过自己的家门，但他一次也没有进去看一看。禹的儿子十多岁了，还不知道父亲是个什么样子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23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716360" y="176040"/>
            <a:ext cx="453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</a:t>
            </a:r>
            <a:r>
              <a:rPr b="0" lang="en-US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3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曾经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路过自己的家门，但他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也没有进去看一看禹的儿子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十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岁了，还不知道父亲是个什么样子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23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788000" y="5493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</a:t>
            </a:r>
            <a:r>
              <a:rPr b="0" lang="en-US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3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曾经</a:t>
            </a:r>
            <a:r>
              <a:rPr b="0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路过自己的家门，但他</a:t>
            </a:r>
            <a:r>
              <a:rPr b="0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也没有进去看一看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79280" y="13636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的儿子</a:t>
            </a:r>
            <a:r>
              <a:rPr b="0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十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岁了，还不知道父亲是个什么样子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2"/>
          <p:cNvPicPr/>
          <p:nvPr/>
        </p:nvPicPr>
        <p:blipFill>
          <a:blip r:embed="rId1"/>
          <a:stretch/>
        </p:blipFill>
        <p:spPr>
          <a:xfrm>
            <a:off x="2484360" y="404640"/>
            <a:ext cx="3816360" cy="288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429000" cy="256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610080" cy="2724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7"/>
          <p:cNvPicPr/>
          <p:nvPr/>
        </p:nvPicPr>
        <p:blipFill>
          <a:blip r:embed="rId4"/>
          <a:stretch/>
        </p:blipFill>
        <p:spPr>
          <a:xfrm>
            <a:off x="1547640" y="1197000"/>
            <a:ext cx="5977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124000" y="692280"/>
            <a:ext cx="70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被制服了，老百姓过上了安定的日子，大家非常感激这位治水的伟大英雄。从此，大禹的名字代代相传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692280"/>
            <a:ext cx="70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被制服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老百姓过上了安定的日子，大家非常感激这位治水的伟大英雄。从此，大禹的名字代代相传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11280" y="1052640"/>
            <a:ext cx="7727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没  冲倒  决心  无家可归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  挖通  劈开  代代相传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滔滔的洪水        千辛万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的日子        千山万水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286000" y="981000"/>
            <a:ext cx="4572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宋体"/>
              </a:rPr>
              <a:t>生字朋友们，大家好！</a:t>
            </a:r>
            <a:endParaRPr b="0" lang="en-US" sz="18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uFillTx/>
              <a:latin typeface="宋体"/>
              <a:ea typeface="宋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2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24000" y="692280"/>
            <a:ext cx="702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被制服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老百姓过上了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定的日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大家非常感激这位治水的伟大英雄。从此，大禹的名字代代相传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124000" y="692280"/>
            <a:ext cx="7020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被制服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老百姓过上了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定的日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大家非常感激这位治水的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伟大英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从此，大禹的名字代代相传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ject 2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50920" y="260280"/>
            <a:ext cx="87138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被制服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老百姓过上了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定的日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大家非常感激这位治水的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伟大英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从此，大禹的名字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代代相传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0" y="3878280"/>
            <a:ext cx="9144000" cy="2979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50920" y="549360"/>
            <a:ext cx="87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后作业</a:t>
            </a: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今天学的故事讲给父母或好朋友听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国家的历史上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大禹治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样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神话故事还有很多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愚公移山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夸父逐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可以找相关的故事来读读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843280" y="539100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更多免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模板下载：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大禹"/>
          <p:cNvPicPr/>
          <p:nvPr/>
        </p:nvPicPr>
        <p:blipFill>
          <a:blip r:embed="rId1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F83-4C8D-45A1-A5EB-797BBD12B2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8600" y="4495680"/>
            <a:ext cx="8610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淹没了农田，冲倒了房屋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得老百姓无家可归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851280" y="5302080"/>
            <a:ext cx="396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4052880" y="36450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4495680"/>
            <a:ext cx="883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淹没了农田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冲倒了房屋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得老百姓无家可归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51280" y="5302080"/>
            <a:ext cx="396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0" y="4495680"/>
            <a:ext cx="883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淹没了农田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冲倒了房屋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得老百姓无家可归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851280" y="5302080"/>
            <a:ext cx="396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4495680"/>
            <a:ext cx="883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淹没了农田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冲倒了房屋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得老百姓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家可归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51280" y="5302080"/>
            <a:ext cx="396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600" y="44956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淹没了农田，冲倒了房屋，害得老百姓无家可归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8600" y="44956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滔滔的洪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没了农田，冲倒了房屋，害得老百姓无家可归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1:16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0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