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3AB-91ED-4776-958E-2B55544DA4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9CBC-88E3-49BB-8781-C171B51FFE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634-1794-48D1-9F80-5F226778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B07-7606-41B5-9107-5221480C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AF0-C07F-4836-88C7-B40040D3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019-1BD7-4A5E-A8A4-40963370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6B1-B5DA-4278-84CD-D7C3A8B1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4CC-B877-45CF-8FB5-331961EC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FD2-AA17-4BF5-A1AD-C349CC00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0EC-44D8-4EEF-AAFE-29C02725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672-844A-44E9-8D65-74F0D1D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42E-BBC9-4969-B81F-97AE104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7E2-F32C-4625-AC61-423E34F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BBB-DB04-42BE-9B92-416678B9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54B8-7DE6-4B6D-8360-F76F94C17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4。儿子的采访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538200" y="604800"/>
            <a:ext cx="533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子</a:t>
            </a: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采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27000" y="6022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267920"/>
            <a:ext cx="6132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[</a:t>
            </a:r>
            <a:r>
              <a:rPr b="1" lang="zh-CN" sz="8000" spc="-1" strike="noStrike">
                <a:solidFill>
                  <a:srgbClr val="002060"/>
                </a:solidFill>
                <a:latin typeface="Arial"/>
              </a:rPr>
              <a:t>我会做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840" y="2420640"/>
            <a:ext cx="87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为了让父母吃得下饭、睡得着觉、笑得出来，我们能做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5520" y="126648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[</a:t>
            </a: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我的采访</a:t>
            </a: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15880" y="2563920"/>
            <a:ext cx="81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来现场采访一下我们的爸妈，看看他们最大的愿望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雨的印记.mp3" descr=""/>
          <p:cNvPicPr/>
          <p:nvPr/>
        </p:nvPicPr>
        <p:blipFill>
          <a:blip r:embed="rId1"/>
          <a:stretch/>
        </p:blipFill>
        <p:spPr>
          <a:xfrm>
            <a:off x="7929720" y="5786280"/>
            <a:ext cx="428400" cy="4287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1701720" y="5427720"/>
            <a:ext cx="66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7108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538200" y="10526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[</a:t>
            </a:r>
            <a:r>
              <a:rPr b="1" lang="zh-CN" sz="7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我会写</a:t>
            </a:r>
            <a:r>
              <a:rPr b="1" lang="en-US" sz="7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42960" y="2421000"/>
            <a:ext cx="825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学了这篇文章，我想你也有很多感触吧！拿起笔来，写写“自己眼中的爸妈”吧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天下父母心.mp3" descr=""/>
          <p:cNvPicPr/>
          <p:nvPr/>
        </p:nvPicPr>
        <p:blipFill>
          <a:blip r:embed="rId1"/>
          <a:stretch/>
        </p:blipFill>
        <p:spPr>
          <a:xfrm>
            <a:off x="7786800" y="55720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20043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E553-70D8-48DD-A36D-2F6656C6CB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20" y="1123920"/>
            <a:ext cx="90406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24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 </a:t>
            </a:r>
            <a:r>
              <a:rPr b="1" lang="en-US" sz="96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[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热身运动</a:t>
            </a:r>
            <a:r>
              <a:rPr b="1" lang="en-US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79520" y="28526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现在所在的是“追逐梦想”的采访现场，让我们来采访一下现场的观众朋友，你的梦想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雨的印记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7108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4929120"/>
            <a:ext cx="90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指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带着问题大声朗读课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直线画出答案并写在导学案上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时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210960" y="234792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本文是谁采访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问了什么问题？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被采访者又是怎样回答的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矩形 3" descr=""/>
          <p:cNvPicPr/>
          <p:nvPr/>
        </p:nvPicPr>
        <p:blipFill>
          <a:blip r:embed="rId1"/>
          <a:stretch/>
        </p:blipFill>
        <p:spPr>
          <a:xfrm>
            <a:off x="106200" y="762120"/>
            <a:ext cx="82296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9"/>
          <p:cNvSpPr/>
          <p:nvPr/>
        </p:nvSpPr>
        <p:spPr>
          <a:xfrm>
            <a:off x="5565600" y="436572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24。儿子的采访"/>
          <p:cNvPicPr/>
          <p:nvPr/>
        </p:nvPicPr>
        <p:blipFill>
          <a:blip r:embed="rId1"/>
          <a:stretch/>
        </p:blipFill>
        <p:spPr>
          <a:xfrm>
            <a:off x="4245120" y="853920"/>
            <a:ext cx="4876560" cy="5410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-533880" y="3357720"/>
            <a:ext cx="1826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吃得下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46128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97200" y="22939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Arial"/>
                <a:ea typeface="隶书"/>
              </a:rPr>
              <a:t>爸爸的三个愿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352520" y="288360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睡得着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486160" y="285984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笑得出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17440" y="88596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[</a:t>
            </a: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我会答</a:t>
            </a: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80960" y="270828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小组间跳读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课文边读边勾画出爸爸在回答三个愿望时儿子的反应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（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分钟时间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1600200" y="1195560"/>
            <a:ext cx="466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合作探究我最棒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4。儿子的采访"/>
          <p:cNvPicPr/>
          <p:nvPr/>
        </p:nvPicPr>
        <p:blipFill>
          <a:blip r:embed="rId1"/>
          <a:stretch/>
        </p:blipFill>
        <p:spPr>
          <a:xfrm>
            <a:off x="4038480" y="990720"/>
            <a:ext cx="487692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566160" y="856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儿子的反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12640" y="399600"/>
            <a:ext cx="100332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愣了，无可奈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85080" y="87156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着急，哭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341440" y="1366920"/>
            <a:ext cx="152100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失去控制，真的急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842920" y="1123920"/>
            <a:ext cx="34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隶书"/>
              </a:rPr>
              <a:t>[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我会演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隶书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38200" y="292428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即兴编一段课本剧，表演儿子采访爸爸的情景，语言可以自己组织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538200" y="83520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[</a:t>
            </a:r>
            <a:r>
              <a:rPr b="1" lang="zh-CN" sz="8000" spc="-1" strike="noStrike">
                <a:solidFill>
                  <a:srgbClr val="002060"/>
                </a:solidFill>
                <a:latin typeface="Arial"/>
              </a:rPr>
              <a:t>我会谈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85840" y="261144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你的父母有吃不下饭、睡不着觉、笑不出来的时候吗？你知道他们什么时候这样吗？为什么会这样？互相谈一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雨的印记.mp3" descr=""/>
          <p:cNvPicPr/>
          <p:nvPr/>
        </p:nvPicPr>
        <p:blipFill>
          <a:blip r:embed="rId1"/>
          <a:stretch/>
        </p:blipFill>
        <p:spPr>
          <a:xfrm>
            <a:off x="8143920" y="607212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7108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38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人到中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要工作，面对工作中的各种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要赡养老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要养家糊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还要面对社会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人际交往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自身身体状况等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22:13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1:01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