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A916-3D0D-44D9-87FB-E9FFFF7177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4DCF-71FA-45C2-A236-8C233068C3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C96-D1EB-4D56-801D-B9F2460D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803-BDE9-4015-9C93-654DD116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394A-2FB9-45A6-9DCE-F31036AE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38D-606D-4891-A6F8-39DE9EB1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8321-2503-4CE5-8785-BF8563C6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940-9773-4F72-9554-15C2E4B4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CA96-305C-4677-AE50-60CD0B25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05F-F45B-4B95-8973-E7D10F05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67C8-59A3-438C-BDF1-4B00E91D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56E-2806-4A86-99C3-4D85D511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8C0-850F-4A33-ABDF-044AF6D3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F7D-A1CC-412C-B74D-903AF083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691A-06B4-4EE8-A8FC-2458E1FE4D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915840" y="2238480"/>
            <a:ext cx="5639040" cy="3495600"/>
          </a:xfrm>
          <a:prstGeom prst="rect">
            <a:avLst/>
          </a:prstGeom>
          <a:ln w="0">
            <a:noFill/>
          </a:ln>
        </p:spPr>
      </p:pic>
      <p:sp>
        <p:nvSpPr>
          <p:cNvPr id="49" name="WordArt 8"/>
          <p:cNvSpPr txBox="1"/>
          <p:nvPr/>
        </p:nvSpPr>
        <p:spPr>
          <a:xfrm>
            <a:off x="915840" y="762120"/>
            <a:ext cx="5639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3300"/>
                </a:solidFill>
                <a:latin typeface="隶书"/>
              </a:rPr>
              <a:t>负荆请罪</a:t>
            </a:r>
            <a:endParaRPr b="1" lang="en-US" sz="1800" spc="-1" strike="noStrike">
              <a:ln w="0">
                <a:noFill/>
              </a:ln>
              <a:solidFill>
                <a:srgbClr val="003300"/>
              </a:solidFill>
              <a:latin typeface="隶书"/>
              <a:ea typeface="隶书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615240" y="594360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蔺大人，请你宽恕我这个老迈昏庸的人吧！我常常在别人面前侮辱你。现在，我知道那完全是我的过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蔺大人，最初我还以为你怕我哩，后来经人提醒，才明白你这样做完全是为了我们赵国着想。你真是一个深明大义、宽容大度的人哪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     ）的廉颇    （     ）的蔺相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蔺相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廉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619280" y="1989000"/>
            <a:ext cx="854064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深明大义、宽容大度、顾全大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知错能改、顾全大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罪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负荆请罪”这则故事是有缘由的，廉颇为什么会和蔺相如闹不和呢？这事起于蔺相如的地位。原本是一官员家门客的蔺相如，凭着他的足智多谋、不畏强暴为赵国屡立奇功，深得赵王的器重，一步步高升，最后做了职位比廉颇还大的上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92413"/>
                </a:solidFill>
                <a:latin typeface="Arial"/>
              </a:rPr>
              <a:t>阅读剧本的一般方法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剧本开头先写明故事发生的时间、地点和剧本中的任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剧始和剧中的方括号内主要交代舞台布景及任务活动情况，剧中的小括号内交代人物说话时的表情、动作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剧本一般都是通过尖锐的戏剧冲突爱展示人物性格特点。阅读时，要弄清故事情节，仔细品位任务语言，了解人物性格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拓展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外自由结合，排演这个小话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读文后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廉颇是不是真心来请罪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廉颇为什么要向蔺相如“负荆请罪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退让小巷尽显君子风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负荆请罪不失英雄本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"/>
          <p:cNvSpPr/>
          <p:nvPr/>
        </p:nvSpPr>
        <p:spPr>
          <a:xfrm>
            <a:off x="457200" y="4861080"/>
            <a:ext cx="58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人物品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18920" y="1988640"/>
            <a:ext cx="69152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深明大义、宽容大度、顾全大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错能改、顾全大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24000" y="1700280"/>
            <a:ext cx="854064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蔺相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廉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D8CE-98BB-43E3-B393-97C3B678C8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熟读第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课，自学生字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理解词语意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负荆请罪    昏庸           针锋相对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唇枪舌剑    寸步不让    若有所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读文后用自己的话说说本剧讲了一件什么事，并写下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250920" y="549360"/>
            <a:ext cx="2449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预习题：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填字成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47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　　）精（　　）神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　　）不（　　）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 （　　） 相　 对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唇（　　）舌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　　）（　　）不让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深　明　大　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宽　容　大　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　　）荆 请（　　）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负”有以下几种解释，“负荆请罪”的“负”应选：（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战败，失败（跟“胜”相反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承担，担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享有、具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背部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负荆请罪”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预习，你知道是谁向谁“负荆请罪”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生字词，理解生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读文章，理清文章的层次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读要求：用喜欢的方式自由朗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读准字音，看清字形，利用工具书或上下文理解词语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默读课文，思考文中人物的性格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生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īng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廉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ían pō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hà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á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勃    韩国     毫不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ú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枪舌战       老迈昏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ō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府邸    负荆请罪　聚精会神　针锋相对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踱步　若有所悟　深明大义　宽容大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厉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惧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宽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昏庸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752480" y="838080"/>
            <a:ext cx="3733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难以对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828800" y="1981080"/>
            <a:ext cx="20574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宽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1828800" y="1447920"/>
            <a:ext cx="220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害怕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1828800" y="2590920"/>
            <a:ext cx="2971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糊涂而愚蠢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838080" y="3505320"/>
            <a:ext cx="6940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  ）认为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  ）惧怕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  ）。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  ）认为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  ）昏庸。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（ 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）请求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  ）的宽恕。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秦王不敢侵犯我国，就是因为我们赵国武有廉颇，文有蔺相如。要是我跟廉将军闹翻了，后果将会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因果关系的关联词练习说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05:11:20Z</dcterms:created>
  <dc:creator>第一PPT模板网-WWW.1PPT.COM</dc:creator>
  <dc:description>第一PPT模板网-WWW.1PPT.COM
第一PPT模板网-WWW.1PPT.COM
第一PPT模板网-WWW.1PPT.COM
第一PPT模板网-WWW.1PPT.COM
</dc:description>
  <cp:keywords>第一PPT模板网-WWW.1PPT.COM</cp:keywords>
  <dc:language>en-US</dc:language>
  <cp:lastModifiedBy>xinxing</cp:lastModifiedBy>
  <dcterms:modified xsi:type="dcterms:W3CDTF">2017-04-17T01:40:24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