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A0BB-5149-4365-91E4-3E6CAA8E48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BAAE-38B8-4D8E-B0B3-04D5FDBEC9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C69-BF1E-4F74-BDA9-B55EAD73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5B6-74E6-40B1-9C28-9B7D0B01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007-AD22-40CB-B81B-278DD04B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A5F-2469-42E2-B234-1D17C85B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8D4-D235-4C8F-B553-6864541D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518-1F18-4E77-B31E-ACCF034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BBF-AD3C-4218-8BAF-B86758C3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A44-6860-4889-BB5E-53542CD9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8614-D7AA-40A6-9D0F-E62C14DA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4F8-0E76-4090-9010-086B3EB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EB6-CA42-422F-8526-92F35F9A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65E-4CF2-49F2-935D-008A1AE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D1AC-A7B8-4A46-8917-4B05C416D1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高傲的女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89972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海内存知己，天涯若比邻。友谊是暴雨天及时送来的一把雨伞，友谊是失败时鼓励的一个微笑。让我们齐心协力，共筑友谊之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欣赏音乐《友谊地久天长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后积累有关友谊的名言警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038240" y="5748480"/>
            <a:ext cx="56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有关友谊的名言警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486080"/>
            <a:ext cx="9037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患难见真情。—— 伊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不存成见的心情和人交往，才可以交到朋友。—— 罗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罗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路遥知马力，日久见人心。——《元曲选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独学而无友，则孤陋而寡闻。—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酒逢知己千杯少，话不投机半句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朋友交，言而有信。——《论语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2052720" y="1484280"/>
            <a:ext cx="5976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AE27-3A08-47B2-9F7D-986A2A7E7C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3564000" y="400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4358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zh-CN" sz="6600" spc="-1" strike="noStrike">
                <a:solidFill>
                  <a:srgbClr val="000000"/>
                </a:solidFill>
                <a:latin typeface="Arial"/>
              </a:rPr>
              <a:t>巩固提问：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本篇课文讲了什么内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课文写了“我”渴望与叶小绿这个被叫做高傲的女孩成为好朋友，最终变为好朋友的故事。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66ff33"/>
                </a:solidFill>
                <a:latin typeface="Arial"/>
              </a:rPr>
              <a:t>作者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84480" y="981000"/>
            <a:ext cx="96361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文君，著名儿童文学女作家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生于上海，中国作家协会会员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当代最出色的儿童文学作家之一，以创作儿童小说闻名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创作出了第一部中篇小说《闪亮的萤火虫》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开始其文学创作。已出版作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字，代表作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男生贾里》、《女生贾梅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《小鬼鲁智胜》、等，先后四十余次获各种文学奖，《小鬼鲁智胜》、《男生贾里》、《家有小丑》等十余部作品被改为电影、电视连续剧先后播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00"/>
                </a:solidFill>
                <a:latin typeface="Arial"/>
              </a:rPr>
              <a:t>质疑问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72720" y="1599840"/>
            <a:ext cx="79218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根据课题和课文内容提出质疑，小组交流、讨论，把值得研究、探讨的问题板书在小黑板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“我”在认识叶小绿之前是个怎样的人？“挺不一般的朋友”指哪种朋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“我”和叶小绿是怎样认识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“我”对友谊有怎样的体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2124000" y="2349360"/>
            <a:ext cx="49467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深入文本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19160"/>
            <a:ext cx="9036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“我”在认识叶小绿之前是个怎样的人？“挺不一般的朋友”指哪种朋友？（齐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240" y="3933720"/>
            <a:ext cx="9145800" cy="28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”是一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特别喜欢交朋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挺不一般的朋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”指持久的、不会相互散淡的朋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86280" y="192240"/>
            <a:ext cx="9566280" cy="28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“我”和叶小绿是怎样认识的？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“我”对友谊有怎样的体会？（默读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—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000" y="3359160"/>
            <a:ext cx="8650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“我们”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在少年宫的美术班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认识的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（认识高傲的女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建立友谊需要热情，需要朋友间的吸引力，更需要一种心心相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2000" y="692280"/>
            <a:ext cx="8929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快速浏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7—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然段，谈谈你对课题“高傲的女孩”的理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8000" y="3212640"/>
            <a:ext cx="885672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其实每个人都应该也可以找到真正的友谊，而不应该让人感到无法接近。（成为终身的朋友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3:30Z</dcterms:modified>
  <cp:revision>5</cp:revision>
  <dc:subject>第一PPT模板网-WWW.1PPT.COM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