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0F9F-11BD-420F-BF90-EE89D3A59C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A137-C745-422A-A1D0-E207CA65D3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19C-7125-4EFD-AD2A-05B53872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BC7-DC62-49AF-9D67-1E65454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679-A6DF-4C09-93E9-9D061F86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E81-BAA8-4D28-8D36-BFF1316B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984-0FF7-4AA2-B54A-5E5F3EBD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25D-C872-49F5-974C-1DB5A8D5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341-41B6-4F2D-8F4B-2A7E70F3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D90-D7A2-4E81-BBD7-33CC0122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462-1236-467B-8CDE-70F1C486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9ED-CA0E-4CB2-ABD7-7FBA30FB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6C3-ACD9-415D-90F1-DE4CA77A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72B-C069-48B0-B92D-CA5D1DBD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4AA9-E562-45B1-BFFC-07AB24B3A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58738_1222152836Fbl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Text Box 5" descr=""/>
          <p:cNvPicPr/>
          <p:nvPr/>
        </p:nvPicPr>
        <p:blipFill>
          <a:blip r:embed="rId2"/>
          <a:stretch/>
        </p:blipFill>
        <p:spPr>
          <a:xfrm>
            <a:off x="503280" y="907920"/>
            <a:ext cx="813744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矩形 7" descr=""/>
          <p:cNvPicPr/>
          <p:nvPr/>
        </p:nvPicPr>
        <p:blipFill>
          <a:blip r:embed="rId3"/>
          <a:stretch/>
        </p:blipFill>
        <p:spPr>
          <a:xfrm>
            <a:off x="1343160" y="5797440"/>
            <a:ext cx="657360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0905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1e056aa0c3g2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358738_1222152836Fbl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5c715fd9-1507-4489-bc46-414f2b4932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499b944bda78e17879473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戈壁滩上的古长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戈壁滩上，有一些矮矮的土墙墩，断断续续，排成一长串。这就是古长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千多年前，这里是打仗的战场，人喊叫，马嘶鸣，刀枪叮叮当当。那时，长城又高又长，挎着弓箭的士兵在上面走来走去，脸上一点儿笑容都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英雄的黎明.mp3" descr=""/>
          <p:cNvPicPr/>
          <p:nvPr/>
        </p:nvPicPr>
        <p:blipFill>
          <a:blip r:embed="rId2"/>
          <a:stretch/>
        </p:blipFill>
        <p:spPr>
          <a:xfrm>
            <a:off x="7596360" y="580536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153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4ec5763643c032c5a2cc2b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图片2"/>
          <p:cNvPicPr/>
          <p:nvPr/>
        </p:nvPicPr>
        <p:blipFill>
          <a:blip r:embed="rId2"/>
          <a:stretch/>
        </p:blipFill>
        <p:spPr>
          <a:xfrm>
            <a:off x="0" y="0"/>
            <a:ext cx="1944720" cy="184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50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现在，古长城变矮了，羊儿上上下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跳来跳去，放羊的大哥哥坐在墙墩上，乐滋滋地吹着牧笛。天很蓝，云很白，羊儿慢悠悠地吃着草，清脆的笛声飘得很远很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月光水岸.mp3" descr=""/>
          <p:cNvPicPr/>
          <p:nvPr/>
        </p:nvPicPr>
        <p:blipFill>
          <a:blip r:embed="rId3"/>
          <a:stretch/>
        </p:blipFill>
        <p:spPr>
          <a:xfrm>
            <a:off x="8101080" y="6165720"/>
            <a:ext cx="73800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3036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现长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324000" y="47628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今保存完好的八达岭长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月光水岸.mp3" descr=""/>
          <p:cNvPicPr/>
          <p:nvPr/>
        </p:nvPicPr>
        <p:blipFill>
          <a:blip r:embed="rId2"/>
          <a:stretch/>
        </p:blipFill>
        <p:spPr>
          <a:xfrm>
            <a:off x="8388360" y="6381720"/>
            <a:ext cx="57456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现长城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现长城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现长城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2501853bb1g2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1403280" y="189000"/>
            <a:ext cx="6408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人山人海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5" name="Picture 4" descr="旅游33"/>
          <p:cNvPicPr/>
          <p:nvPr/>
        </p:nvPicPr>
        <p:blipFill>
          <a:blip r:embed="rId1"/>
          <a:stretch/>
        </p:blipFill>
        <p:spPr>
          <a:xfrm>
            <a:off x="0" y="1052640"/>
            <a:ext cx="4932360" cy="580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421164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250920" y="5446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比利时首相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吕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德阿纳游览八达岭长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890280" y="404280"/>
            <a:ext cx="720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美利坚合众国总统乔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沃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布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览八达岭长城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003_9_11_1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1546920" y="17280"/>
            <a:ext cx="60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，德意志共和国联邦总统约翰内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劳游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八达岭长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004_6_27_1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063440" y="-360"/>
            <a:ext cx="69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，阿根廷共和国总统内斯托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卡洛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尔游览八达岭长城。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2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8"/>
          <p:cNvSpPr txBox="1"/>
          <p:nvPr/>
        </p:nvSpPr>
        <p:spPr>
          <a:xfrm>
            <a:off x="468360" y="260280"/>
            <a:ext cx="1295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春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x6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468360" y="260280"/>
            <a:ext cx="1295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夏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00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q10-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7"/>
          <p:cNvSpPr txBox="1"/>
          <p:nvPr/>
        </p:nvSpPr>
        <p:spPr>
          <a:xfrm>
            <a:off x="468360" y="260280"/>
            <a:ext cx="1295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秋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d4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6"/>
          <p:cNvSpPr txBox="1"/>
          <p:nvPr/>
        </p:nvSpPr>
        <p:spPr>
          <a:xfrm>
            <a:off x="1332000" y="333360"/>
            <a:ext cx="1295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冬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3333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h1-1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47" name="WordArt 6"/>
          <p:cNvSpPr txBox="1"/>
          <p:nvPr/>
        </p:nvSpPr>
        <p:spPr>
          <a:xfrm>
            <a:off x="2268360" y="189000"/>
            <a:ext cx="5183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彩虹下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0097611212952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w1-1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5"/>
          <p:cNvSpPr txBox="1"/>
          <p:nvPr/>
        </p:nvSpPr>
        <p:spPr>
          <a:xfrm>
            <a:off x="1619280" y="189000"/>
            <a:ext cx="5545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云雾中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1619280" y="333360"/>
            <a:ext cx="597708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黄昏下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2" name="Picture 5" descr="x17-17"/>
          <p:cNvPicPr/>
          <p:nvPr/>
        </p:nvPicPr>
        <p:blipFill>
          <a:blip r:embed="rId3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1"/>
          <p:cNvSpPr/>
          <p:nvPr/>
        </p:nvSpPr>
        <p:spPr>
          <a:xfrm>
            <a:off x="909720" y="1177920"/>
            <a:ext cx="68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y1-1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1547640" y="0"/>
            <a:ext cx="518508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夜色中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3"/>
          <p:cNvSpPr txBox="1"/>
          <p:nvPr/>
        </p:nvSpPr>
        <p:spPr>
          <a:xfrm>
            <a:off x="250920" y="115920"/>
            <a:ext cx="8610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仿宋_GB2312"/>
              </a:rPr>
              <a:t>面对今日雄伟的长城 我们该做些什么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  <p:pic>
        <p:nvPicPr>
          <p:cNvPr id="158" name="Picture 5" descr="x10-10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B7AD-2988-4474-B28A-F0FB982651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2007429191953598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499b944bda78e17879473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324000" y="907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戈壁滩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地方都是沙子和石块，地面上缺    水，植物稀少。一望无际，非常荒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0"/>
          <p:cNvSpPr/>
          <p:nvPr/>
        </p:nvSpPr>
        <p:spPr>
          <a:xfrm>
            <a:off x="1979640" y="40608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250920" y="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00400" y="1676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7928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戈壁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，有一些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矮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土墙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断断续续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成一长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2637000"/>
            <a:ext cx="93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战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，人喊叫，马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嘶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刀枪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叮叮当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-252360" y="3860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弓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士兵，脸上一点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笑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都没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79280" y="5084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羊的哥哥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乐滋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吹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牧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羊儿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慢悠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吃着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78920" y="907560"/>
            <a:ext cx="8542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戈壁滩   矮矮   土墙墩    断断续续   长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仗    喊叫    嘶鸣     叮叮当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挎   弓箭   士兵   笑容  一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乐滋滋   牧笛    清脆    慢悠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50920" y="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认一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4Vgw_tffV+7Tz0KEg1tjQwsbYueIgRFM=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179280" y="333360"/>
            <a:ext cx="504216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戈壁滩上的古长城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77" name="英雄的黎明.mp3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50328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01000000000000119063427334591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1:22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5:51Z</dcterms:modified>
  <cp:revision>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