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5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5.png" ContentType="image/png"/>
  <Override PartName="/ppt/media/image29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200" y="754200"/>
            <a:ext cx="439092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860D-A3BE-48BA-A6FF-633F68FD0E7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38320" y="75096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534960" y="4384800"/>
            <a:ext cx="57801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AB66-3F3C-41B2-9298-B609AF76DC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C445-DA94-4875-8815-3B8D2593ED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D61-7EDC-4DA1-AA35-D1021A83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82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720" y="3751200"/>
            <a:ext cx="82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D29-665F-4B23-819D-5206FE66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44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6720" y="375120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440" y="375120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935C-E265-49E4-96D0-EC76C4C6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0400" y="160164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4080" y="160164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6720" y="375120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0400" y="375120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4080" y="375120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971-9829-4EBC-8A2C-090E1476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F08A-C446-4E38-A882-730EF95B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6720" y="160164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F56C-D722-4566-BA56-475FCC4B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B0F2-9CCF-4E32-A142-664116DD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5440" y="160164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88EC-904C-41BB-ABD1-F16A8523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8C2E-6BDD-460A-838B-B327AFC5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6720" y="277920"/>
            <a:ext cx="8290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C621-AC3B-4688-A40D-3472B08C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5440" y="160164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6720" y="375120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3B04-84E7-4815-BF81-3AF56322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6720" y="160164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23BD-380C-45FC-85DA-96C7F326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44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5440" y="375120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C489-7755-4653-98EF-3D1D2232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44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6720" y="3751200"/>
            <a:ext cx="82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FB5C-A8C6-44E9-91F3-FA0C22CA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82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6720" y="3751200"/>
            <a:ext cx="82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45DC-6637-4E41-82A0-EA1065CC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44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6720" y="375120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5440" y="375120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9E83-A882-4FD2-804C-4CF623C3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0400" y="160164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4080" y="160164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6720" y="375120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0400" y="375120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4080" y="375120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B391-762C-476A-A64A-2F67C7AC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0B807-CB93-433A-B224-EF9F8A31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6720" y="160164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238FD-2C5C-410F-B708-295424FE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F8C6E-F763-4D51-BF91-DAF8BAEB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5440" y="160164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2941B-64D9-4743-A9C7-82683716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1F91B-7E53-4CAB-BF77-EE750C7B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771-E36B-4743-88E5-2FA3A86E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6720" y="277920"/>
            <a:ext cx="8290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AC62C-A1B3-40B9-A9CE-FA6EEAC6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5440" y="160164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6720" y="375120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52BBE-7A1D-4E30-989F-50FDAF1F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544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5440" y="375120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9758A-8793-4062-8998-B5FA4948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544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6720" y="3751200"/>
            <a:ext cx="82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756AC-7044-4567-8ABA-CD8F234A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82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6720" y="3751200"/>
            <a:ext cx="82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E03D7-8D39-4365-B0A6-261D2A54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544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6720" y="375120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5440" y="375120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84BE9-EE0E-4948-B777-5CD65644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00400" y="160164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4080" y="160164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6720" y="375120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00400" y="375120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4080" y="375120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5C33F-D3D7-4FEC-86E1-C3992416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AAA8F-58C6-4893-B369-0D98911D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6720" y="160164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ADD69-BB66-4640-BC77-347CC612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EF92C-FDC2-4DAD-9FE9-B0F18CB4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440" y="160164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241-2FC3-4323-80E7-2E8CA78C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5440" y="160164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EF4D7-0910-4F6D-AD93-9CDF1EB4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DA639-A30D-4863-8B09-32E7EFF8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6720" y="277920"/>
            <a:ext cx="8290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A4C73-CDD4-4233-8772-EEF8BFDA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5440" y="160164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6720" y="375120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9BA73-AB70-4924-ACC5-7C159F37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544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45440" y="375120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8AC72-CBC9-4AC6-B9AD-BD121D74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544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6720" y="3751200"/>
            <a:ext cx="82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BCC7E-5EF7-4569-BA1F-E0619BD2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82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6720" y="3751200"/>
            <a:ext cx="82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8A9AF-C5C7-485A-98CD-A55D1696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544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6720" y="375120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45440" y="375120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AB641-FE50-4716-95F3-F9434335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00400" y="160164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04080" y="160164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6720" y="375120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00400" y="375120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04080" y="375120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15F53-5964-458B-BA68-FF5051BD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423-B2F1-41BA-B65D-2F0084B0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6720" y="277920"/>
            <a:ext cx="8290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7D98-3EE7-4653-9044-A02EF703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440" y="160164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6720" y="375120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50E-7AF1-4439-AC2A-C84FC569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44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440" y="375120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1F3-D2CD-49C2-8DFE-C5A665B9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672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440" y="1601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6720" y="3751200"/>
            <a:ext cx="82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1DE1-8860-408F-9128-5C96D697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60164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BB24-9859-4C13-A323-743A8508552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6720" y="160164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D926-D69C-4E64-9ECD-1017CD8C324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6720" y="160164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DA61-3463-49FA-8C92-D1C05A2B83A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6720" y="27792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96720" y="160164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4E42-9A75-4837-AEBC-F329AD56328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6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492360" y="11984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请听，再说说你听到了什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0" y="3646440"/>
            <a:ext cx="4572000" cy="3211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637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WordArt 6"/>
          <p:cNvSpPr txBox="1"/>
          <p:nvPr/>
        </p:nvSpPr>
        <p:spPr>
          <a:xfrm>
            <a:off x="2411280" y="1327320"/>
            <a:ext cx="432144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华文新魏"/>
              </a:rPr>
              <a:t>观潮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76" name="矩形 10" descr=""/>
          <p:cNvPicPr/>
          <p:nvPr/>
        </p:nvPicPr>
        <p:blipFill>
          <a:blip r:embed="rId4"/>
          <a:stretch/>
        </p:blipFill>
        <p:spPr>
          <a:xfrm>
            <a:off x="1819440" y="5661000"/>
            <a:ext cx="55911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0" y="333360"/>
            <a:ext cx="899640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、多音字组词。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hào (       )         chēng(      )       lóng(      )      mēng(        )      báo(      )  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号                      称                      笼                 蒙                       薄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ó (      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háo(        )         chèng(      )       lǒng(      )       méng(       )       bò (      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11280" y="1233360"/>
            <a:ext cx="108000" cy="648000"/>
          </a:xfrm>
          <a:custGeom>
            <a:avLst/>
            <a:gdLst>
              <a:gd name="textAreaLeft" fmla="*/ 69120 w 108000"/>
              <a:gd name="textAreaRight" fmla="*/ 108360 w 108000"/>
              <a:gd name="textAreaTop" fmla="*/ 12960 h 648000"/>
              <a:gd name="textAreaBottom" fmla="*/ 6350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08"/>
                  <a:pt x="10800" y="1415"/>
                </a:cubicBezTo>
                <a:lnTo>
                  <a:pt x="10800" y="9385"/>
                </a:lnTo>
                <a:cubicBezTo>
                  <a:pt x="10800" y="10093"/>
                  <a:pt x="5400" y="10800"/>
                  <a:pt x="0" y="10800"/>
                </a:cubicBezTo>
                <a:cubicBezTo>
                  <a:pt x="5400" y="10800"/>
                  <a:pt x="10800" y="11508"/>
                  <a:pt x="10800" y="12215"/>
                </a:cubicBezTo>
                <a:lnTo>
                  <a:pt x="10800" y="20185"/>
                </a:lnTo>
                <a:cubicBezTo>
                  <a:pt x="10800" y="208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5"/>
          <p:cNvSpPr/>
          <p:nvPr/>
        </p:nvSpPr>
        <p:spPr>
          <a:xfrm>
            <a:off x="2484360" y="1233360"/>
            <a:ext cx="108000" cy="648000"/>
          </a:xfrm>
          <a:custGeom>
            <a:avLst/>
            <a:gdLst>
              <a:gd name="textAreaLeft" fmla="*/ 69120 w 108000"/>
              <a:gd name="textAreaRight" fmla="*/ 108360 w 108000"/>
              <a:gd name="textAreaTop" fmla="*/ 12960 h 648000"/>
              <a:gd name="textAreaBottom" fmla="*/ 6350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08"/>
                  <a:pt x="10800" y="1415"/>
                </a:cubicBezTo>
                <a:lnTo>
                  <a:pt x="10800" y="9385"/>
                </a:lnTo>
                <a:cubicBezTo>
                  <a:pt x="10800" y="10093"/>
                  <a:pt x="5400" y="10800"/>
                  <a:pt x="0" y="10800"/>
                </a:cubicBezTo>
                <a:cubicBezTo>
                  <a:pt x="5400" y="10800"/>
                  <a:pt x="10800" y="11508"/>
                  <a:pt x="10800" y="12215"/>
                </a:cubicBezTo>
                <a:lnTo>
                  <a:pt x="10800" y="20185"/>
                </a:lnTo>
                <a:cubicBezTo>
                  <a:pt x="10800" y="208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4211640" y="1233360"/>
            <a:ext cx="108000" cy="648000"/>
          </a:xfrm>
          <a:custGeom>
            <a:avLst/>
            <a:gdLst>
              <a:gd name="textAreaLeft" fmla="*/ 69120 w 108000"/>
              <a:gd name="textAreaRight" fmla="*/ 108360 w 108000"/>
              <a:gd name="textAreaTop" fmla="*/ 12960 h 648000"/>
              <a:gd name="textAreaBottom" fmla="*/ 6350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08"/>
                  <a:pt x="10800" y="1415"/>
                </a:cubicBezTo>
                <a:lnTo>
                  <a:pt x="10800" y="9385"/>
                </a:lnTo>
                <a:cubicBezTo>
                  <a:pt x="10800" y="10093"/>
                  <a:pt x="5400" y="10800"/>
                  <a:pt x="0" y="10800"/>
                </a:cubicBezTo>
                <a:cubicBezTo>
                  <a:pt x="5400" y="10800"/>
                  <a:pt x="10800" y="11508"/>
                  <a:pt x="10800" y="12215"/>
                </a:cubicBezTo>
                <a:lnTo>
                  <a:pt x="10800" y="20185"/>
                </a:lnTo>
                <a:cubicBezTo>
                  <a:pt x="10800" y="208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5724360" y="1233360"/>
            <a:ext cx="108000" cy="648000"/>
          </a:xfrm>
          <a:custGeom>
            <a:avLst/>
            <a:gdLst>
              <a:gd name="textAreaLeft" fmla="*/ 69120 w 108000"/>
              <a:gd name="textAreaRight" fmla="*/ 108360 w 108000"/>
              <a:gd name="textAreaTop" fmla="*/ 12960 h 648000"/>
              <a:gd name="textAreaBottom" fmla="*/ 6350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08"/>
                  <a:pt x="10800" y="1415"/>
                </a:cubicBezTo>
                <a:lnTo>
                  <a:pt x="10800" y="9385"/>
                </a:lnTo>
                <a:cubicBezTo>
                  <a:pt x="10800" y="10093"/>
                  <a:pt x="5400" y="10800"/>
                  <a:pt x="0" y="10800"/>
                </a:cubicBezTo>
                <a:cubicBezTo>
                  <a:pt x="5400" y="10800"/>
                  <a:pt x="10800" y="11508"/>
                  <a:pt x="10800" y="12215"/>
                </a:cubicBezTo>
                <a:lnTo>
                  <a:pt x="10800" y="20185"/>
                </a:lnTo>
                <a:cubicBezTo>
                  <a:pt x="10800" y="208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6"/>
          <p:cNvSpPr/>
          <p:nvPr/>
        </p:nvSpPr>
        <p:spPr>
          <a:xfrm>
            <a:off x="7524720" y="1233360"/>
            <a:ext cx="108000" cy="648000"/>
          </a:xfrm>
          <a:custGeom>
            <a:avLst/>
            <a:gdLst>
              <a:gd name="textAreaLeft" fmla="*/ 69120 w 108000"/>
              <a:gd name="textAreaRight" fmla="*/ 108360 w 108000"/>
              <a:gd name="textAreaTop" fmla="*/ 12960 h 648000"/>
              <a:gd name="textAreaBottom" fmla="*/ 6350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08"/>
                  <a:pt x="10800" y="1415"/>
                </a:cubicBezTo>
                <a:lnTo>
                  <a:pt x="10800" y="9385"/>
                </a:lnTo>
                <a:cubicBezTo>
                  <a:pt x="10800" y="10093"/>
                  <a:pt x="5400" y="10800"/>
                  <a:pt x="0" y="10800"/>
                </a:cubicBezTo>
                <a:cubicBezTo>
                  <a:pt x="5400" y="10800"/>
                  <a:pt x="10800" y="11508"/>
                  <a:pt x="10800" y="12215"/>
                </a:cubicBezTo>
                <a:lnTo>
                  <a:pt x="10800" y="20185"/>
                </a:lnTo>
                <a:cubicBezTo>
                  <a:pt x="10800" y="208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0" y="3646440"/>
            <a:ext cx="4572000" cy="3240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637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86440"/>
          </a:xfrm>
          <a:prstGeom prst="rect">
            <a:avLst/>
          </a:prstGeom>
          <a:ln w="0">
            <a:noFill/>
          </a:ln>
        </p:spPr>
      </p:pic>
      <p:pic>
        <p:nvPicPr>
          <p:cNvPr id="232" name="潮水声.WAV" descr=""/>
          <p:cNvPicPr/>
          <p:nvPr/>
        </p:nvPicPr>
        <p:blipFill>
          <a:blip r:embed="rId4"/>
          <a:stretch/>
        </p:blipFill>
        <p:spPr>
          <a:xfrm>
            <a:off x="7667640" y="5229360"/>
            <a:ext cx="954000" cy="9522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3093840" y="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教新课标四年级语文上册第一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18743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1096807_035604"/>
          <p:cNvPicPr/>
          <p:nvPr/>
        </p:nvPicPr>
        <p:blipFill>
          <a:blip r:embed="rId1"/>
          <a:srcRect l="10948" t="0" r="0" b="23155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0" y="0"/>
            <a:ext cx="86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读了课题，你想知道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468360" y="1916280"/>
            <a:ext cx="6697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在哪里观潮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潮是怎么样的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20041010121853777"/>
          <p:cNvPicPr/>
          <p:nvPr/>
        </p:nvPicPr>
        <p:blipFill>
          <a:blip r:embed="rId1"/>
          <a:stretch/>
        </p:blipFill>
        <p:spPr>
          <a:xfrm>
            <a:off x="1116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395280" y="333360"/>
            <a:ext cx="698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自由朗读课文，找出在哪里观潮？并思考：课文按什么顺序来写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4920" y="41623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钱塘江大潮，自古以来被称为天下奇观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m-000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241" name="Oval 3"/>
          <p:cNvSpPr/>
          <p:nvPr/>
        </p:nvSpPr>
        <p:spPr>
          <a:xfrm>
            <a:off x="7451640" y="4508640"/>
            <a:ext cx="649440" cy="792000"/>
          </a:xfrm>
          <a:prstGeom prst="ellipse">
            <a:avLst/>
          </a:pr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zhejiang"/>
          <p:cNvPicPr/>
          <p:nvPr/>
        </p:nvPicPr>
        <p:blipFill>
          <a:blip r:embed="rId2"/>
          <a:stretch/>
        </p:blipFill>
        <p:spPr>
          <a:xfrm>
            <a:off x="0" y="0"/>
            <a:ext cx="7236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Oval 5"/>
          <p:cNvSpPr/>
          <p:nvPr/>
        </p:nvSpPr>
        <p:spPr>
          <a:xfrm>
            <a:off x="3635280" y="1557360"/>
            <a:ext cx="792360" cy="649440"/>
          </a:xfrm>
          <a:prstGeom prst="ellipse">
            <a:avLst/>
          </a:pr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pic_114900"/>
          <p:cNvPicPr/>
          <p:nvPr/>
        </p:nvPicPr>
        <p:blipFill>
          <a:blip r:embed="rId3"/>
          <a:srcRect l="18233" t="55143" r="16736" b="16104"/>
          <a:stretch/>
        </p:blipFill>
        <p:spPr>
          <a:xfrm>
            <a:off x="0" y="2333520"/>
            <a:ext cx="7236000" cy="4524480"/>
          </a:xfrm>
          <a:prstGeom prst="rect">
            <a:avLst/>
          </a:prstGeom>
          <a:ln w="0">
            <a:noFill/>
          </a:ln>
        </p:spPr>
      </p:pic>
      <p:sp>
        <p:nvSpPr>
          <p:cNvPr id="245" name="Oval 7"/>
          <p:cNvSpPr/>
          <p:nvPr/>
        </p:nvSpPr>
        <p:spPr>
          <a:xfrm>
            <a:off x="1476360" y="3716280"/>
            <a:ext cx="2590920" cy="1513080"/>
          </a:xfrm>
          <a:prstGeom prst="ellipse">
            <a:avLst/>
          </a:pr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1260360" y="155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潮来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258920" y="3284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潮来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258920" y="49417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潮过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2050920" y="2206800"/>
            <a:ext cx="289080" cy="1077840"/>
          </a:xfrm>
          <a:prstGeom prst="downArrow">
            <a:avLst>
              <a:gd name="adj1" fmla="val 50000"/>
              <a:gd name="adj2" fmla="val 73345"/>
            </a:avLst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>
            <a:off x="1979640" y="3933720"/>
            <a:ext cx="288720" cy="1079640"/>
          </a:xfrm>
          <a:prstGeom prst="downArrow">
            <a:avLst>
              <a:gd name="adj1" fmla="val 50000"/>
              <a:gd name="adj2" fmla="val 73559"/>
            </a:avLst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539640" y="9795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课文的写作顺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sy2437b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3"/>
          <p:cNvSpPr/>
          <p:nvPr/>
        </p:nvSpPr>
        <p:spPr>
          <a:xfrm>
            <a:off x="395280" y="26028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默读写“潮来前”的段落，思考：这一段介绍了什么？主要描写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36600" y="1413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观潮的时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农历八月十八日早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22200" y="198900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观潮地点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海宁县盐官镇的海塘大堤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282600" y="2708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观潮人的心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急切地等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85840" y="338760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观潮的场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人山人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250920" y="416412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潮来前江面的景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平静、雾蒙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4680000" y="33876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作者主要抓住什么来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1332000" y="4870440"/>
            <a:ext cx="46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人动江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sy2437b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60735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"/>
          <p:cNvSpPr/>
          <p:nvPr/>
        </p:nvSpPr>
        <p:spPr>
          <a:xfrm>
            <a:off x="179280" y="14241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宽阔的钱塘江横卧在眼前。江面很平静，越往东越宽，在雨后的阳光下，笼罩着一层蒙蒙的薄雾。镇海古塔、中山亭和观潮台屹立在江边。远处，几座小山在云雾中若隐若现。江潮还没有来，海塘大堤上早已人山人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179280" y="836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朗读感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pic_114900"/>
          <p:cNvPicPr/>
          <p:nvPr/>
        </p:nvPicPr>
        <p:blipFill>
          <a:blip r:embed="rId2"/>
          <a:srcRect l="18233" t="55143" r="16736" b="161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4500720" y="1784520"/>
            <a:ext cx="4643280" cy="1252080"/>
          </a:xfrm>
          <a:prstGeom prst="rect">
            <a:avLst/>
          </a:prstGeom>
          <a:solidFill>
            <a:srgbClr val="e2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钱塘江口是喇叭形，外宽内窄，外深内浅，水底还有一道人们看不见的“沙坎”，迫使潮水上升，因此潮波传来，受到很大的约束，这是地理因素。另外是引力的因素，八月十八，太阳、地球、月亮三球的引力对涨潮影响最大。再有是八月中旬这段时间海面上常常刮东南风，所以潮波来势特别猛烈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2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3"/>
          <p:cNvSpPr/>
          <p:nvPr/>
        </p:nvSpPr>
        <p:spPr>
          <a:xfrm>
            <a:off x="698400" y="2098800"/>
            <a:ext cx="774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小组合作学习探究“潮来时”的段落：作者是按什么顺序写大潮来时的景象？又是从哪几方面来描述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698400" y="836640"/>
            <a:ext cx="52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声音   样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324000" y="371628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远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2268360" y="371628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稍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471636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再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7164360" y="37162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更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1042920" y="4005360"/>
            <a:ext cx="1152720" cy="287280"/>
          </a:xfrm>
          <a:prstGeom prst="rightArrow">
            <a:avLst>
              <a:gd name="adj1" fmla="val 50000"/>
              <a:gd name="adj2" fmla="val 127379"/>
            </a:avLst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3492360" y="3933720"/>
            <a:ext cx="1152720" cy="289080"/>
          </a:xfrm>
          <a:prstGeom prst="rightArrow">
            <a:avLst>
              <a:gd name="adj1" fmla="val 50000"/>
              <a:gd name="adj2" fmla="val 126586"/>
            </a:avLst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1"/>
          <p:cNvSpPr/>
          <p:nvPr/>
        </p:nvSpPr>
        <p:spPr>
          <a:xfrm>
            <a:off x="5940360" y="3933720"/>
            <a:ext cx="1152720" cy="289080"/>
          </a:xfrm>
          <a:prstGeom prst="rightArrow">
            <a:avLst>
              <a:gd name="adj1" fmla="val 50000"/>
              <a:gd name="adj2" fmla="val 126586"/>
            </a:avLst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468360" y="1484280"/>
            <a:ext cx="165564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声音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样子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340000" y="9795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隆隆的响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411280" y="16858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越来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2411280" y="24051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山崩地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7"/>
          <p:cNvSpPr/>
          <p:nvPr/>
        </p:nvSpPr>
        <p:spPr>
          <a:xfrm>
            <a:off x="3132000" y="1557360"/>
            <a:ext cx="216000" cy="217440"/>
          </a:xfrm>
          <a:prstGeom prst="downArrow">
            <a:avLst>
              <a:gd name="adj1" fmla="val 50000"/>
              <a:gd name="adj2" fmla="val 24938"/>
            </a:avLst>
          </a:pr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3132000" y="220680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9"/>
          <p:cNvSpPr/>
          <p:nvPr/>
        </p:nvSpPr>
        <p:spPr>
          <a:xfrm>
            <a:off x="2050920" y="1268280"/>
            <a:ext cx="360360" cy="144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520 h 1440000"/>
              <a:gd name="textAreaBottom" fmla="*/ 141048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08"/>
                  <a:pt x="10800" y="1415"/>
                </a:cubicBezTo>
                <a:lnTo>
                  <a:pt x="10800" y="9385"/>
                </a:lnTo>
                <a:cubicBezTo>
                  <a:pt x="10800" y="10093"/>
                  <a:pt x="5400" y="10800"/>
                  <a:pt x="0" y="10800"/>
                </a:cubicBezTo>
                <a:cubicBezTo>
                  <a:pt x="5400" y="10800"/>
                  <a:pt x="10800" y="11508"/>
                  <a:pt x="10800" y="12215"/>
                </a:cubicBezTo>
                <a:lnTo>
                  <a:pt x="10800" y="20185"/>
                </a:lnTo>
                <a:cubicBezTo>
                  <a:pt x="10800" y="20893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2195640" y="314172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一条白线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2268360" y="472428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横贯江面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2197080" y="551664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千万匹白色战马齐头并进  浩浩荡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2195640" y="39337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两丈多高的水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4"/>
          <p:cNvSpPr/>
          <p:nvPr/>
        </p:nvSpPr>
        <p:spPr>
          <a:xfrm>
            <a:off x="2987640" y="3646440"/>
            <a:ext cx="216000" cy="214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5"/>
          <p:cNvSpPr/>
          <p:nvPr/>
        </p:nvSpPr>
        <p:spPr>
          <a:xfrm>
            <a:off x="2987640" y="450864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6"/>
          <p:cNvSpPr/>
          <p:nvPr/>
        </p:nvSpPr>
        <p:spPr>
          <a:xfrm>
            <a:off x="2987640" y="5300640"/>
            <a:ext cx="21600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1835280" y="3430440"/>
            <a:ext cx="360360" cy="2303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47160 h 2303640"/>
              <a:gd name="textAreaBottom" fmla="*/ 225648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08"/>
                  <a:pt x="10800" y="1415"/>
                </a:cubicBezTo>
                <a:lnTo>
                  <a:pt x="10800" y="9385"/>
                </a:lnTo>
                <a:cubicBezTo>
                  <a:pt x="10800" y="10093"/>
                  <a:pt x="5400" y="10800"/>
                  <a:pt x="0" y="10800"/>
                </a:cubicBezTo>
                <a:cubicBezTo>
                  <a:pt x="5400" y="10800"/>
                  <a:pt x="10800" y="11508"/>
                  <a:pt x="10800" y="12215"/>
                </a:cubicBezTo>
                <a:lnTo>
                  <a:pt x="10800" y="20185"/>
                </a:lnTo>
                <a:cubicBezTo>
                  <a:pt x="10800" y="20893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5003640" y="1052640"/>
            <a:ext cx="37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默读，画出描写潮水样子和声音的词语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0" y="136440"/>
            <a:ext cx="9144000" cy="513288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我会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潮       称      盐      笼      罩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蒙      薄       雾      昂       沸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贯      旧      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34049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3"/>
          <p:cNvSpPr/>
          <p:nvPr/>
        </p:nvSpPr>
        <p:spPr>
          <a:xfrm>
            <a:off x="684360" y="7034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朗读感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585720" y="141768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从远处传来隆隆的响声，好像闷雷滚动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108000" y="471024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浪潮越来越近，犹如千万匹白色战马齐头并进，浩浩荡荡地飞奔而来；那声音如同山崩地裂，好像大地都被震得颤动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708360" y="27795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这两个都是什么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741240" y="3068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把什么比作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826920" y="22845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你感受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84360" y="3592440"/>
            <a:ext cx="54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气势雄伟  声势浩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20050901200441900448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3"/>
          <p:cNvSpPr/>
          <p:nvPr/>
        </p:nvSpPr>
        <p:spPr>
          <a:xfrm>
            <a:off x="1044720" y="22399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用自己的话说说潮来时的声音和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1044720" y="123336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指导有感情地朗读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2" dur="1" fill="hold"/>
                                  <p:tgtEl>
                                    <p:spTgt spid="3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15_25_106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3"/>
          <p:cNvSpPr/>
          <p:nvPr/>
        </p:nvSpPr>
        <p:spPr>
          <a:xfrm>
            <a:off x="2700360" y="47242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再说说你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539640" y="1268280"/>
            <a:ext cx="71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奇特  雄伟  壮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050822qjcwsk002"/>
          <p:cNvPicPr/>
          <p:nvPr/>
        </p:nvPicPr>
        <p:blipFill>
          <a:blip r:embed="rId1"/>
          <a:srcRect l="0" t="0" r="0" b="1309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3"/>
          <p:cNvSpPr/>
          <p:nvPr/>
        </p:nvSpPr>
        <p:spPr>
          <a:xfrm>
            <a:off x="422280" y="40464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潮来之时，声势浩大，潮过之后呢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900000" y="10047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霎时，潮头奔腾西去，可是余波还在漫天卷地般涌来，江面上依旧风号浪吼。过了好久，钱塘江才恢复了平静。看看堤下，江水已经涨了两丈来高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5"/>
          <p:cNvSpPr/>
          <p:nvPr/>
        </p:nvSpPr>
        <p:spPr>
          <a:xfrm>
            <a:off x="6013440" y="2698920"/>
            <a:ext cx="64764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430200" y="3213000"/>
            <a:ext cx="799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这里的“静”和潮来前的“静”一样吗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611280" y="40384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停息后是什么景象？说明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987640" y="480060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潮水大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4"/>
          <p:cNvSpPr/>
          <p:nvPr/>
        </p:nvSpPr>
        <p:spPr>
          <a:xfrm>
            <a:off x="1719360" y="2253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作者又是怎样表达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719360" y="938160"/>
            <a:ext cx="46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这篇课文主要写了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509760" y="167148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总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1743120" y="167148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钱塘江大潮是天下奇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1236600" y="292428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记叙了一次观潮的盛况，写的是作者耳闻目睹的潮来前、潮来时、潮头过后的景象，描写了大潮由远而近、奔腾西去的全过程，描绘出江潮由风平浪静到奔腾咆哮再到又恢复平静的动态变化，写出了大潮的奇特、雄伟、壮观。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9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4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7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3404983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3"/>
          <p:cNvSpPr/>
          <p:nvPr/>
        </p:nvSpPr>
        <p:spPr>
          <a:xfrm>
            <a:off x="108000" y="2286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总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403280" y="223992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潮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403280" y="333864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朝来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332000" y="42530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潮过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3348000" y="22399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笼罩薄雾  风平浪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>
            <a:off x="971640" y="2514600"/>
            <a:ext cx="215640" cy="2305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47160 h 2305080"/>
              <a:gd name="textAreaBottom" fmla="*/ 225792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08"/>
                  <a:pt x="10800" y="1415"/>
                </a:cubicBezTo>
                <a:lnTo>
                  <a:pt x="10800" y="9385"/>
                </a:lnTo>
                <a:cubicBezTo>
                  <a:pt x="10800" y="10093"/>
                  <a:pt x="5400" y="10800"/>
                  <a:pt x="0" y="10800"/>
                </a:cubicBezTo>
                <a:cubicBezTo>
                  <a:pt x="5400" y="10800"/>
                  <a:pt x="10800" y="11508"/>
                  <a:pt x="10800" y="12215"/>
                </a:cubicBezTo>
                <a:lnTo>
                  <a:pt x="10800" y="20185"/>
                </a:lnTo>
                <a:cubicBezTo>
                  <a:pt x="10800" y="20893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34920" y="29718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分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179280" y="53514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其中运用了恰当的比喻重点描写了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潮来之时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大潮的瞬息变化和雄伟气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3419640" y="3156120"/>
            <a:ext cx="41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远：声如闷雷  一条白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3348000" y="37958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近：白浪翻滚  山崩地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3"/>
          <p:cNvSpPr/>
          <p:nvPr/>
        </p:nvSpPr>
        <p:spPr>
          <a:xfrm>
            <a:off x="3132000" y="3338640"/>
            <a:ext cx="144720" cy="1009440"/>
          </a:xfrm>
          <a:custGeom>
            <a:avLst/>
            <a:gdLst>
              <a:gd name="textAreaLeft" fmla="*/ 92520 w 144720"/>
              <a:gd name="textAreaRight" fmla="*/ 145080 w 144720"/>
              <a:gd name="textAreaTop" fmla="*/ 20520 h 1009440"/>
              <a:gd name="textAreaBottom" fmla="*/ 988920 h 100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08"/>
                  <a:pt x="10800" y="1415"/>
                </a:cubicBezTo>
                <a:lnTo>
                  <a:pt x="10800" y="9385"/>
                </a:lnTo>
                <a:cubicBezTo>
                  <a:pt x="10800" y="10093"/>
                  <a:pt x="5400" y="10800"/>
                  <a:pt x="0" y="10800"/>
                </a:cubicBezTo>
                <a:cubicBezTo>
                  <a:pt x="5400" y="10800"/>
                  <a:pt x="10800" y="11508"/>
                  <a:pt x="10800" y="12215"/>
                </a:cubicBezTo>
                <a:lnTo>
                  <a:pt x="10800" y="20185"/>
                </a:lnTo>
                <a:cubicBezTo>
                  <a:pt x="10800" y="20893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3132000" y="4527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漫天卷地  风号浪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1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5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6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8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"/>
          <p:cNvSpPr/>
          <p:nvPr/>
        </p:nvSpPr>
        <p:spPr>
          <a:xfrm>
            <a:off x="395280" y="11984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全文贯穿着一个什么字来写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95280" y="1844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ff"/>
                </a:solidFill>
                <a:latin typeface="Arial"/>
                <a:ea typeface="黑体"/>
              </a:rPr>
              <a:t>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1835280" y="2276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奇在什么地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4788000" y="19908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特殊的地理位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7" descr="pic_114900"/>
          <p:cNvPicPr/>
          <p:nvPr/>
        </p:nvPicPr>
        <p:blipFill>
          <a:blip r:embed="rId2"/>
          <a:srcRect l="18233" t="55143" r="16736" b="16104"/>
          <a:stretch/>
        </p:blipFill>
        <p:spPr>
          <a:xfrm>
            <a:off x="4770360" y="766800"/>
            <a:ext cx="4373640" cy="43909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8"/>
          <p:cNvSpPr/>
          <p:nvPr/>
        </p:nvSpPr>
        <p:spPr>
          <a:xfrm>
            <a:off x="0" y="4162320"/>
            <a:ext cx="4390920" cy="886320"/>
          </a:xfrm>
          <a:prstGeom prst="rect">
            <a:avLst/>
          </a:prstGeom>
          <a:solidFill>
            <a:srgbClr val="e2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钱塘江口是喇叭形，外宽内窄，外深内浅，水底还有一道人们看不见的“沙坎”，迫使潮水上升，因此潮波传来，受到很大的约束，这是地理因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3708360" y="3790800"/>
            <a:ext cx="30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0" y="5373720"/>
            <a:ext cx="4390920" cy="459720"/>
          </a:xfrm>
          <a:prstGeom prst="rect">
            <a:avLst/>
          </a:prstGeom>
          <a:solidFill>
            <a:srgbClr val="e2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八月十八，太阳、地球、月亮三球的引力对涨潮影响最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4859280" y="2781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引力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4859280" y="357336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时间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0" y="4527720"/>
            <a:ext cx="4390920" cy="459720"/>
          </a:xfrm>
          <a:prstGeom prst="rect">
            <a:avLst/>
          </a:prstGeom>
          <a:solidFill>
            <a:srgbClr val="e2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八月中旬这段时间海面上常常刮东南风，所以潮波来势特别猛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4" descr=""/>
          <p:cNvPicPr/>
          <p:nvPr/>
        </p:nvPicPr>
        <p:blipFill>
          <a:blip r:embed="rId3"/>
          <a:srcRect l="0" t="0" r="18915" b="21902"/>
          <a:stretch/>
        </p:blipFill>
        <p:spPr>
          <a:xfrm>
            <a:off x="4716360" y="766800"/>
            <a:ext cx="4427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3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4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dur="indefinite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9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dur="indefinite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25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8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9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dur="indefinite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54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20050901200441900448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3"/>
          <p:cNvSpPr/>
          <p:nvPr/>
        </p:nvSpPr>
        <p:spPr>
          <a:xfrm>
            <a:off x="684360" y="1628640"/>
            <a:ext cx="57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钱塘江大潮，自古以来被称为天下奇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1619280" y="3062160"/>
            <a:ext cx="17305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692360" y="32148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什么叫“奇观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1908000" y="3860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雄伟壮观而又罕见的景象或出奇少见的事情。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250920" y="9079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感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200592110177168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"/>
          <p:cNvSpPr/>
          <p:nvPr/>
        </p:nvSpPr>
        <p:spPr>
          <a:xfrm>
            <a:off x="324000" y="97956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一线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3"/>
          <p:cNvSpPr/>
          <p:nvPr/>
        </p:nvSpPr>
        <p:spPr>
          <a:xfrm>
            <a:off x="755640" y="1268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交叉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94920" y="1483920"/>
            <a:ext cx="8497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</a:rPr>
              <a:t>观潮    宽阔   笼罩   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</a:rPr>
              <a:t>薄雾    依旧   恢复   灿烂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</a:rPr>
              <a:t>昂首东望     风平浪静 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</a:rPr>
              <a:t>水天相接     横贯江面 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7337520" y="1415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</a:rPr>
              <a:t>沸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图片3"/>
          <p:cNvPicPr/>
          <p:nvPr/>
        </p:nvPicPr>
        <p:blipFill>
          <a:blip r:embed="rId1"/>
          <a:stretch/>
        </p:blipFill>
        <p:spPr>
          <a:xfrm>
            <a:off x="0" y="333360"/>
            <a:ext cx="666720" cy="7509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380960" y="476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积累字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"/>
          <p:cNvSpPr/>
          <p:nvPr/>
        </p:nvSpPr>
        <p:spPr>
          <a:xfrm>
            <a:off x="866880" y="5626080"/>
            <a:ext cx="58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3"/>
          <p:cNvSpPr/>
          <p:nvPr/>
        </p:nvSpPr>
        <p:spPr>
          <a:xfrm>
            <a:off x="250920" y="105264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回头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总结全文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910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　　  </a:t>
            </a:r>
            <a:r>
              <a:rPr b="1" lang="zh-CN" sz="4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这篇课文作者按潮来前、潮来时、潮来后的顺序，通过写作者在观察时所听到的声音、看到的样子，以及人们的情绪变化，把钱塘江大潮壮观的场面展现在我们眼前，使人发自内心地感叹：钱塘江大潮不愧为</a:t>
            </a:r>
            <a:r>
              <a:rPr b="1" lang="zh-CN" sz="4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--</a:t>
            </a:r>
            <a:r>
              <a:rPr b="1" lang="zh-CN" sz="4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天下奇观。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9680" y="1001520"/>
            <a:ext cx="2087640" cy="101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Arial"/>
              </a:rPr>
              <a:t>潮来前 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7640" y="122400"/>
            <a:ext cx="899964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观潮的阶段       江面的变化      人们的反应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252360" y="2363760"/>
            <a:ext cx="686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潮来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潮来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2365200" y="138096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很平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5477040" y="1278000"/>
            <a:ext cx="23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盼望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2317680" y="244008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江面先出现了一条白线，接着浪潮越来越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5349960" y="270828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沸腾起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9"/>
          <p:cNvSpPr/>
          <p:nvPr/>
        </p:nvSpPr>
        <p:spPr>
          <a:xfrm>
            <a:off x="2411280" y="4370400"/>
            <a:ext cx="22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恢复平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4836960" y="4365720"/>
            <a:ext cx="30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情久久不能平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198360" y="836640"/>
            <a:ext cx="8747280" cy="180144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我来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让我们一起来想象“潮来前”“潮来时”“潮头过后”的景象，在交流读后的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3"/>
          <p:cNvSpPr/>
          <p:nvPr/>
        </p:nvSpPr>
        <p:spPr>
          <a:xfrm>
            <a:off x="11160" y="189000"/>
            <a:ext cx="9132840" cy="48909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的发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宽阔的钱塘江横卧在眼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这是拟人句，把钱塘江当成人来写，十分形象有趣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再近些，只见白浪翻滚，形成一堵两丈多高的水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这是比喻句，把水浪比作水墙，形象地突出水浪翻得很高的情景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浪潮越来越近，犹如千万匹白色战马齐头并进，浩浩荡荡地飞奔而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这是比喻句，把浪潮比作战马，形象地突出水浪奔流的速度很快，很迅猛的情景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45720"/>
            <a:ext cx="910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、在带点字的正确读音后面划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"√"</a:t>
            </a:r>
            <a:r>
              <a:rPr b="1" lang="zh-CN" sz="4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1" lang="zh-CN" sz="4800" spc="-1" strike="noStrike">
                <a:solidFill>
                  <a:srgbClr val="006666"/>
                </a:solidFill>
                <a:latin typeface="宋体"/>
              </a:rPr>
              <a:t>笼罩（</a:t>
            </a:r>
            <a:r>
              <a:rPr b="1" lang="zh-CN" sz="4800" spc="-1" strike="noStrike">
                <a:solidFill>
                  <a:srgbClr val="006666"/>
                </a:solidFill>
                <a:latin typeface="宋体"/>
              </a:rPr>
              <a:t>lóng lǒng</a:t>
            </a:r>
            <a:r>
              <a:rPr b="1" lang="zh-CN" sz="4800" spc="-1" strike="noStrike">
                <a:solidFill>
                  <a:srgbClr val="006666"/>
                </a:solidFill>
                <a:latin typeface="Arial"/>
              </a:rPr>
              <a:t>）　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6666"/>
                </a:solidFill>
                <a:latin typeface="宋体"/>
              </a:rPr>
              <a:t>薄雾（</a:t>
            </a:r>
            <a:r>
              <a:rPr b="1" lang="zh-CN" sz="4800" spc="-1" strike="noStrike">
                <a:solidFill>
                  <a:srgbClr val="006666"/>
                </a:solidFill>
                <a:latin typeface="宋体"/>
              </a:rPr>
              <a:t>bó báo</a:t>
            </a:r>
            <a:r>
              <a:rPr b="1" lang="zh-CN" sz="4800" spc="-1" strike="noStrike">
                <a:solidFill>
                  <a:srgbClr val="006666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1" lang="zh-CN" sz="4800" spc="-1" strike="noStrike">
                <a:solidFill>
                  <a:srgbClr val="006666"/>
                </a:solidFill>
                <a:latin typeface="宋体"/>
              </a:rPr>
              <a:t>余波（</a:t>
            </a:r>
            <a:r>
              <a:rPr b="1" lang="zh-CN" sz="4800" spc="-1" strike="noStrike">
                <a:solidFill>
                  <a:srgbClr val="006666"/>
                </a:solidFill>
                <a:latin typeface="宋体"/>
              </a:rPr>
              <a:t>bō pō</a:t>
            </a:r>
            <a:r>
              <a:rPr b="1" lang="zh-CN" sz="4800" spc="-1" strike="noStrike">
                <a:solidFill>
                  <a:srgbClr val="006666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66"/>
                </a:solidFill>
                <a:latin typeface="宋体"/>
              </a:rPr>
              <a:t>　风号浪吼（</a:t>
            </a:r>
            <a:r>
              <a:rPr b="1" lang="zh-CN" sz="4800" spc="-1" strike="noStrike">
                <a:solidFill>
                  <a:srgbClr val="006666"/>
                </a:solidFill>
                <a:latin typeface="宋体"/>
              </a:rPr>
              <a:t>háo hào</a:t>
            </a:r>
            <a:r>
              <a:rPr b="1" lang="zh-CN" sz="4800" spc="-1" strike="noStrike">
                <a:solidFill>
                  <a:srgbClr val="006666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2771640" y="31892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4643280" y="167796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5310360" y="3957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2771640" y="241920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图片25"/>
          <p:cNvPicPr/>
          <p:nvPr/>
        </p:nvPicPr>
        <p:blipFill>
          <a:blip r:embed="rId1"/>
          <a:stretch/>
        </p:blipFill>
        <p:spPr>
          <a:xfrm>
            <a:off x="6845400" y="5715000"/>
            <a:ext cx="2298600" cy="1143000"/>
          </a:xfrm>
          <a:prstGeom prst="rect">
            <a:avLst/>
          </a:prstGeom>
          <a:ln w="0">
            <a:noFill/>
          </a:ln>
        </p:spPr>
      </p:pic>
      <p:sp>
        <p:nvSpPr>
          <p:cNvPr id="380" name="Oval 9"/>
          <p:cNvSpPr/>
          <p:nvPr/>
        </p:nvSpPr>
        <p:spPr>
          <a:xfrm>
            <a:off x="1246320" y="2205000"/>
            <a:ext cx="21564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0"/>
          <p:cNvSpPr/>
          <p:nvPr/>
        </p:nvSpPr>
        <p:spPr>
          <a:xfrm>
            <a:off x="1336680" y="2990880"/>
            <a:ext cx="21600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11"/>
          <p:cNvSpPr/>
          <p:nvPr/>
        </p:nvSpPr>
        <p:spPr>
          <a:xfrm>
            <a:off x="1947960" y="3716280"/>
            <a:ext cx="145800" cy="146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2"/>
          <p:cNvSpPr/>
          <p:nvPr/>
        </p:nvSpPr>
        <p:spPr>
          <a:xfrm>
            <a:off x="1841400" y="4581360"/>
            <a:ext cx="21600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0" y="43920"/>
            <a:ext cx="9144000" cy="643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二、根据意思写词语。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66"/>
                </a:solidFill>
                <a:latin typeface="宋体"/>
              </a:rPr>
              <a:t>（</a:t>
            </a:r>
            <a:r>
              <a:rPr b="1" lang="zh-CN" sz="4800" spc="-1" strike="noStrike">
                <a:solidFill>
                  <a:srgbClr val="006666"/>
                </a:solidFill>
                <a:latin typeface="宋体"/>
              </a:rPr>
              <a:t>1</a:t>
            </a:r>
            <a:r>
              <a:rPr b="1" lang="zh-CN" sz="4800" spc="-1" strike="noStrike">
                <a:solidFill>
                  <a:srgbClr val="006666"/>
                </a:solidFill>
                <a:latin typeface="宋体"/>
              </a:rPr>
              <a:t>）形容聚集的人极多。（　   　）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66"/>
                </a:solidFill>
                <a:latin typeface="宋体"/>
              </a:rPr>
              <a:t>（</a:t>
            </a:r>
            <a:r>
              <a:rPr b="1" lang="zh-CN" sz="4800" spc="-1" strike="noStrike">
                <a:solidFill>
                  <a:srgbClr val="006666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006666"/>
                </a:solidFill>
                <a:latin typeface="宋体"/>
              </a:rPr>
              <a:t>）形容隐隐约约。　　（   　　）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66"/>
                </a:solidFill>
                <a:latin typeface="宋体"/>
              </a:rPr>
              <a:t>（</a:t>
            </a:r>
            <a:r>
              <a:rPr b="1" lang="zh-CN" sz="4800" spc="-1" strike="noStrike">
                <a:solidFill>
                  <a:srgbClr val="006666"/>
                </a:solidFill>
                <a:latin typeface="宋体"/>
              </a:rPr>
              <a:t>3</a:t>
            </a:r>
            <a:r>
              <a:rPr b="1" lang="zh-CN" sz="4800" spc="-1" strike="noStrike">
                <a:solidFill>
                  <a:srgbClr val="006666"/>
                </a:solidFill>
                <a:latin typeface="宋体"/>
              </a:rPr>
              <a:t>）没有风浪，比喻平静（　    　）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611280" y="12682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人山人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755640" y="254160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若隐若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839880" y="407664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风平浪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4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6352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三、比较词语填空。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3120" y="196920"/>
            <a:ext cx="9072360" cy="67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）奔腾　沸腾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只见水天相接的地方出现了一条白线，人群又（　　　）起来了。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霎时，潮头（　　　）西去，可是余波还在漫天卷地地涌来。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）恢复　重复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这个动作，他掌握不好，（　　　）几十次以后，终于成功地完成了。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掌声雷动，过了好久，剧场才（　　　）平静。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）观赏　欣赏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妈妈站在花坛边，（　　　）着盛开的牡丹。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我们到音乐厅（        ）音乐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2987640" y="32097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观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3952800" y="176364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重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2195640" y="90792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奔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6732720" y="501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沸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4645080" y="2411280"/>
            <a:ext cx="10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恢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2581200" y="3778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25092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65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6666"/>
                </a:solidFill>
                <a:latin typeface="Arial"/>
              </a:rPr>
              <a:t>四、写近意词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  <a:p>
            <a:pPr marL="339480" indent="-33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zh-CN" sz="6600" spc="-1" strike="noStrike">
                <a:solidFill>
                  <a:srgbClr val="006666"/>
                </a:solidFill>
                <a:latin typeface="Arial"/>
              </a:rPr>
              <a:t>霎时（　　）　　    昂首（　    ）　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  <a:p>
            <a:pPr marL="339480" indent="-3394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zh-CN" sz="6600" spc="-1" strike="noStrike">
                <a:solidFill>
                  <a:srgbClr val="006666"/>
                </a:solidFill>
                <a:latin typeface="Arial"/>
              </a:rPr>
              <a:t>笼罩（　　）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0" y="47628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五、根据课文内容填空。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潮来了，作者先听见远处传来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_______________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，好像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_______________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。过了一会儿，浪潮越来越近了，那声音如同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_______________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，好像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_______________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。当潮头奔腾西去后，江面依旧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______________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94920" y="1125360"/>
            <a:ext cx="7921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66"/>
                </a:solidFill>
                <a:latin typeface="Arial"/>
              </a:rPr>
              <a:t>大堤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66"/>
                </a:solidFill>
                <a:latin typeface="Arial"/>
              </a:rPr>
              <a:t>屹       立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66"/>
                </a:solidFill>
                <a:latin typeface="Arial"/>
              </a:rPr>
              <a:t>浩            浩荡荡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66"/>
                </a:solidFill>
                <a:latin typeface="Arial"/>
              </a:rPr>
              <a:t>山崩              地裂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124000" y="981000"/>
            <a:ext cx="23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dī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900000" y="2133720"/>
            <a:ext cx="175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ì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009800" y="3289320"/>
            <a:ext cx="251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050920" y="4437000"/>
            <a:ext cx="302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bēng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图片3"/>
          <p:cNvPicPr/>
          <p:nvPr/>
        </p:nvPicPr>
        <p:blipFill>
          <a:blip r:embed="rId1"/>
          <a:stretch/>
        </p:blipFill>
        <p:spPr>
          <a:xfrm>
            <a:off x="250920" y="189000"/>
            <a:ext cx="914400" cy="7524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8"/>
          <p:cNvSpPr/>
          <p:nvPr/>
        </p:nvSpPr>
        <p:spPr>
          <a:xfrm>
            <a:off x="1939320" y="34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读准字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使用规范说明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7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7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7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7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7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7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7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7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7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7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7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7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7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7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6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6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7A50-22EB-41C4-9F20-8731D2A071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11"/>
          <p:cNvSpPr/>
          <p:nvPr/>
        </p:nvSpPr>
        <p:spPr>
          <a:xfrm>
            <a:off x="1015920" y="215892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" y="-360"/>
            <a:ext cx="397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</a:rPr>
              <a:t>近义词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96720" y="1601640"/>
            <a:ext cx="6010560" cy="17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屹立</a:t>
            </a:r>
            <a:r>
              <a:rPr b="1" lang="zh-CN" sz="5400" spc="-1" strike="noStrike">
                <a:solidFill>
                  <a:srgbClr val="006666"/>
                </a:solidFill>
                <a:latin typeface="Arial"/>
              </a:rPr>
              <a:t>——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  <a:p>
            <a:pPr marL="147240" indent="-1472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笼罩</a:t>
            </a:r>
            <a:r>
              <a:rPr b="1" lang="zh-CN" sz="5400" spc="-1" strike="noStrike">
                <a:solidFill>
                  <a:srgbClr val="006666"/>
                </a:solidFill>
                <a:latin typeface="Arial"/>
              </a:rPr>
              <a:t>——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  <a:p>
            <a:pPr marL="147240" indent="-1472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昂首</a:t>
            </a:r>
            <a:r>
              <a:rPr b="1" lang="zh-CN" sz="5400" spc="-1" strike="noStrike">
                <a:solidFill>
                  <a:srgbClr val="006666"/>
                </a:solidFill>
                <a:latin typeface="Arial"/>
              </a:rPr>
              <a:t>——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  <a:p>
            <a:pPr marL="147240" indent="-1472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顿时</a:t>
            </a:r>
            <a:r>
              <a:rPr b="1" lang="zh-CN" sz="5400" spc="-1" strike="noStrike">
                <a:solidFill>
                  <a:srgbClr val="006666"/>
                </a:solidFill>
                <a:latin typeface="Arial"/>
              </a:rPr>
              <a:t>——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3395520" y="1701720"/>
            <a:ext cx="187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耸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395520" y="270828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掩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522600" y="373392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翘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3554280" y="471024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立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图27"/>
          <p:cNvPicPr/>
          <p:nvPr/>
        </p:nvPicPr>
        <p:blipFill>
          <a:blip r:embed="rId1"/>
          <a:stretch/>
        </p:blipFill>
        <p:spPr>
          <a:xfrm>
            <a:off x="5486400" y="3733920"/>
            <a:ext cx="3100320" cy="195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图27"/>
          <p:cNvPicPr/>
          <p:nvPr/>
        </p:nvPicPr>
        <p:blipFill>
          <a:blip r:embed="rId1"/>
          <a:stretch/>
        </p:blipFill>
        <p:spPr>
          <a:xfrm>
            <a:off x="6043680" y="4903920"/>
            <a:ext cx="3100320" cy="19540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4354560" y="411336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鸦雀无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8000" y="-33840"/>
            <a:ext cx="317808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</a:rPr>
              <a:t>反义词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33280" y="1001880"/>
            <a:ext cx="7342200" cy="39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66"/>
                </a:solidFill>
                <a:latin typeface="Arial"/>
                <a:ea typeface="微软雅黑"/>
              </a:rPr>
              <a:t>宽阔 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66"/>
                </a:solidFill>
                <a:latin typeface="Arial"/>
                <a:ea typeface="微软雅黑"/>
              </a:rPr>
              <a:t>风平浪静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66"/>
                </a:solidFill>
                <a:latin typeface="Arial"/>
                <a:ea typeface="微软雅黑"/>
              </a:rPr>
              <a:t>人山人海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66"/>
                </a:solidFill>
                <a:latin typeface="Arial"/>
                <a:ea typeface="微软雅黑"/>
              </a:rPr>
              <a:t>人声鼎沸—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3546360" y="96840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狭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332240" y="210672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波涛汹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4365720" y="3141720"/>
            <a:ext cx="37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寥寥无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367992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特殊结构的词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977840" y="3860640"/>
            <a:ext cx="3889080" cy="18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若隐若现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浩浩荡荡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042920" y="1052640"/>
            <a:ext cx="331164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人山人海    多才多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碍手碍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003640" y="1127160"/>
            <a:ext cx="381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漂漂亮亮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破破烂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平平安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图27"/>
          <p:cNvPicPr/>
          <p:nvPr/>
        </p:nvPicPr>
        <p:blipFill>
          <a:blip r:embed="rId1"/>
          <a:stretch/>
        </p:blipFill>
        <p:spPr>
          <a:xfrm>
            <a:off x="5867280" y="4497480"/>
            <a:ext cx="3100680" cy="19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1873080" cy="273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四字词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627280" y="836640"/>
            <a:ext cx="37432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昂首东望    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风平浪静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水天相接    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横贯江面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齐头并进    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漫天卷地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3" name="Picture 4" descr="图27"/>
          <p:cNvPicPr/>
          <p:nvPr/>
        </p:nvPicPr>
        <p:blipFill>
          <a:blip r:embed="rId1"/>
          <a:stretch/>
        </p:blipFill>
        <p:spPr>
          <a:xfrm>
            <a:off x="6043680" y="4903920"/>
            <a:ext cx="3100320" cy="1954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图片17"/>
          <p:cNvPicPr/>
          <p:nvPr/>
        </p:nvPicPr>
        <p:blipFill>
          <a:blip r:embed="rId2"/>
          <a:stretch/>
        </p:blipFill>
        <p:spPr>
          <a:xfrm>
            <a:off x="0" y="0"/>
            <a:ext cx="2025720" cy="18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0" y="189000"/>
            <a:ext cx="9144000" cy="20466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课堂小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看拼音，写生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án              zhào     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guàn     huī           á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官镇    笼（   ）  （   ）雾    横（    ） （    ）复    （    ）首东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440" y="4181400"/>
            <a:ext cx="9144000" cy="120276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比一比，在组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潮（       ）    昂（       ）    沸（      ）     恢（      ）    蒙（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朝（       ）    迎（       ）    佛（      ）     灰（      ）    家（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179280" y="4710240"/>
            <a:ext cx="108000" cy="647640"/>
          </a:xfrm>
          <a:custGeom>
            <a:avLst/>
            <a:gdLst>
              <a:gd name="textAreaLeft" fmla="*/ 69120 w 108000"/>
              <a:gd name="textAreaRight" fmla="*/ 108360 w 108000"/>
              <a:gd name="textAreaTop" fmla="*/ 12960 h 647640"/>
              <a:gd name="textAreaBottom" fmla="*/ 6346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08"/>
                  <a:pt x="10800" y="1415"/>
                </a:cubicBezTo>
                <a:lnTo>
                  <a:pt x="10800" y="9385"/>
                </a:lnTo>
                <a:cubicBezTo>
                  <a:pt x="10800" y="10093"/>
                  <a:pt x="5400" y="10800"/>
                  <a:pt x="0" y="10800"/>
                </a:cubicBezTo>
                <a:cubicBezTo>
                  <a:pt x="5400" y="10800"/>
                  <a:pt x="10800" y="11508"/>
                  <a:pt x="10800" y="12215"/>
                </a:cubicBezTo>
                <a:lnTo>
                  <a:pt x="10800" y="20185"/>
                </a:lnTo>
                <a:cubicBezTo>
                  <a:pt x="10800" y="208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1547640" y="4710240"/>
            <a:ext cx="108000" cy="647640"/>
          </a:xfrm>
          <a:custGeom>
            <a:avLst/>
            <a:gdLst>
              <a:gd name="textAreaLeft" fmla="*/ 69120 w 108000"/>
              <a:gd name="textAreaRight" fmla="*/ 108360 w 108000"/>
              <a:gd name="textAreaTop" fmla="*/ 12960 h 647640"/>
              <a:gd name="textAreaBottom" fmla="*/ 6346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08"/>
                  <a:pt x="10800" y="1415"/>
                </a:cubicBezTo>
                <a:lnTo>
                  <a:pt x="10800" y="9385"/>
                </a:lnTo>
                <a:cubicBezTo>
                  <a:pt x="10800" y="10093"/>
                  <a:pt x="5400" y="10800"/>
                  <a:pt x="0" y="10800"/>
                </a:cubicBezTo>
                <a:cubicBezTo>
                  <a:pt x="5400" y="10800"/>
                  <a:pt x="10800" y="11508"/>
                  <a:pt x="10800" y="12215"/>
                </a:cubicBezTo>
                <a:lnTo>
                  <a:pt x="10800" y="20185"/>
                </a:lnTo>
                <a:cubicBezTo>
                  <a:pt x="10800" y="208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5580000" y="4710240"/>
            <a:ext cx="108000" cy="647640"/>
          </a:xfrm>
          <a:custGeom>
            <a:avLst/>
            <a:gdLst>
              <a:gd name="textAreaLeft" fmla="*/ 69120 w 108000"/>
              <a:gd name="textAreaRight" fmla="*/ 108360 w 108000"/>
              <a:gd name="textAreaTop" fmla="*/ 12960 h 647640"/>
              <a:gd name="textAreaBottom" fmla="*/ 6346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08"/>
                  <a:pt x="10800" y="1415"/>
                </a:cubicBezTo>
                <a:lnTo>
                  <a:pt x="10800" y="9385"/>
                </a:lnTo>
                <a:cubicBezTo>
                  <a:pt x="10800" y="10093"/>
                  <a:pt x="5400" y="10800"/>
                  <a:pt x="0" y="10800"/>
                </a:cubicBezTo>
                <a:cubicBezTo>
                  <a:pt x="5400" y="10800"/>
                  <a:pt x="10800" y="11508"/>
                  <a:pt x="10800" y="12215"/>
                </a:cubicBezTo>
                <a:lnTo>
                  <a:pt x="10800" y="20185"/>
                </a:lnTo>
                <a:cubicBezTo>
                  <a:pt x="10800" y="208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4213080" y="4710240"/>
            <a:ext cx="108000" cy="645840"/>
          </a:xfrm>
          <a:custGeom>
            <a:avLst/>
            <a:gdLst>
              <a:gd name="textAreaLeft" fmla="*/ 69120 w 108000"/>
              <a:gd name="textAreaRight" fmla="*/ 108360 w 108000"/>
              <a:gd name="textAreaTop" fmla="*/ 12960 h 645840"/>
              <a:gd name="textAreaBottom" fmla="*/ 63288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08"/>
                  <a:pt x="10800" y="1415"/>
                </a:cubicBezTo>
                <a:lnTo>
                  <a:pt x="10800" y="9385"/>
                </a:lnTo>
                <a:cubicBezTo>
                  <a:pt x="10800" y="10093"/>
                  <a:pt x="5400" y="10800"/>
                  <a:pt x="0" y="10800"/>
                </a:cubicBezTo>
                <a:cubicBezTo>
                  <a:pt x="5400" y="10800"/>
                  <a:pt x="10800" y="11508"/>
                  <a:pt x="10800" y="12215"/>
                </a:cubicBezTo>
                <a:lnTo>
                  <a:pt x="10800" y="20185"/>
                </a:lnTo>
                <a:cubicBezTo>
                  <a:pt x="10800" y="208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2916360" y="4710240"/>
            <a:ext cx="108000" cy="647640"/>
          </a:xfrm>
          <a:custGeom>
            <a:avLst/>
            <a:gdLst>
              <a:gd name="textAreaLeft" fmla="*/ 69120 w 108000"/>
              <a:gd name="textAreaRight" fmla="*/ 108360 w 108000"/>
              <a:gd name="textAreaTop" fmla="*/ 12960 h 647640"/>
              <a:gd name="textAreaBottom" fmla="*/ 6346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08"/>
                  <a:pt x="10800" y="1415"/>
                </a:cubicBezTo>
                <a:lnTo>
                  <a:pt x="10800" y="9385"/>
                </a:lnTo>
                <a:cubicBezTo>
                  <a:pt x="10800" y="10093"/>
                  <a:pt x="5400" y="10800"/>
                  <a:pt x="0" y="10800"/>
                </a:cubicBezTo>
                <a:cubicBezTo>
                  <a:pt x="5400" y="10800"/>
                  <a:pt x="10800" y="11508"/>
                  <a:pt x="10800" y="12215"/>
                </a:cubicBezTo>
                <a:lnTo>
                  <a:pt x="10800" y="20185"/>
                </a:lnTo>
                <a:cubicBezTo>
                  <a:pt x="10800" y="208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8T03:0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4:42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