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CF01-D931-4B42-ADDB-184CD529CF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1F20-0067-4211-997D-40B2F5FC4A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60D-D5A5-457D-9095-580DB02E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059E-14B8-4806-A103-8A3B01E3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36F-D248-4FA3-AA2A-4D38019D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88F-81C4-4548-9BB6-0DC377BB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EDD-C2CA-4FC2-949B-A6DF6EEA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755-F413-4C65-B597-E161B2F3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90F-2E5F-4382-88F0-1F67B10B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E690-2213-4C24-B741-3FBFFE8F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6F4A-6A06-4D0E-BD8F-0670B18F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0B9C-8CA6-411F-B1AB-9D956195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4C53-5B40-4EEE-8764-6736A0EE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0FE0-5BFF-4F5C-9E38-D4331871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91FA-D7B8-4B58-AF52-4A04969BF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1585800" y="1413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.</a:t>
            </a:r>
            <a:r>
              <a:rPr b="1" lang="zh-CN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王的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504440" y="552456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第一封信：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高个子国王想叫胖国王送一只红眼睛的绿色兔子给他，如果没有的话，别的颜色也可以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第二封信：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胖国王想告诉高个子国王他没有这样的兔子，要是有的话，他一定奉送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、小组讨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如果生活中你遇到这样的事情会怎样做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总结全文，深刻故事蕴含的道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两个国王因为冲动，误解了对方的意思，后面打起仗来，弄得大家都不好过。所以我们以后遇到事情一定要平心静气、认真的思考、做事不要那么冲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五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拓展，联系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8720" y="141264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读了这惨痛的教训，相信我们每个人从中都受到了启发。同学们，你们学了课文明白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学生汇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是啊，与人相处一定要平心静气，把对方的意思弄清楚，避免痛苦与灾难。最后老师送给大家一句话：用平和的心态去处理事情，用宽容的胸怀去包容他人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六、当堂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把下列词语补充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尸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遍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流成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饱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患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无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可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平心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气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痛苦不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二、给下面的多音字注音，并组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调﹛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吓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CC46-069B-4921-9D75-09AE5ADF63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复习旧知，激趣导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揭示课题，学生读课题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学生质疑：读了课题，你想知道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复习一组词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尸横遍野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血流成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饱经患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痛苦不堪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二、初步感知课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多媒体播放课文朗读，学生初步感知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注意坐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有几个国王，他们长什么样，他们是什么关系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一共出现了几封信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2340000" y="18194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三、精析课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、学习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~4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指生读，然后解决问题：有 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国王，他们分别是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胖国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和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高个子国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，他们两个国家是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相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的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文章中提到了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封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第一封信是高个子国王写给胖国王的，想叫胖国王送一只红眼睛的绿色 兔子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第二封信是胖国王的回信，告诉高个子国王没有这样的兔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1692360" y="5084640"/>
            <a:ext cx="51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）胖国王收到高个子国王的信的时候，有怎样的反应？为什么会这样？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）高个子国王看到回信的时候，他的心情怎么样？说了什么话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）分角色朗读，读出两位国王当时的心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、学习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自然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他们都看过信最后结果怎么样？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他们两国打仗后产生了什么样的后果？最后怎么样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、学习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7~12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自然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两个国王最后搞清楚信的内容没有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他们为什么会有这样大的误会？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你能把这两封信真正的内容说清楚给大家听么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30T02:17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1:57Z</dcterms:modified>
  <cp:revision>2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