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6FC-A27D-46E6-B455-CF9828041F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4AAA-F4EE-4571-A115-B012680665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8EF-8DF9-4403-A678-D53E749C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594-91DE-45B2-B7C0-6CA6037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9C1-477E-4512-9813-7BF0BF5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6C6-91F8-4BD8-ABAE-B44AE5FD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D89-14B7-4107-A1DE-0BB2C3F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149-D40B-4EB3-9683-8E42A56D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37A-99FB-4CFE-BBC2-3C8DC6E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81E-BB5B-478F-9D7F-DC47B22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0C4-9245-4D19-8450-D5570C3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3EF-E28A-43CC-921D-F1732F8F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CC7-AB0D-4DCE-B3DD-57CED29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A59-1372-4A1C-B928-1967B44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351-BB89-4A6F-9217-4B75C85C7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12080" y="126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湘教版小学语文第五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98840" y="220500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6600"/>
                </a:solidFill>
                <a:latin typeface="华文隶书"/>
                <a:ea typeface="华文隶书"/>
              </a:rPr>
              <a:t>国王的信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5536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2685960"/>
            <a:ext cx="115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8000" y="1900080"/>
            <a:ext cx="20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宋体"/>
              </a:rPr>
              <a:t>nà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71640" y="3219480"/>
            <a:ext cx="20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新宋体"/>
                <a:ea typeface="新宋体"/>
              </a:rPr>
              <a:t>ná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087640" y="1749600"/>
            <a:ext cx="2376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患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050920" y="2990880"/>
            <a:ext cx="237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困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900000" y="2476440"/>
            <a:ext cx="144720" cy="1513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176720" y="2532240"/>
            <a:ext cx="115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292720" y="1701720"/>
            <a:ext cx="20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新宋体"/>
                <a:ea typeface="新宋体"/>
              </a:rPr>
              <a:t>xi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364000" y="3219480"/>
            <a:ext cx="20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新宋体"/>
                <a:ea typeface="新宋体"/>
              </a:rPr>
              <a:t>h</a:t>
            </a:r>
            <a:r>
              <a:rPr b="1" lang="en-US" sz="5500" spc="-1" strike="noStrike">
                <a:solidFill>
                  <a:srgbClr val="333399"/>
                </a:solidFill>
                <a:latin typeface="Arial"/>
              </a:rPr>
              <a:t>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588000" y="3068640"/>
            <a:ext cx="237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威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588000" y="1484280"/>
            <a:ext cx="237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333399"/>
                </a:solidFill>
                <a:latin typeface="Arial"/>
                <a:ea typeface="楷体"/>
              </a:rPr>
              <a:t>惊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5076720" y="2278080"/>
            <a:ext cx="144720" cy="151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501480" y="5118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50920" y="504720"/>
            <a:ext cx="864072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邻   彼此   调集   打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尸横遍野 血流成河 痛苦不堪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士   厌倦   战争   相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   威</a:t>
            </a:r>
            <a:r>
              <a:rPr b="0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吓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可惜   奉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   议和   患</a:t>
            </a:r>
            <a:r>
              <a:rPr b="0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话可说     平心静气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2E7A-733C-47E1-A67E-4A644475C0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390760" y="1214280"/>
            <a:ext cx="3228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默读课文，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两个国王看过对方的信后有什么反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请画出两个国王信的内容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是什么原因让两个国家打起仗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999440" y="1052640"/>
            <a:ext cx="4478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读一读，体会人物说话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别念了！”胖国王猛地从睡椅上跳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来说，“要不然，要不然怎样？真不讲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看到这里，高个子国王一拍桌子，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要是有的话，也不送给你，是吧？太瞧不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人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2590920" y="1143000"/>
            <a:ext cx="2819160" cy="1371600"/>
          </a:xfrm>
          <a:prstGeom prst="cloudCallout">
            <a:avLst>
              <a:gd name="adj1" fmla="val -60023"/>
              <a:gd name="adj2" fmla="val 67708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38920" y="1600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个子国王的来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51320" y="3429000"/>
            <a:ext cx="17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请送给我一只红眼睛的绿色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要不然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922040" y="50292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你能根据上下文，把高个子国王的信补充完整吗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宫殿"/>
          <p:cNvPicPr/>
          <p:nvPr/>
        </p:nvPicPr>
        <p:blipFill>
          <a:blip r:embed="rId1"/>
          <a:stretch/>
        </p:blipFill>
        <p:spPr>
          <a:xfrm>
            <a:off x="5477040" y="762120"/>
            <a:ext cx="219528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590920" y="1143000"/>
            <a:ext cx="2819160" cy="1371600"/>
          </a:xfrm>
          <a:prstGeom prst="cloudCallout">
            <a:avLst>
              <a:gd name="adj1" fmla="val -60023"/>
              <a:gd name="adj2" fmla="val 67708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38920" y="1600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个子国王的来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92000" y="3429000"/>
            <a:ext cx="170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请送给我一只红眼睛的绿色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要不然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他颜色的兔子也可以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宫殿"/>
          <p:cNvPicPr/>
          <p:nvPr/>
        </p:nvPicPr>
        <p:blipFill>
          <a:blip r:embed="rId1"/>
          <a:stretch/>
        </p:blipFill>
        <p:spPr>
          <a:xfrm>
            <a:off x="5477040" y="762120"/>
            <a:ext cx="219528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1855800" y="3573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宫殿3"/>
          <p:cNvPicPr/>
          <p:nvPr/>
        </p:nvPicPr>
        <p:blipFill>
          <a:blip r:embed="rId1"/>
          <a:stretch/>
        </p:blipFill>
        <p:spPr>
          <a:xfrm>
            <a:off x="5257800" y="762120"/>
            <a:ext cx="2492280" cy="15922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2590920" y="1143000"/>
            <a:ext cx="2819160" cy="1371600"/>
          </a:xfrm>
          <a:prstGeom prst="cloudCallout">
            <a:avLst>
              <a:gd name="adj1" fmla="val -60023"/>
              <a:gd name="adj2" fmla="val 67708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7896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胖国王的来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02440" y="3429000"/>
            <a:ext cx="44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我没有这样的兔子，要是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话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800000" y="502920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你能根据上下文，把胖国王的信补充完整吗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宫殿3"/>
          <p:cNvPicPr/>
          <p:nvPr/>
        </p:nvPicPr>
        <p:blipFill>
          <a:blip r:embed="rId1"/>
          <a:stretch/>
        </p:blipFill>
        <p:spPr>
          <a:xfrm>
            <a:off x="5257800" y="762120"/>
            <a:ext cx="2492280" cy="15922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3"/>
          <p:cNvSpPr/>
          <p:nvPr/>
        </p:nvSpPr>
        <p:spPr>
          <a:xfrm>
            <a:off x="2590920" y="1143000"/>
            <a:ext cx="2819160" cy="1371600"/>
          </a:xfrm>
          <a:prstGeom prst="cloudCallout">
            <a:avLst>
              <a:gd name="adj1" fmla="val -60023"/>
              <a:gd name="adj2" fmla="val 67708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7896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胖国王的来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02440" y="3429000"/>
            <a:ext cx="44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我没有这样的兔子，要是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话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一定奉送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6640" y="1716120"/>
            <a:ext cx="46792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议  一  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从这个故事中你明白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7236000" y="404640"/>
            <a:ext cx="1295280" cy="1320840"/>
            <a:chOff x="7236000" y="404640"/>
            <a:chExt cx="1295280" cy="1320840"/>
          </a:xfrm>
        </p:grpSpPr>
        <p:pic>
          <p:nvPicPr>
            <p:cNvPr id="74" name="Picture 3" descr="田字格2"/>
            <p:cNvPicPr/>
            <p:nvPr/>
          </p:nvPicPr>
          <p:blipFill>
            <a:blip r:embed="rId1"/>
            <a:stretch/>
          </p:blipFill>
          <p:spPr>
            <a:xfrm>
              <a:off x="7236000" y="455400"/>
              <a:ext cx="1295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4"/>
            <p:cNvSpPr/>
            <p:nvPr/>
          </p:nvSpPr>
          <p:spPr>
            <a:xfrm>
              <a:off x="7520400" y="404640"/>
              <a:ext cx="7444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尸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"/>
          <p:cNvGrpSpPr/>
          <p:nvPr/>
        </p:nvGrpSpPr>
        <p:grpSpPr>
          <a:xfrm>
            <a:off x="533520" y="2133720"/>
            <a:ext cx="1317600" cy="1373040"/>
            <a:chOff x="533520" y="2133720"/>
            <a:chExt cx="1317600" cy="1373040"/>
          </a:xfrm>
        </p:grpSpPr>
        <p:pic>
          <p:nvPicPr>
            <p:cNvPr id="77" name="Picture 6" descr="田字格2"/>
            <p:cNvPicPr/>
            <p:nvPr/>
          </p:nvPicPr>
          <p:blipFill>
            <a:blip r:embed="rId2"/>
            <a:stretch/>
          </p:blipFill>
          <p:spPr>
            <a:xfrm>
              <a:off x="533520" y="2133720"/>
              <a:ext cx="129528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7"/>
            <p:cNvSpPr/>
            <p:nvPr/>
          </p:nvSpPr>
          <p:spPr>
            <a:xfrm>
              <a:off x="625320" y="213804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横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8"/>
          <p:cNvGrpSpPr/>
          <p:nvPr/>
        </p:nvGrpSpPr>
        <p:grpSpPr>
          <a:xfrm>
            <a:off x="2971800" y="2133720"/>
            <a:ext cx="1317600" cy="1373040"/>
            <a:chOff x="2971800" y="2133720"/>
            <a:chExt cx="1317600" cy="1373040"/>
          </a:xfrm>
        </p:grpSpPr>
        <p:pic>
          <p:nvPicPr>
            <p:cNvPr id="80" name="Picture 9" descr="田字格2"/>
            <p:cNvPicPr/>
            <p:nvPr/>
          </p:nvPicPr>
          <p:blipFill>
            <a:blip r:embed="rId3"/>
            <a:stretch/>
          </p:blipFill>
          <p:spPr>
            <a:xfrm>
              <a:off x="2971800" y="2133720"/>
              <a:ext cx="129528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0"/>
            <p:cNvSpPr/>
            <p:nvPr/>
          </p:nvSpPr>
          <p:spPr>
            <a:xfrm>
              <a:off x="3063600" y="213804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血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"/>
          <p:cNvGrpSpPr/>
          <p:nvPr/>
        </p:nvGrpSpPr>
        <p:grpSpPr>
          <a:xfrm>
            <a:off x="568440" y="4221000"/>
            <a:ext cx="1317600" cy="1373400"/>
            <a:chOff x="568440" y="4221000"/>
            <a:chExt cx="1317600" cy="1373400"/>
          </a:xfrm>
        </p:grpSpPr>
        <p:pic>
          <p:nvPicPr>
            <p:cNvPr id="83" name="Picture 12" descr="田字格2"/>
            <p:cNvPicPr/>
            <p:nvPr/>
          </p:nvPicPr>
          <p:blipFill>
            <a:blip r:embed="rId4"/>
            <a:stretch/>
          </p:blipFill>
          <p:spPr>
            <a:xfrm>
              <a:off x="568440" y="4221000"/>
              <a:ext cx="129528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3"/>
            <p:cNvSpPr/>
            <p:nvPr/>
          </p:nvSpPr>
          <p:spPr>
            <a:xfrm>
              <a:off x="660240" y="422568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解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2916360" y="4221000"/>
            <a:ext cx="1317600" cy="1373400"/>
            <a:chOff x="2916360" y="4221000"/>
            <a:chExt cx="1317600" cy="1373400"/>
          </a:xfrm>
        </p:grpSpPr>
        <p:pic>
          <p:nvPicPr>
            <p:cNvPr id="86" name="Picture 15" descr="田字格2"/>
            <p:cNvPicPr/>
            <p:nvPr/>
          </p:nvPicPr>
          <p:blipFill>
            <a:blip r:embed="rId5"/>
            <a:stretch/>
          </p:blipFill>
          <p:spPr>
            <a:xfrm>
              <a:off x="2916360" y="4221000"/>
              <a:ext cx="129528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6"/>
            <p:cNvSpPr/>
            <p:nvPr/>
          </p:nvSpPr>
          <p:spPr>
            <a:xfrm>
              <a:off x="3008160" y="422568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释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7"/>
          <p:cNvGrpSpPr/>
          <p:nvPr/>
        </p:nvGrpSpPr>
        <p:grpSpPr>
          <a:xfrm>
            <a:off x="5118120" y="2154240"/>
            <a:ext cx="1317600" cy="1373040"/>
            <a:chOff x="5118120" y="2154240"/>
            <a:chExt cx="1317600" cy="1373040"/>
          </a:xfrm>
        </p:grpSpPr>
        <p:pic>
          <p:nvPicPr>
            <p:cNvPr id="89" name="Picture 18" descr="田字格2"/>
            <p:cNvPicPr/>
            <p:nvPr/>
          </p:nvPicPr>
          <p:blipFill>
            <a:blip r:embed="rId6"/>
            <a:stretch/>
          </p:blipFill>
          <p:spPr>
            <a:xfrm>
              <a:off x="5118120" y="2154240"/>
              <a:ext cx="129528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9"/>
            <p:cNvSpPr/>
            <p:nvPr/>
          </p:nvSpPr>
          <p:spPr>
            <a:xfrm>
              <a:off x="5209920" y="215856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兵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"/>
          <p:cNvGrpSpPr/>
          <p:nvPr/>
        </p:nvGrpSpPr>
        <p:grpSpPr>
          <a:xfrm>
            <a:off x="5181480" y="457200"/>
            <a:ext cx="1317600" cy="1373040"/>
            <a:chOff x="5181480" y="457200"/>
            <a:chExt cx="1317600" cy="1373040"/>
          </a:xfrm>
        </p:grpSpPr>
        <p:pic>
          <p:nvPicPr>
            <p:cNvPr id="92" name="Picture 21" descr="田字格2"/>
            <p:cNvPicPr/>
            <p:nvPr/>
          </p:nvPicPr>
          <p:blipFill>
            <a:blip r:embed="rId7"/>
            <a:stretch/>
          </p:blipFill>
          <p:spPr>
            <a:xfrm>
              <a:off x="5181480" y="457200"/>
              <a:ext cx="129528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2"/>
            <p:cNvSpPr/>
            <p:nvPr/>
          </p:nvSpPr>
          <p:spPr>
            <a:xfrm>
              <a:off x="5273280" y="46152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仗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5148360" y="4221000"/>
            <a:ext cx="1317600" cy="1373400"/>
            <a:chOff x="5148360" y="4221000"/>
            <a:chExt cx="1317600" cy="1373400"/>
          </a:xfrm>
        </p:grpSpPr>
        <p:pic>
          <p:nvPicPr>
            <p:cNvPr id="95" name="Picture 24" descr="田字格2"/>
            <p:cNvPicPr/>
            <p:nvPr/>
          </p:nvPicPr>
          <p:blipFill>
            <a:blip r:embed="rId8"/>
            <a:stretch/>
          </p:blipFill>
          <p:spPr>
            <a:xfrm>
              <a:off x="5148360" y="4221000"/>
              <a:ext cx="129528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25"/>
            <p:cNvSpPr/>
            <p:nvPr/>
          </p:nvSpPr>
          <p:spPr>
            <a:xfrm>
              <a:off x="5240160" y="422568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惜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7207200" y="2149560"/>
            <a:ext cx="1317600" cy="1373040"/>
            <a:chOff x="7207200" y="2149560"/>
            <a:chExt cx="1317600" cy="1373040"/>
          </a:xfrm>
        </p:grpSpPr>
        <p:pic>
          <p:nvPicPr>
            <p:cNvPr id="98" name="Picture 27" descr="田字格2"/>
            <p:cNvPicPr/>
            <p:nvPr/>
          </p:nvPicPr>
          <p:blipFill>
            <a:blip r:embed="rId9"/>
            <a:stretch/>
          </p:blipFill>
          <p:spPr>
            <a:xfrm>
              <a:off x="7207200" y="2149560"/>
              <a:ext cx="129528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8"/>
            <p:cNvSpPr/>
            <p:nvPr/>
          </p:nvSpPr>
          <p:spPr>
            <a:xfrm>
              <a:off x="7299000" y="215388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战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9"/>
          <p:cNvGrpSpPr/>
          <p:nvPr/>
        </p:nvGrpSpPr>
        <p:grpSpPr>
          <a:xfrm>
            <a:off x="7207200" y="4221000"/>
            <a:ext cx="1317600" cy="1373400"/>
            <a:chOff x="7207200" y="4221000"/>
            <a:chExt cx="1317600" cy="1373400"/>
          </a:xfrm>
        </p:grpSpPr>
        <p:pic>
          <p:nvPicPr>
            <p:cNvPr id="101" name="Picture 30" descr="田字格2"/>
            <p:cNvPicPr/>
            <p:nvPr/>
          </p:nvPicPr>
          <p:blipFill>
            <a:blip r:embed="rId10"/>
            <a:stretch/>
          </p:blipFill>
          <p:spPr>
            <a:xfrm>
              <a:off x="7207200" y="4221000"/>
              <a:ext cx="129528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1"/>
            <p:cNvSpPr/>
            <p:nvPr/>
          </p:nvSpPr>
          <p:spPr>
            <a:xfrm>
              <a:off x="7299000" y="4225680"/>
              <a:ext cx="12258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封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2"/>
          <p:cNvGrpSpPr/>
          <p:nvPr/>
        </p:nvGrpSpPr>
        <p:grpSpPr>
          <a:xfrm>
            <a:off x="2916360" y="404640"/>
            <a:ext cx="1295280" cy="1316160"/>
            <a:chOff x="2916360" y="404640"/>
            <a:chExt cx="1295280" cy="1316160"/>
          </a:xfrm>
        </p:grpSpPr>
        <p:pic>
          <p:nvPicPr>
            <p:cNvPr id="104" name="Picture 33" descr="田字格2"/>
            <p:cNvPicPr/>
            <p:nvPr/>
          </p:nvPicPr>
          <p:blipFill>
            <a:blip r:embed="rId11"/>
            <a:stretch/>
          </p:blipFill>
          <p:spPr>
            <a:xfrm>
              <a:off x="2916360" y="450720"/>
              <a:ext cx="1295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4"/>
            <p:cNvSpPr/>
            <p:nvPr/>
          </p:nvSpPr>
          <p:spPr>
            <a:xfrm>
              <a:off x="3196440" y="404640"/>
              <a:ext cx="7444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调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539640" y="404640"/>
            <a:ext cx="1325520" cy="1373400"/>
            <a:chOff x="539640" y="404640"/>
            <a:chExt cx="1325520" cy="1373400"/>
          </a:xfrm>
        </p:grpSpPr>
        <p:pic>
          <p:nvPicPr>
            <p:cNvPr id="107" name="Picture 36" descr="田字格2"/>
            <p:cNvPicPr/>
            <p:nvPr/>
          </p:nvPicPr>
          <p:blipFill>
            <a:blip r:embed="rId12"/>
            <a:stretch/>
          </p:blipFill>
          <p:spPr>
            <a:xfrm>
              <a:off x="539640" y="404640"/>
              <a:ext cx="129564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37"/>
            <p:cNvSpPr/>
            <p:nvPr/>
          </p:nvSpPr>
          <p:spPr>
            <a:xfrm>
              <a:off x="639720" y="404640"/>
              <a:ext cx="122544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400" spc="-1" strike="noStrike">
                  <a:solidFill>
                    <a:srgbClr val="ff0000"/>
                  </a:solidFill>
                  <a:latin typeface="Arial"/>
                  <a:ea typeface="楷体"/>
                </a:rPr>
                <a:t>彼</a:t>
              </a: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4:55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52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