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0B61C-AFF8-4AC3-9E67-8A7838C153F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2739F-25D3-40CE-879A-54025E78419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ED3E-6DAE-44DF-99CD-E40E19F9E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646E-85FF-419E-AA07-24A33D67C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403A-FFBE-4250-8DCF-1424B3F4A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9F6D-C07E-41F4-AE3C-BE2B118AB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6F23-E584-4840-BB84-A88EEB074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020B-CD8E-4968-B54F-D361F023A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3E56-5383-43E9-B32A-C9A3F5292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E8A4-C969-4500-BA89-EE0BD58C3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738D-5704-42FB-B1AF-C4B8C78C3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6936-8DD9-4C7C-8435-8DB60B6B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CD2A-7DE5-439B-B63A-D1C8F702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A035-A146-48F9-B157-636A61E0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C213B-A248-4FDF-A2A6-7EB2075C87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332000" y="1197000"/>
            <a:ext cx="619272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中宋"/>
              </a:rPr>
              <a:t>故乡的风景</a:t>
            </a:r>
            <a:endParaRPr b="1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1827000" y="55897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7030a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0" y="404640"/>
            <a:ext cx="9144000" cy="60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教学目标：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知识与技能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学习本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个生字，并能正确书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正确、流利、有感情地朗读课文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理解课文内容，体会作者的感情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过程与方法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通过自读自悟，小组交流探究的方法解决学习中的问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以课文为基础，结合生活实际进行思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情感态度与价值观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 通过学习课文，激发学生热爱祖国、热爱家乡的思想感情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学习小曦美好的心灵，学会替他人着想。增强热爱大自然，保护大自然的意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3"/>
          <p:cNvSpPr/>
          <p:nvPr/>
        </p:nvSpPr>
        <p:spPr>
          <a:xfrm>
            <a:off x="3780000" y="573264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出示生字词：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 l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í  )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开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hī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明      到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àn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晚        沿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途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  电视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ji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                清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h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2"/>
          <p:cNvSpPr txBox="1"/>
          <p:nvPr/>
        </p:nvSpPr>
        <p:spPr>
          <a:xfrm>
            <a:off x="539640" y="549360"/>
            <a:ext cx="612000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轻声朗读课文，思考：</a:t>
            </a:r>
            <a:endParaRPr b="0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560" y="1773000"/>
            <a:ext cx="843588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爷爷向小曦描述了家乡的的哪些景物？小曦又看到了怎样的景物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250920" y="3718080"/>
            <a:ext cx="843588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两人描述的景象相同吗？为什么会出现这样的情况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7920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以前的故乡和现在的故乡进行对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539640" y="809640"/>
          <a:ext cx="8064360" cy="4976640"/>
        </p:xfrm>
        <a:graphic>
          <a:graphicData uri="http://schemas.openxmlformats.org/drawingml/2006/table">
            <a:tbl>
              <a:tblPr/>
              <a:tblGrid>
                <a:gridCol w="3646440"/>
                <a:gridCol w="441792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爷爷说的           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以前的故乡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小曦看到的            （现在的故乡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Text Box 20"/>
          <p:cNvSpPr/>
          <p:nvPr/>
        </p:nvSpPr>
        <p:spPr>
          <a:xfrm>
            <a:off x="684360" y="1989000"/>
            <a:ext cx="307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路旁有棵大榆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1"/>
          <p:cNvSpPr/>
          <p:nvPr/>
        </p:nvSpPr>
        <p:spPr>
          <a:xfrm>
            <a:off x="4284720" y="1917720"/>
            <a:ext cx="45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榆树被偷伐者砍去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2"/>
          <p:cNvSpPr/>
          <p:nvPr/>
        </p:nvSpPr>
        <p:spPr>
          <a:xfrm>
            <a:off x="541440" y="2709720"/>
            <a:ext cx="35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河水清澈见底，鱼儿和爷爷嬉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3"/>
          <p:cNvSpPr/>
          <p:nvPr/>
        </p:nvSpPr>
        <p:spPr>
          <a:xfrm>
            <a:off x="4140360" y="265752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河快干涸了，河底部还有很细的水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4"/>
          <p:cNvSpPr/>
          <p:nvPr/>
        </p:nvSpPr>
        <p:spPr>
          <a:xfrm>
            <a:off x="539640" y="3789360"/>
            <a:ext cx="36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河边有绿油油的草坡，不知名的小花。山上有古树参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5"/>
          <p:cNvSpPr/>
          <p:nvPr/>
        </p:nvSpPr>
        <p:spPr>
          <a:xfrm>
            <a:off x="4578480" y="3803760"/>
            <a:ext cx="3598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山坡上只有裸露的黄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250920" y="404640"/>
            <a:ext cx="85690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请你试着用一段话描绘课文中爷爷讲述的风景，最好能用上下面的词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鸣唱     好看     清澈见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绿油油     古树参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1"/>
          <p:cNvSpPr/>
          <p:nvPr/>
        </p:nvSpPr>
        <p:spPr>
          <a:xfrm>
            <a:off x="2009880" y="5516640"/>
            <a:ext cx="505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-530280"/>
            <a:ext cx="8218440" cy="662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47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拓展题：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如果小曦把真相告诉了爷爷，爷爷会有什么反应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3361A-45D9-4228-A2E6-851A1ABB287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2T11:12:4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25:35Z</dcterms:modified>
  <cp:revision>4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