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13C8C-5D35-40A0-935F-4C685DE55D9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854A0-B4BC-47A5-B0E0-04A9FC403C2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97B8-3BC2-44C8-810E-39467101D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E5EB-DA16-45DE-8EF4-34F4CF7CD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2FF0-931E-4EA4-B626-AD84AE683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DB86-AC22-4CB5-BC80-077C725DE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E993-97E2-4FF7-A830-FE23F877A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3074-89DD-4217-9C37-F9B0ACD9F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5FFA-8271-4447-8E78-C2A19B80D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2492-0EC4-416D-8557-B3BCDF3AA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68D9-5B91-46FA-B0F0-F6C760EC7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3BCF-0881-4E75-A491-EEB553F79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78F7-1612-4946-873C-1C3B57E25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2353-73F8-4642-BBB0-20D58A0CA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5751A-9D39-4AC4-98A7-7A1B375F5D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封面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矩形 6" descr=""/>
          <p:cNvPicPr/>
          <p:nvPr/>
        </p:nvPicPr>
        <p:blipFill>
          <a:blip r:embed="rId2"/>
          <a:stretch/>
        </p:blipFill>
        <p:spPr>
          <a:xfrm>
            <a:off x="1862280" y="5638680"/>
            <a:ext cx="5672160" cy="498600"/>
          </a:xfrm>
          <a:prstGeom prst="rect">
            <a:avLst/>
          </a:prstGeom>
          <a:ln w="0">
            <a:noFill/>
          </a:ln>
        </p:spPr>
      </p:pic>
      <p:pic>
        <p:nvPicPr>
          <p:cNvPr id="50" name="矩形 1" descr=""/>
          <p:cNvPicPr/>
          <p:nvPr/>
        </p:nvPicPr>
        <p:blipFill>
          <a:blip r:embed="rId3"/>
          <a:stretch/>
        </p:blipFill>
        <p:spPr>
          <a:xfrm>
            <a:off x="1378080" y="2227320"/>
            <a:ext cx="6794280" cy="16272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榆树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信号塔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小河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6094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巩固提高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课文朗读比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如果小曦把真相告诉爷爷，爷爷会有什么反应？请你写一写。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324CB-4793-4487-A75A-9BBFF1D37F2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学习目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学习本课</a:t>
            </a:r>
            <a:r>
              <a:rPr b="1" lang="en-US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个生字，并能正确书写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正确、流利、有感情地朗读课文。理解课文内容，体会作者的感情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学习小曦美好的心灵，学会替他人着想，理解别人的感受。增强热爱大自然，保护环境的意识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094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整体感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初读课文，把课文读通顺，读正确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从课文中找出新词，运用查字典或请教别人的方法读准并理解词语的意思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　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6"/>
          <p:cNvPicPr/>
          <p:nvPr/>
        </p:nvPicPr>
        <p:blipFill>
          <a:blip r:embed="rId1"/>
          <a:stretch/>
        </p:blipFill>
        <p:spPr>
          <a:xfrm>
            <a:off x="1295280" y="914400"/>
            <a:ext cx="6629400" cy="49719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7"/>
          <p:cNvPicPr/>
          <p:nvPr/>
        </p:nvPicPr>
        <p:blipFill>
          <a:blip r:embed="rId1"/>
          <a:stretch/>
        </p:blipFill>
        <p:spPr>
          <a:xfrm>
            <a:off x="0" y="0"/>
            <a:ext cx="426708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8"/>
          <p:cNvPicPr/>
          <p:nvPr/>
        </p:nvPicPr>
        <p:blipFill>
          <a:blip r:embed="rId2"/>
          <a:stretch/>
        </p:blipFill>
        <p:spPr>
          <a:xfrm>
            <a:off x="4267080" y="0"/>
            <a:ext cx="487692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矩形 5"/>
          <p:cNvSpPr/>
          <p:nvPr/>
        </p:nvSpPr>
        <p:spPr>
          <a:xfrm>
            <a:off x="2743200" y="411480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914400" y="121932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lí   shī  péi   dá   bà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离   失    陪     达     傍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ú   tǎ     jiè   shào  chè   cān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途   塔    介     绍       澈     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5335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读文质疑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用自己喜欢的方式读课文，对课文中有疑问的地方进行整理总结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同桌或小组内相互讨论交流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问题探究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将各小组的问题收集归纳，形成问题组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针对总结归纳的问题进行充分讨论。讨论完以上问题后，再次有感情地朗读课文，加深理解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拓展延伸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方正楷体_GBK"/>
              </a:rPr>
              <a:t>将爷爷记忆中的故乡美景与小曦看到的眼前实景用笔画出来，并作一番比较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方正楷体_GBK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1"/>
          <p:cNvSpPr/>
          <p:nvPr/>
        </p:nvSpPr>
        <p:spPr>
          <a:xfrm>
            <a:off x="739800" y="6126120"/>
            <a:ext cx="610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2T05:56:39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25:39Z</dcterms:modified>
  <cp:revision>2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Version">
    <vt:r8>1</vt:r8>
  </property>
</Properties>
</file>