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024-4808-45EC-9506-FD2A8C8440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26D2-E9B9-4FEF-9DEB-E17BB4C291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9A5-D4EA-4CC6-A734-04CA0402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17F-A89B-4753-806F-7740FE94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874-70BB-4F28-ABA7-846EEB79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584-A6D8-42BF-80E0-CDE51770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2E5-C1B5-4588-8E02-64A82D8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DB6-6206-405C-99A1-5BCF8A24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B71-3203-4350-BC34-01C80C9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79C-470D-4E1A-99B7-43C21CC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61A-1DA0-4E6E-AA8F-074E96E9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998-F955-45D1-9EF1-0E5BE27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D74-A111-44F6-82EF-B6EB33E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AAC-F249-45A8-93CD-95F3929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B2F-2CAB-4C6A-99F3-05FB74AAD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02720" y="1371600"/>
            <a:ext cx="399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ffff"/>
                </a:solidFill>
                <a:latin typeface="Arial"/>
                <a:ea typeface="楷体_GB2312"/>
              </a:rPr>
              <a:t>给予的故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004480" y="594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217960" y="609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拓展升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09480" y="2601720"/>
            <a:ext cx="8153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如果文章的主人公就是你，面对当时的情况，从心底里说你会怎样做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8288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生活中，你有没有像主人公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过或是听过“给予”的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2189160" y="5153040"/>
            <a:ext cx="58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914400" y="21470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付出永远比索取快乐。如果我们人人都互相给予，心中充满爱。我相信，我们的世界会更加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494960" y="365760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给予永远是快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182-6508-42B6-9A9F-75218F2F30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183024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时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读课文，理解课文内容，逐步培养小组讨论、合作探究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给予别人是一种快乐和幸福，培养学生无私奉献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体会相互给予的快乐和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导学生理解做人的道理：一个人应该多为别人着想，付出越多才能得到更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81960" y="89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回顾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33520" y="2025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课题中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给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什么意思？课文主要讲了一件什么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803680" y="345132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09480" y="3352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送给，奉献，充足的供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371600" y="4038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课文讲了一个人在沙漠中迷路，饥渴难忍，濒临死亡，面对一壶水做出选择：把生死置之度外，喝上泉水，还为他人留下了救命之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C2009022810555348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609480" y="914400"/>
            <a:ext cx="7162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放眼四周，黄沙茫茫，没有一点绿色！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180520" y="45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428720" y="121824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品读第一段，感受文中主人公当时的境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" y="25898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主人公饥渴难忍、濒临死亡、苦苦支撑、沉重的脚步，可以想到他：干裂的嘴唇、冒烟的嗓子、绝望的目光</a:t>
            </a:r>
            <a:r>
              <a:rPr b="1" lang="en-US" sz="2800" spc="-1" strike="noStrike">
                <a:solidFill>
                  <a:srgbClr val="003366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038320" y="388548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是靠什么支撑着走下去的？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71600" y="4724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坚强的意志力，生命，要活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09480" y="1812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这种糟糕的困境下，有什么意想不到的事情发生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5800" y="31240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间废弃的屋子，一个汲水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装满水的水壶，一张写有字的纸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875600" y="533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Aiimg_com_tiezhipic07"/>
          <p:cNvPicPr/>
          <p:nvPr/>
        </p:nvPicPr>
        <p:blipFill>
          <a:blip r:embed="rId1"/>
          <a:stretch/>
        </p:blipFill>
        <p:spPr>
          <a:xfrm>
            <a:off x="990720" y="4572000"/>
            <a:ext cx="71625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1447920" y="4800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要先把这壶水灌进汲水器，才能打出水，走之前，一定要把水壶装满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180520" y="45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155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怎么办？这位沙漠中的饥渴之人，面临着艰难的抉择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0880" y="41457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这个人万一把水灌进汲水器却吸不出水，他就选择了死，这对一个求生欲望强烈的人来说真是太难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犹豫再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2438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为什么说这个人面临着艰难的抉择？哪一个词更能体现出当时的心情及抉择的艰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img_com_tiezhipic07[1]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 rot="21384600">
            <a:off x="1743840" y="1903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要先把这壶水灌进汲水器，才能打出水，走之前，一定要把水壶装满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21351000">
            <a:off x="1972080" y="32756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相信我，纸条上的话是真的。你只有把生死置之度外，才能尝到甘美的泉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176560" y="450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研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62120" y="1914120"/>
            <a:ext cx="78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个人最终选择了把水灌进吸水器，他冒着危险，到底为了什么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这个人的选择中，你看出了什么，她是一个什么样的人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33520" y="3246480"/>
            <a:ext cx="8229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为的是给像他一样濒临死亡的迷路者也能留下一壶救命之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楷体_GB2312"/>
              </a:rPr>
              <a:t>这个人在生死关头，表现出了高尚无私的胸怀，置生死于度外的品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6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0:41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