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CF28-E4F3-4C8C-B3E0-E4372E164B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ABC6-415F-47A9-B676-91E170F915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2E9-AAB6-4CA4-999C-467652AA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E0BB-897B-4F5D-99B3-6A4B8813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F7D4-45B4-4916-A7B9-2282D49B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DB0-7C1B-45F4-AEC3-A9300A87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F2D-9E96-4447-9CC4-B7555CB0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2D0-4E62-4800-B5A2-9AD851AF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053-C5D5-4EF2-981D-C99B8DBB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C99-DE33-4FDD-B4D6-78D92398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DF6-44AB-4192-90F3-83B44EC1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189-9EF9-435F-9C96-E9960691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363-C5F4-473D-B2DE-518F4230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AAE-B4DB-4157-A9E2-424F8EDB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6188-B602-4B13-A1B4-AFE4DD392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85920" y="868320"/>
            <a:ext cx="40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邯郸学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5560" y="62262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43080" y="309384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夏天，雨水汇聚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jù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到了黄河，河面宽阔，水流奔涌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于是，河神便洋洋自得起来，以为天下最壮观的就数自己了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河神顺着流水向东走去，一直走到了北海。他向东一望，看不到海水的边际。海洋比起自己来，真是不知要大多少倍啊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河神仰望着大海，向海神发出这样的感叹：“我总以为自己最了不起，要是不到您这里来看一看，我就会永远受到人们的耻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chì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笑啊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933000" y="609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望洋兴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457200" y="304920"/>
            <a:ext cx="3200400" cy="1600200"/>
          </a:xfrm>
          <a:prstGeom prst="cloudCallout">
            <a:avLst>
              <a:gd name="adj1" fmla="val -46129"/>
              <a:gd name="adj2" fmla="val 60513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想想河神对自己的认识有什么变化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6553080" y="563868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84200" y="321948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望洋兴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828800" y="2209680"/>
            <a:ext cx="304920" cy="2438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465280" y="229392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洋洋自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465280" y="410364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仰望感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990160" y="1685880"/>
            <a:ext cx="909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海洋比起自己来，要大得多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196360" y="3165480"/>
            <a:ext cx="4707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（２）海洋比起自己来，真是不知要大多少倍啊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865800" y="4754520"/>
            <a:ext cx="7386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_____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比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_____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来，真是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611440" y="3049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句子，说说你喜欢哪一种说法，再仿写一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43080" y="226836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夏天，雨水汇聚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jù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到了黄河，河面宽阔，水流奔涌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于是，河神便洋洋自得起来，以为天下最壮观的就数自己了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河神顺着流水向东走去，一直走到了北海。他向东一望，看不到海水的边际。海洋比起自己来，真是不知要大多少倍啊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河神仰望着大海，向海神发出这样的感叹：“我总以为自己最了不起，要是不到您这里来看一看，我就会永远受到人们的耻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chì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笑啊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933000" y="228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望洋兴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2819520" y="5638680"/>
            <a:ext cx="19047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4876920" y="3124080"/>
            <a:ext cx="3581280" cy="2362320"/>
          </a:xfrm>
          <a:prstGeom prst="cloudCallout">
            <a:avLst>
              <a:gd name="adj1" fmla="val 61393"/>
              <a:gd name="adj2" fmla="val 53763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你是怎么理解“耻笑”这个词语的？可以把它换成什么词语而使句子意思不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484200" y="321948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望洋兴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1828800" y="2209680"/>
            <a:ext cx="304920" cy="2438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465280" y="229392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洋洋自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465280" y="410364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仰望感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3733920" y="2209680"/>
            <a:ext cx="228600" cy="2438640"/>
          </a:xfrm>
          <a:custGeom>
            <a:avLst/>
            <a:gdLst>
              <a:gd name="textAreaLeft" fmla="*/ 0 w 228600"/>
              <a:gd name="textAreaRight" fmla="*/ 82440 w 2286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157720" y="3219480"/>
            <a:ext cx="2847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看到别人伟大才感到自己的渺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609480" y="304920"/>
            <a:ext cx="3733920" cy="1447560"/>
          </a:xfrm>
          <a:prstGeom prst="cloudCallout">
            <a:avLst>
              <a:gd name="adj1" fmla="val -43495"/>
              <a:gd name="adj2" fmla="val 8684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则成语故事告诉了你什么道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266840" y="2286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写意思相近的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036800" y="219384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专门（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036800" y="342900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模仿（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227920" y="219384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汇聚（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227920" y="342900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耻笑（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1295280" y="29714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295280" y="38862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" action="ppaction://hlinkshowjump?jump=previousslide"/>
          </p:cNvPr>
          <p:cNvSpPr/>
          <p:nvPr/>
        </p:nvSpPr>
        <p:spPr>
          <a:xfrm>
            <a:off x="7467480" y="5981760"/>
            <a:ext cx="1295640" cy="53352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34" h="21600">
                <a:moveTo>
                  <a:pt x="0" y="0"/>
                </a:moveTo>
                <a:lnTo>
                  <a:pt x="52434" y="0"/>
                </a:lnTo>
                <a:lnTo>
                  <a:pt x="52434" y="21600"/>
                </a:lnTo>
                <a:lnTo>
                  <a:pt x="0" y="21600"/>
                </a:lnTo>
                <a:close/>
              </a:path>
              <a:path fill="lightenLess" w="52434" h="21600">
                <a:moveTo>
                  <a:pt x="0" y="0"/>
                </a:moveTo>
                <a:lnTo>
                  <a:pt x="52434" y="0"/>
                </a:lnTo>
                <a:lnTo>
                  <a:pt x="51034" y="1400"/>
                </a:lnTo>
                <a:lnTo>
                  <a:pt x="1400" y="1400"/>
                </a:lnTo>
                <a:close/>
              </a:path>
              <a:path fill="darken" w="52434" h="21600">
                <a:moveTo>
                  <a:pt x="52434" y="0"/>
                </a:moveTo>
                <a:lnTo>
                  <a:pt x="52434" y="21600"/>
                </a:lnTo>
                <a:lnTo>
                  <a:pt x="51034" y="20200"/>
                </a:lnTo>
                <a:lnTo>
                  <a:pt x="51034" y="1400"/>
                </a:lnTo>
                <a:close/>
              </a:path>
              <a:path fill="darkenLess" w="52434" h="21600">
                <a:moveTo>
                  <a:pt x="52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34" y="20200"/>
                </a:lnTo>
                <a:close/>
              </a:path>
              <a:path fill="lighten" w="52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434" h="21600">
                <a:moveTo>
                  <a:pt x="22718" y="10800"/>
                </a:moveTo>
                <a:lnTo>
                  <a:pt x="33224" y="3794"/>
                </a:lnTo>
                <a:lnTo>
                  <a:pt x="33224" y="17806"/>
                </a:lnTo>
                <a:close/>
              </a:path>
              <a:path fill="darken" w="52434" h="21600">
                <a:moveTo>
                  <a:pt x="19211" y="3794"/>
                </a:moveTo>
                <a:lnTo>
                  <a:pt x="20873" y="3794"/>
                </a:lnTo>
                <a:lnTo>
                  <a:pt x="20873" y="17806"/>
                </a:lnTo>
                <a:lnTo>
                  <a:pt x="1921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962520" y="28195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燕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4038480" y="43434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燕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3733920" y="3581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3809880" y="5105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1716120" y="1187280"/>
            <a:ext cx="51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85128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F1C2-2A38-4E66-8BC6-1689FC9762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76320" y="3560400"/>
            <a:ext cx="8854920" cy="13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7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燕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yān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国有个少年，听说赵国都城邯郸的人走路的</a:t>
            </a:r>
            <a:r>
              <a:rPr b="0" lang="zh-CN" sz="27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姿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zī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0" lang="zh-CN" sz="27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 action="ppaction://hlinksldjump"/>
              </a:rPr>
              <a:t>势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shì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很美，就专门跑到邯郸去学走路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站在邯郸的大街上，天天观察别人的走路姿势，一边看一边模仿。他今天跟这个人学这样走路，明天又跟那个人学那样走路，结果哪种姿势也没学好。临到要回去的时候，他连自己原来走路的姿势也不会了，只好爬回了燕国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065960" y="1066680"/>
            <a:ext cx="44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邯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hán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郸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dān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学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án             dān             y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邯               郸               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ī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姿                       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6320" y="3328560"/>
            <a:ext cx="885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燕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yān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国有个少年，听说赵国都城邯郸的人走路的姿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zī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势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shì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很美，就专门跑到邯郸去学走路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218240" y="1143000"/>
            <a:ext cx="44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邯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hán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郸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dān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学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5410080" y="4343400"/>
            <a:ext cx="3048120" cy="1371600"/>
          </a:xfrm>
          <a:prstGeom prst="cloudCallout">
            <a:avLst>
              <a:gd name="adj1" fmla="val 52032"/>
              <a:gd name="adj2" fmla="val 7939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说说课文讲了一件什么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5"/>
          <p:cNvSpPr/>
          <p:nvPr/>
        </p:nvSpPr>
        <p:spPr>
          <a:xfrm>
            <a:off x="2486160" y="17114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665720" y="129528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到邯郸学走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36440" y="3474000"/>
            <a:ext cx="885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站在邯郸的大街上，天天观察别人的走路姿势，一边看一边模仿。他今天跟这个人学这样走路，明天又跟那个人学那样走路，结果哪种姿势也没学好。临到要回去的时候，他连自己原来走路的姿势也不会了，只好爬回了燕国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3032280" y="356724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5089680" y="3567240"/>
            <a:ext cx="16761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7147080" y="3567240"/>
            <a:ext cx="990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974880" y="3948120"/>
            <a:ext cx="16761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7527960" y="432900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212760" y="47862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685800" y="457200"/>
            <a:ext cx="3581280" cy="1676520"/>
          </a:xfrm>
          <a:prstGeom prst="cloudCallout">
            <a:avLst>
              <a:gd name="adj1" fmla="val -59842"/>
              <a:gd name="adj2" fmla="val 82101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你对燕国少年有什么看法，提出不理解的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11280" y="2270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到邯郸学走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481560" y="22701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今天学这样走，明天学那样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596360" y="2270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爬回燕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2057400" y="2482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6400800" y="2482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914400" y="32004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91440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 flipV="1">
            <a:off x="800100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2889000" y="3505320"/>
            <a:ext cx="336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机械模仿，反而把自己的优点和本领都忘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4724280" y="4191120"/>
            <a:ext cx="3505320" cy="1523880"/>
          </a:xfrm>
          <a:prstGeom prst="cloudCallout">
            <a:avLst>
              <a:gd name="adj1" fmla="val 60597"/>
              <a:gd name="adj2" fmla="val 82189"/>
            </a:avLst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说说这个成语故事告诉我们一个什么道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11"/>
          <p:cNvSpPr/>
          <p:nvPr/>
        </p:nvSpPr>
        <p:spPr>
          <a:xfrm>
            <a:off x="1523880" y="1743120"/>
            <a:ext cx="6096240" cy="33717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讨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为什么燕国少年到最后连自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原来走路的姿势都忘了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343080" y="2216520"/>
            <a:ext cx="845820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夏天，雨水汇</a:t>
            </a:r>
            <a:r>
              <a:rPr b="0" lang="zh-CN" sz="27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 action="ppaction://hlinksldjump"/>
              </a:rPr>
              <a:t>聚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jù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到了黄河，河面宽阔，水流奔涌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于是，河神便洋洋自得起来，以为天下最壮观的就数自己了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河神顺着流水向东走去，一直走到了北海。他向东一望，看不到海水的边际。海洋比起自己来，真是不知要大多少倍啊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河神仰望着大海，向海神发出这样的感叹：“我总以为自己最了不起，要是不到您这里来看一看，我就会永远受到人们的</a:t>
            </a:r>
            <a:r>
              <a:rPr b="0" lang="zh-CN" sz="27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耻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chì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笑啊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933000" y="425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望洋兴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5:56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4:57Z</dcterms:modified>
  <cp:revision>1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