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06B2-1CBB-43A1-AD1A-F9898B155A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AD14-254B-48BC-BA50-FFA7985B3E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9FE-5C02-4B09-AD84-2C763A9F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FDF-42E7-4EAC-B3EC-26772D11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86A-BE24-401F-B3BC-056D9634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1BE-42B0-44DD-8B4A-0C4F9F77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889-5A2B-4B5F-B0DA-9944817F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E9A-DCF7-4ADC-862D-DAEAA16A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535-F723-4CF4-9FA2-A54E00EE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6DF-9672-4D6C-8ADC-3E57D0A4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25E-C6EA-4804-BA7F-A8BDB258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FF1-2773-4D4F-A6A7-705CECE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26B-5C61-4BDD-A1EC-FD5C8CEA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05D-1842-4FF4-A364-A93783C3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1ADB-9E39-45FB-A6BA-ECBBB615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914400" y="2057400"/>
            <a:ext cx="7315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66"/>
                </a:solidFill>
                <a:latin typeface="Arial"/>
                <a:ea typeface="隶书"/>
              </a:rPr>
              <a:t>邯郸学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596240" y="56815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990720" y="2513880"/>
            <a:ext cx="723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联系生活，谈谈在我们生活中应该怎样做人做事，应该怎样去学习别人的长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745640" y="801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Comic Sans MS"/>
                <a:ea typeface="新宋体"/>
              </a:rPr>
              <a:t>熟读并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001a"/>
          <p:cNvPicPr/>
          <p:nvPr/>
        </p:nvPicPr>
        <p:blipFill>
          <a:blip r:embed="rId2"/>
          <a:stretch/>
        </p:blipFill>
        <p:spPr>
          <a:xfrm>
            <a:off x="317520" y="725400"/>
            <a:ext cx="9144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3520" y="3278880"/>
            <a:ext cx="8153280" cy="703440"/>
          </a:xfrm>
          <a:prstGeom prst="rect">
            <a:avLst/>
          </a:prstGeom>
          <a:noFill/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习别人的长处，应注意保持自己的特色，不能盲目学习，如果机械模仿，生搬硬套，不但学无所成，反而丢失了自己原有的东西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143000" y="457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新宋体"/>
              </a:rPr>
              <a:t>小故事大道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001a"/>
          <p:cNvPicPr/>
          <p:nvPr/>
        </p:nvPicPr>
        <p:blipFill>
          <a:blip r:embed="rId2"/>
          <a:stretch/>
        </p:blipFill>
        <p:spPr>
          <a:xfrm>
            <a:off x="228600" y="304920"/>
            <a:ext cx="9144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990720" y="312336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展开想象，写一写回国后，人们会怎么议论他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2120" y="4572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新宋体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1a"/>
          <p:cNvPicPr/>
          <p:nvPr/>
        </p:nvPicPr>
        <p:blipFill>
          <a:blip r:embed="rId2"/>
          <a:stretch/>
        </p:blipFill>
        <p:spPr>
          <a:xfrm>
            <a:off x="152280" y="380880"/>
            <a:ext cx="914400" cy="92412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"/>
          <p:cNvSpPr/>
          <p:nvPr/>
        </p:nvSpPr>
        <p:spPr>
          <a:xfrm>
            <a:off x="1419120" y="5284800"/>
            <a:ext cx="71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9"/>
          <p:cNvSpPr/>
          <p:nvPr/>
        </p:nvSpPr>
        <p:spPr>
          <a:xfrm>
            <a:off x="2133720" y="205740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Arial"/>
                <a:ea typeface="隶书"/>
              </a:rPr>
              <a:t>谢谢大家</a:t>
            </a:r>
            <a:r>
              <a:rPr b="1" lang="en-US" sz="8800" spc="-1" strike="noStrike">
                <a:solidFill>
                  <a:srgbClr val="ff00ff"/>
                </a:solidFill>
                <a:latin typeface="Arial"/>
                <a:ea typeface="隶书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B408-2C6D-4FA8-9F4C-E2F37EB158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120" y="19047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狐假虎威      鹬蚌相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刻舟求剑     南辕北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01a"/>
          <p:cNvPicPr/>
          <p:nvPr/>
        </p:nvPicPr>
        <p:blipFill>
          <a:blip r:embed="rId2"/>
          <a:stretch/>
        </p:blipFill>
        <p:spPr>
          <a:xfrm>
            <a:off x="457200" y="5335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1447920" y="457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Comic Sans MS"/>
                <a:ea typeface="新宋体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" action="ppaction://hlinkshowjump?jump=previousslide"/>
          </p:cNvPr>
          <p:cNvSpPr/>
          <p:nvPr/>
        </p:nvSpPr>
        <p:spPr>
          <a:xfrm>
            <a:off x="7391520" y="57150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23880" y="1693080"/>
            <a:ext cx="64771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án dā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邯郸         燕国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zī     shì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ó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姿势         模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001a"/>
          <p:cNvPicPr/>
          <p:nvPr/>
        </p:nvPicPr>
        <p:blipFill>
          <a:blip r:embed="rId2"/>
          <a:stretch/>
        </p:blipFill>
        <p:spPr>
          <a:xfrm>
            <a:off x="304920" y="609480"/>
            <a:ext cx="914400" cy="924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677960" y="762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新宋体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4760" y="328680"/>
            <a:ext cx="219096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新宋体"/>
              </a:rPr>
              <a:t>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燕                         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01a"/>
          <p:cNvPicPr/>
          <p:nvPr/>
        </p:nvPicPr>
        <p:blipFill>
          <a:blip r:embed="rId2"/>
          <a:stretch/>
        </p:blipFill>
        <p:spPr>
          <a:xfrm>
            <a:off x="0" y="228600"/>
            <a:ext cx="91440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>
            <a:off x="1219320" y="2590920"/>
            <a:ext cx="304560" cy="1523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4724280" y="259092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438280" y="2590920"/>
            <a:ext cx="106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362320" y="2514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燕  国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286000" y="3657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燕  子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1055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105520" y="3733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095880" y="2438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模  仿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172200" y="3733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模  样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n   dā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ī     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ān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ó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燕                            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àn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ú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01a"/>
          <p:cNvPicPr/>
          <p:nvPr/>
        </p:nvPicPr>
        <p:blipFill>
          <a:blip r:embed="rId2"/>
          <a:stretch/>
        </p:blipFill>
        <p:spPr>
          <a:xfrm>
            <a:off x="380880" y="38088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2193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Comic Sans MS"/>
              </a:rPr>
              <a:t>随堂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1065240" y="36799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5029200" y="380988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295280" y="2438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邯  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867280" y="2590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791320" y="2362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姿   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2819520" y="3581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燕 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819520" y="4648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燕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3505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模  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6477120" y="47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模  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9"/>
          <p:cNvSpPr/>
          <p:nvPr/>
        </p:nvSpPr>
        <p:spPr>
          <a:xfrm>
            <a:off x="1932120" y="2998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新宋体"/>
              </a:rPr>
              <a:t>初读课文并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990720" y="1295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个燕国人为什么要去邯郸学步？经过怎样？结果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09480" y="2895480"/>
          <a:ext cx="7315200" cy="2590920"/>
        </p:xfrm>
        <a:graphic>
          <a:graphicData uri="http://schemas.openxmlformats.org/drawingml/2006/table">
            <a:tbl>
              <a:tblPr/>
              <a:tblGrid>
                <a:gridCol w="1295280"/>
                <a:gridCol w="60199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37" descr="001a"/>
          <p:cNvPicPr/>
          <p:nvPr/>
        </p:nvPicPr>
        <p:blipFill>
          <a:blip r:embed="rId2"/>
          <a:stretch/>
        </p:blipFill>
        <p:spPr>
          <a:xfrm>
            <a:off x="304920" y="228600"/>
            <a:ext cx="914400" cy="923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0"/>
          <p:cNvSpPr/>
          <p:nvPr/>
        </p:nvSpPr>
        <p:spPr>
          <a:xfrm>
            <a:off x="1066680" y="31240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762120" y="3048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2514600" y="3124080"/>
            <a:ext cx="4343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邯郸人走路姿势很好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838080" y="3886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经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2438280" y="403848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2362320" y="3962520"/>
            <a:ext cx="47242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一边看一边 模   仿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76212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2590920" y="4876920"/>
            <a:ext cx="3200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爬回燕  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8">
            <a:hlinkClick r:id="rId7" action="ppaction://hlinksldjump"/>
          </p:cNvPr>
          <p:cNvSpPr/>
          <p:nvPr/>
        </p:nvSpPr>
        <p:spPr>
          <a:xfrm>
            <a:off x="754380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u=4143743845,1948099651&amp;fm=52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>
            <a:hlinkClick r:id="rId3" action="ppaction://hlinksldjump"/>
          </p:cNvPr>
          <p:cNvSpPr/>
          <p:nvPr/>
        </p:nvSpPr>
        <p:spPr>
          <a:xfrm>
            <a:off x="7924680" y="59436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u=3785276777,2649460848&amp;fm=52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>
            <a:hlinkClick r:id="rId3" action="ppaction://hlinksldjump"/>
          </p:cNvPr>
          <p:cNvSpPr/>
          <p:nvPr/>
        </p:nvSpPr>
        <p:spPr>
          <a:xfrm>
            <a:off x="75438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u=638667924,925515037&amp;fm=52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>
            <a:hlinkClick r:id="rId3" action="ppaction://hlinksldjump"/>
          </p:cNvPr>
          <p:cNvSpPr/>
          <p:nvPr/>
        </p:nvSpPr>
        <p:spPr>
          <a:xfrm>
            <a:off x="78487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56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5:02Z</dcterms:modified>
  <cp:revision>10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