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80B9-FE6F-44CE-94A0-DF6F93C406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23.xml"/><Relationship Id="rId24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70B-DB9B-4A29-A425-611C455A4B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91C8-AC89-4FDA-9C20-B277551045F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F7C2-F403-4D93-941C-7F778BD2D2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57DC-9DFE-4E3A-95E3-DA869120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393-AAC5-410D-BA1C-85A23C53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9D6-398E-4460-8CB6-AD4E8061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D8C-FF7A-42AB-AD79-A618AD3F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F9A-7918-4CF0-AE93-8371B62F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61B-01AF-489B-8CD9-F565594A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6721-188A-4D99-842F-BD3C673C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AA50-2E43-4AFA-8142-B97765A4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A190-61E7-43DA-B52F-C0A0F39A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E81-A48F-4688-B293-865D8199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B1B-1EA6-4AD8-A10E-8498B57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B51-C32C-44D8-A644-18CE313D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3519-F40E-4643-A2A7-670889EB7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5.png"/><Relationship Id="rId9" Type="http://schemas.openxmlformats.org/officeDocument/2006/relationships/image" Target="../media/image27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198900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华文中宋"/>
                <a:ea typeface="华文中宋"/>
              </a:rPr>
              <a:t>13. </a:t>
            </a:r>
            <a:r>
              <a:rPr b="1" lang="zh-CN" sz="8800" spc="-1" strike="noStrike">
                <a:solidFill>
                  <a:srgbClr val="ff3300"/>
                </a:solidFill>
                <a:latin typeface="华文中宋"/>
                <a:ea typeface="华文中宋"/>
              </a:rPr>
              <a:t>黄 继 光</a:t>
            </a:r>
            <a:r>
              <a:rPr b="1" lang="zh-CN" sz="6000" spc="-1" strike="noStrike">
                <a:solidFill>
                  <a:srgbClr val="00ccff"/>
                </a:solidFill>
                <a:latin typeface="华文中宋"/>
                <a:ea typeface="华文中宋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69560" y="544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08000" y="115920"/>
            <a:ext cx="8785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提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小组合作读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——1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自然段，讨论交流黄继光和战友在完成任务时遇到了哪些困难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黄继光和两个战士又是怎样冲上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负伤后的黄继光又是怎样做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黄继光几次站起来，分别是在怎样的情况下站起来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找出描写黄继光动作的词语，这些动词表现出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黄继光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755640" y="314172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他们冒着浓烟，冒着烈火，匍匐前进。一个战士牺牲了，另一个战士也负伤了。摧毁火力点的重任落在了黄继光一个人的肩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黄继光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84360" y="2276640"/>
            <a:ext cx="770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句子比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他们冒着浓烟，冒着烈火，匍匐前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他们冒着浓烟，烈火，匍匐前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70480" y="907920"/>
            <a:ext cx="3773520" cy="518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304920" y="38088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300"/>
                </a:solidFill>
                <a:latin typeface="Arial"/>
                <a:ea typeface="楷体"/>
              </a:rPr>
              <a:t>火力点里的敌人把机枪对准黄继光，子弹像冰雹一样射过来。黄继光肩上和腿上都负了伤。他用尽全身力气，更加顽强地向前爬，还有</a:t>
            </a:r>
            <a:r>
              <a:rPr b="0" lang="en-US" sz="3200" spc="-1" strike="noStrike">
                <a:solidFill>
                  <a:srgbClr val="080300"/>
                </a:solidFill>
                <a:latin typeface="Arial"/>
                <a:ea typeface="楷体"/>
              </a:rPr>
              <a:t>20</a:t>
            </a:r>
            <a:r>
              <a:rPr b="0" lang="zh-CN" sz="3200" spc="-1" strike="noStrike">
                <a:solidFill>
                  <a:srgbClr val="080300"/>
                </a:solidFill>
                <a:latin typeface="Arial"/>
                <a:ea typeface="楷体"/>
              </a:rPr>
              <a:t>米，</a:t>
            </a:r>
            <a:r>
              <a:rPr b="0" lang="en-US" sz="3200" spc="-1" strike="noStrike">
                <a:solidFill>
                  <a:srgbClr val="080300"/>
                </a:solidFill>
                <a:latin typeface="Arial"/>
                <a:ea typeface="楷体"/>
              </a:rPr>
              <a:t>10</a:t>
            </a:r>
            <a:r>
              <a:rPr b="0" lang="zh-CN" sz="3200" spc="-1" strike="noStrike">
                <a:solidFill>
                  <a:srgbClr val="080300"/>
                </a:solidFill>
                <a:latin typeface="Arial"/>
                <a:ea typeface="楷体"/>
              </a:rPr>
              <a:t>米，近了，更近了</a:t>
            </a:r>
            <a:r>
              <a:rPr b="0" lang="en-US" sz="3200" spc="-1" strike="noStrike">
                <a:solidFill>
                  <a:srgbClr val="080300"/>
                </a:solidFill>
                <a:latin typeface="楷体"/>
                <a:ea typeface="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340000" y="836640"/>
            <a:ext cx="316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子弹像冰雹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35840" y="1371600"/>
            <a:ext cx="135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样射过来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1763640" y="407664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他用尽全身的力气，更加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顽强地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向前爬，还有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米，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米，近了，更近了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24000" y="333360"/>
            <a:ext cx="8785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学提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黄继光几次站起来，分别是在怎样的情况下站起来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找出描写黄继光动作的词语，这些动词表现出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851280" y="0"/>
            <a:ext cx="5521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9"/>
          <p:cNvSpPr/>
          <p:nvPr/>
        </p:nvSpPr>
        <p:spPr>
          <a:xfrm>
            <a:off x="879480" y="5896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0" y="0"/>
            <a:ext cx="363528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啊！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黄继光突然站起来了！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暴风雨一样的子弹中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站起来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！</a:t>
            </a: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他举起右臂，手雷在探照灯的光亮中闪闪发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539640" y="371808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啊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黄继光突然站起来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暴风雨一样的子弹中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站起来了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！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他举起右臂，手雷在探照灯的光亮中闪闪发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558720" y="38768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</a:t>
            </a:r>
            <a:r>
              <a:rPr b="1" lang="zh-CN" sz="4000" spc="-1" strike="noStrike">
                <a:solidFill>
                  <a:srgbClr val="00ccff"/>
                </a:solidFill>
                <a:latin typeface="华文中宋"/>
                <a:ea typeface="华文中宋"/>
              </a:rPr>
              <a:t>轰！敌人的火力点塌了半边，黄继光晕倒了。战士们赶紧冲上去，不料才冲到半路，敌人的机枪又叫起来，战士们被压在上坡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xin_43070522090880729667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11280" y="2781360"/>
            <a:ext cx="71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只见黄继光又站起来了！他张开双臂，向喷射着火舌的火力点猛扑上去，用自己的胸膛堵住了敌人的枪口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xin_43070522090880729667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42920" y="260280"/>
            <a:ext cx="885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回顾预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查找有关上甘岭战役的资料及黄继光的有关资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有感情朗读课文，做到读准字音，读通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课文主要写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微软雅黑"/>
                <a:ea typeface="微软雅黑"/>
              </a:rPr>
              <a:t>、这篇课文是按照什么顺序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52280" y="1976400"/>
            <a:ext cx="3140280" cy="47372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342900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300"/>
                </a:solidFill>
                <a:latin typeface="楷体"/>
                <a:ea typeface="楷体"/>
              </a:rPr>
              <a:t>“</a:t>
            </a:r>
            <a:r>
              <a:rPr b="0" lang="zh-CN" sz="3200" spc="-1" strike="noStrike">
                <a:solidFill>
                  <a:srgbClr val="080300"/>
                </a:solidFill>
                <a:latin typeface="楷体"/>
                <a:ea typeface="楷体"/>
              </a:rPr>
              <a:t>冲啊，为黄继光报仇！”喊声惊天动地。战士们像海涛一样向上冲，占领了</a:t>
            </a:r>
            <a:r>
              <a:rPr b="0" lang="en-US" sz="3200" spc="-1" strike="noStrike">
                <a:solidFill>
                  <a:srgbClr val="080300"/>
                </a:solidFill>
                <a:latin typeface="楷体"/>
                <a:ea typeface="楷体"/>
              </a:rPr>
              <a:t>597.9</a:t>
            </a:r>
            <a:r>
              <a:rPr b="0" lang="zh-CN" sz="3200" spc="-1" strike="noStrike">
                <a:solidFill>
                  <a:srgbClr val="080300"/>
                </a:solidFill>
                <a:latin typeface="楷体"/>
                <a:ea typeface="楷体"/>
              </a:rPr>
              <a:t>高地，消灭了阵地上的全部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259680" y="114300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战士们像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4451040" y="16765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涛一样向上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0" y="476280"/>
            <a:ext cx="27367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</a:t>
            </a: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练笔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55640" y="263700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想对英雄黄继光说些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866880" y="515952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01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0" y="0"/>
            <a:ext cx="4038480" cy="6798240"/>
          </a:xfrm>
          <a:prstGeom prst="rect">
            <a:avLst/>
          </a:prstGeom>
          <a:solidFill>
            <a:srgbClr val="bbe0e3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黄继光，我想对您说：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华文行楷"/>
              </a:rPr>
              <a:t>—————————————————————————————————————————————————————————————————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719280" y="476280"/>
            <a:ext cx="84247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永恒（献给黄继光）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在那千钧一发的时刻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你的胸膛是一道胜利的高墙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敌人罪恶的枪口被堵住了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你生命的火花像长虹一样闪耀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你死得那样年轻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却活得那样久长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谁说庄严的刹那不是永恒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响亮的名字永远不会磨灭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和平塔将刻下你不朽的功勋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在人类的历史上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也同那些辉煌的名字一起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 放射光芒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模板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4"/>
          <p:cNvGrpSpPr/>
          <p:nvPr/>
        </p:nvGrpSpPr>
        <p:grpSpPr>
          <a:xfrm>
            <a:off x="1106640" y="3180240"/>
            <a:ext cx="2393640" cy="1937520"/>
            <a:chOff x="1106640" y="3180240"/>
            <a:chExt cx="2393640" cy="1937520"/>
          </a:xfrm>
        </p:grpSpPr>
        <p:sp>
          <p:nvSpPr>
            <p:cNvPr id="106" name="AutoShape 5"/>
            <p:cNvSpPr/>
            <p:nvPr/>
          </p:nvSpPr>
          <p:spPr>
            <a:xfrm rot="912000">
              <a:off x="1258920" y="3428640"/>
              <a:ext cx="2089080" cy="1440000"/>
            </a:xfrm>
            <a:prstGeom prst="cloudCallout">
              <a:avLst>
                <a:gd name="adj1" fmla="val 91120"/>
                <a:gd name="adj2" fmla="val 3568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1906560" y="3866400"/>
              <a:ext cx="127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工具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7"/>
          <p:cNvGrpSpPr/>
          <p:nvPr/>
        </p:nvGrpSpPr>
        <p:grpSpPr>
          <a:xfrm>
            <a:off x="2446920" y="2069640"/>
            <a:ext cx="2449800" cy="2285280"/>
            <a:chOff x="2446920" y="2069640"/>
            <a:chExt cx="2449800" cy="2285280"/>
          </a:xfrm>
        </p:grpSpPr>
        <p:sp>
          <p:nvSpPr>
            <p:cNvPr id="109" name="AutoShape 8"/>
            <p:cNvSpPr/>
            <p:nvPr/>
          </p:nvSpPr>
          <p:spPr>
            <a:xfrm rot="762600">
              <a:off x="2626920" y="2276280"/>
              <a:ext cx="2089080" cy="1871640"/>
            </a:xfrm>
            <a:prstGeom prst="cloudCallout">
              <a:avLst>
                <a:gd name="adj1" fmla="val 38083"/>
                <a:gd name="adj2" fmla="val 89699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2987640" y="2853000"/>
              <a:ext cx="136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</a:rPr>
                <a:t>自预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0"/>
          <p:cNvGrpSpPr/>
          <p:nvPr/>
        </p:nvGrpSpPr>
        <p:grpSpPr>
          <a:xfrm>
            <a:off x="4609080" y="2192040"/>
            <a:ext cx="2878200" cy="2259720"/>
            <a:chOff x="4609080" y="2192040"/>
            <a:chExt cx="2878200" cy="2259720"/>
          </a:xfrm>
        </p:grpSpPr>
        <p:sp>
          <p:nvSpPr>
            <p:cNvPr id="112" name="AutoShape 11"/>
            <p:cNvSpPr/>
            <p:nvPr/>
          </p:nvSpPr>
          <p:spPr>
            <a:xfrm rot="1155600">
              <a:off x="4787640" y="2565360"/>
              <a:ext cx="2520360" cy="1513080"/>
            </a:xfrm>
            <a:prstGeom prst="cloudCallout">
              <a:avLst>
                <a:gd name="adj1" fmla="val -26865"/>
                <a:gd name="adj2" fmla="val 77236"/>
              </a:avLst>
            </a:prstGeom>
            <a:solidFill>
              <a:srgbClr val="66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5381280" y="3007080"/>
              <a:ext cx="117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Arial"/>
                </a:rPr>
                <a:t>疏文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3"/>
          <p:cNvSpPr/>
          <p:nvPr/>
        </p:nvSpPr>
        <p:spPr>
          <a:xfrm>
            <a:off x="8748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816200" y="1994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5"/>
          <p:cNvGrpSpPr/>
          <p:nvPr/>
        </p:nvGrpSpPr>
        <p:grpSpPr>
          <a:xfrm>
            <a:off x="1042920" y="1989000"/>
            <a:ext cx="2232000" cy="934920"/>
            <a:chOff x="1042920" y="1989000"/>
            <a:chExt cx="2232000" cy="934920"/>
          </a:xfrm>
        </p:grpSpPr>
        <p:sp>
          <p:nvSpPr>
            <p:cNvPr id="117" name="AutoShape 16"/>
            <p:cNvSpPr/>
            <p:nvPr/>
          </p:nvSpPr>
          <p:spPr>
            <a:xfrm>
              <a:off x="1042920" y="1989000"/>
              <a:ext cx="2232000" cy="934920"/>
            </a:xfrm>
            <a:prstGeom prst="cloudCallout">
              <a:avLst>
                <a:gd name="adj1" fmla="val 50069"/>
                <a:gd name="adj2" fmla="val 60185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1474560" y="2205000"/>
              <a:ext cx="12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读写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8"/>
          <p:cNvSpPr/>
          <p:nvPr/>
        </p:nvSpPr>
        <p:spPr>
          <a:xfrm>
            <a:off x="383220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2556000" y="981000"/>
            <a:ext cx="2087280" cy="1079640"/>
            <a:chOff x="2556000" y="981000"/>
            <a:chExt cx="2087280" cy="1079640"/>
          </a:xfrm>
        </p:grpSpPr>
        <p:sp>
          <p:nvSpPr>
            <p:cNvPr id="121" name="AutoShape 20"/>
            <p:cNvSpPr/>
            <p:nvPr/>
          </p:nvSpPr>
          <p:spPr>
            <a:xfrm>
              <a:off x="2556000" y="981000"/>
              <a:ext cx="2087280" cy="1079640"/>
            </a:xfrm>
            <a:prstGeom prst="cloudCallout">
              <a:avLst>
                <a:gd name="adj1" fmla="val -6805"/>
                <a:gd name="adj2" fmla="val 88527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>
              <a:off x="2987280" y="128412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学品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4427640" y="836640"/>
            <a:ext cx="2087640" cy="1079640"/>
            <a:chOff x="4427640" y="836640"/>
            <a:chExt cx="2087640" cy="1079640"/>
          </a:xfrm>
        </p:grpSpPr>
        <p:sp>
          <p:nvSpPr>
            <p:cNvPr id="124" name="AutoShape 23"/>
            <p:cNvSpPr/>
            <p:nvPr/>
          </p:nvSpPr>
          <p:spPr>
            <a:xfrm>
              <a:off x="4427640" y="836640"/>
              <a:ext cx="2087640" cy="1079640"/>
            </a:xfrm>
            <a:prstGeom prst="cloudCallout">
              <a:avLst>
                <a:gd name="adj1" fmla="val -59962"/>
                <a:gd name="adj2" fmla="val 71324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4"/>
            <p:cNvSpPr/>
            <p:nvPr/>
          </p:nvSpPr>
          <p:spPr>
            <a:xfrm>
              <a:off x="4714920" y="10526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互启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5"/>
          <p:cNvGrpSpPr/>
          <p:nvPr/>
        </p:nvGrpSpPr>
        <p:grpSpPr>
          <a:xfrm>
            <a:off x="5867280" y="1413000"/>
            <a:ext cx="1873080" cy="863640"/>
            <a:chOff x="5867280" y="1413000"/>
            <a:chExt cx="1873080" cy="863640"/>
          </a:xfrm>
        </p:grpSpPr>
        <p:sp>
          <p:nvSpPr>
            <p:cNvPr id="127" name="AutoShape 26"/>
            <p:cNvSpPr/>
            <p:nvPr/>
          </p:nvSpPr>
          <p:spPr>
            <a:xfrm>
              <a:off x="5867280" y="1413000"/>
              <a:ext cx="1873080" cy="863640"/>
            </a:xfrm>
            <a:prstGeom prst="cloudCallout">
              <a:avLst>
                <a:gd name="adj1" fmla="val -42120"/>
                <a:gd name="adj2" fmla="val 97402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7"/>
            <p:cNvSpPr/>
            <p:nvPr/>
          </p:nvSpPr>
          <p:spPr>
            <a:xfrm>
              <a:off x="6156360" y="1658880"/>
              <a:ext cx="127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互交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8"/>
          <p:cNvGrpSpPr/>
          <p:nvPr/>
        </p:nvGrpSpPr>
        <p:grpSpPr>
          <a:xfrm>
            <a:off x="6732720" y="2060640"/>
            <a:ext cx="1834920" cy="936720"/>
            <a:chOff x="6732720" y="2060640"/>
            <a:chExt cx="1834920" cy="936720"/>
          </a:xfrm>
        </p:grpSpPr>
        <p:sp>
          <p:nvSpPr>
            <p:cNvPr id="130" name="AutoShape 29"/>
            <p:cNvSpPr/>
            <p:nvPr/>
          </p:nvSpPr>
          <p:spPr>
            <a:xfrm>
              <a:off x="6732720" y="2060640"/>
              <a:ext cx="1834920" cy="936720"/>
            </a:xfrm>
            <a:prstGeom prst="cloudCallout">
              <a:avLst>
                <a:gd name="adj1" fmla="val -74740"/>
                <a:gd name="adj2" fmla="val 48347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30"/>
            <p:cNvSpPr/>
            <p:nvPr/>
          </p:nvSpPr>
          <p:spPr>
            <a:xfrm>
              <a:off x="7019640" y="2293920"/>
              <a:ext cx="15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体情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1"/>
          <p:cNvGrpSpPr/>
          <p:nvPr/>
        </p:nvGrpSpPr>
        <p:grpSpPr>
          <a:xfrm>
            <a:off x="6983280" y="2997360"/>
            <a:ext cx="2160720" cy="1079280"/>
            <a:chOff x="6983280" y="2997360"/>
            <a:chExt cx="2160720" cy="1079280"/>
          </a:xfrm>
        </p:grpSpPr>
        <p:sp>
          <p:nvSpPr>
            <p:cNvPr id="133" name="AutoShape 32"/>
            <p:cNvSpPr/>
            <p:nvPr/>
          </p:nvSpPr>
          <p:spPr>
            <a:xfrm>
              <a:off x="6983280" y="2997360"/>
              <a:ext cx="2160720" cy="1079280"/>
            </a:xfrm>
            <a:prstGeom prst="cloudCallout">
              <a:avLst>
                <a:gd name="adj1" fmla="val -58597"/>
                <a:gd name="adj2" fmla="val -51296"/>
              </a:avLst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3"/>
            <p:cNvSpPr/>
            <p:nvPr/>
          </p:nvSpPr>
          <p:spPr>
            <a:xfrm>
              <a:off x="7199280" y="318780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感人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34"/>
          <p:cNvGrpSpPr/>
          <p:nvPr/>
        </p:nvGrpSpPr>
        <p:grpSpPr>
          <a:xfrm>
            <a:off x="3132000" y="4059360"/>
            <a:ext cx="2755800" cy="2798640"/>
            <a:chOff x="3132000" y="4059360"/>
            <a:chExt cx="2755800" cy="2798640"/>
          </a:xfrm>
        </p:grpSpPr>
        <p:sp>
          <p:nvSpPr>
            <p:cNvPr id="136" name="未知"/>
            <p:cNvSpPr/>
            <p:nvPr/>
          </p:nvSpPr>
          <p:spPr>
            <a:xfrm>
              <a:off x="5005080" y="4102200"/>
              <a:ext cx="648000" cy="606600"/>
            </a:xfrm>
            <a:custGeom>
              <a:avLst/>
              <a:gdLst/>
              <a:ahLst/>
              <a:rect l="l" t="t" r="r" b="b"/>
              <a:pathLst>
                <a:path w="638" h="625">
                  <a:moveTo>
                    <a:pt x="70" y="0"/>
                  </a:moveTo>
                  <a:cubicBezTo>
                    <a:pt x="60" y="47"/>
                    <a:pt x="0" y="187"/>
                    <a:pt x="7" y="288"/>
                  </a:cubicBezTo>
                  <a:cubicBezTo>
                    <a:pt x="14" y="389"/>
                    <a:pt x="41" y="591"/>
                    <a:pt x="111" y="608"/>
                  </a:cubicBezTo>
                  <a:cubicBezTo>
                    <a:pt x="181" y="625"/>
                    <a:pt x="342" y="456"/>
                    <a:pt x="430" y="392"/>
                  </a:cubicBezTo>
                  <a:cubicBezTo>
                    <a:pt x="518" y="328"/>
                    <a:pt x="595" y="259"/>
                    <a:pt x="638" y="224"/>
                  </a:cubicBezTo>
                </a:path>
              </a:pathLst>
            </a:custGeom>
            <a:noFill/>
            <a:ln w="15228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5148000" y="4584960"/>
              <a:ext cx="739800" cy="2273040"/>
            </a:xfrm>
            <a:custGeom>
              <a:avLst/>
              <a:gdLst/>
              <a:ahLst/>
              <a:rect l="l" t="t" r="r" b="b"/>
              <a:pathLst>
                <a:path w="485" h="1536">
                  <a:moveTo>
                    <a:pt x="17" y="1536"/>
                  </a:moveTo>
                  <a:cubicBezTo>
                    <a:pt x="17" y="1403"/>
                    <a:pt x="0" y="935"/>
                    <a:pt x="17" y="736"/>
                  </a:cubicBezTo>
                  <a:cubicBezTo>
                    <a:pt x="34" y="537"/>
                    <a:pt x="43" y="467"/>
                    <a:pt x="121" y="344"/>
                  </a:cubicBezTo>
                  <a:cubicBezTo>
                    <a:pt x="199" y="221"/>
                    <a:pt x="409" y="71"/>
                    <a:pt x="485" y="0"/>
                  </a:cubicBezTo>
                </a:path>
              </a:pathLst>
            </a:custGeom>
            <a:noFill/>
            <a:ln w="15228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3132000" y="4419720"/>
              <a:ext cx="947880" cy="2438280"/>
            </a:xfrm>
            <a:custGeom>
              <a:avLst/>
              <a:gdLst/>
              <a:ahLst/>
              <a:rect l="l" t="t" r="r" b="b"/>
              <a:pathLst>
                <a:path w="493" h="1536">
                  <a:moveTo>
                    <a:pt x="0" y="0"/>
                  </a:moveTo>
                  <a:cubicBezTo>
                    <a:pt x="72" y="96"/>
                    <a:pt x="355" y="320"/>
                    <a:pt x="424" y="576"/>
                  </a:cubicBezTo>
                  <a:cubicBezTo>
                    <a:pt x="493" y="832"/>
                    <a:pt x="418" y="1336"/>
                    <a:pt x="416" y="1536"/>
                  </a:cubicBezTo>
                </a:path>
              </a:pathLst>
            </a:custGeom>
            <a:noFill/>
            <a:ln w="15228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3636720" y="4059360"/>
              <a:ext cx="936720" cy="576360"/>
            </a:xfrm>
            <a:custGeom>
              <a:avLst/>
              <a:gdLst/>
              <a:ahLst/>
              <a:rect l="l" t="t" r="r" b="b"/>
              <a:pathLst>
                <a:path w="720" h="535">
                  <a:moveTo>
                    <a:pt x="0" y="152"/>
                  </a:moveTo>
                  <a:cubicBezTo>
                    <a:pt x="44" y="184"/>
                    <a:pt x="185" y="281"/>
                    <a:pt x="264" y="344"/>
                  </a:cubicBezTo>
                  <a:cubicBezTo>
                    <a:pt x="343" y="407"/>
                    <a:pt x="414" y="535"/>
                    <a:pt x="472" y="528"/>
                  </a:cubicBezTo>
                  <a:cubicBezTo>
                    <a:pt x="530" y="521"/>
                    <a:pt x="570" y="388"/>
                    <a:pt x="611" y="300"/>
                  </a:cubicBezTo>
                  <a:cubicBezTo>
                    <a:pt x="652" y="212"/>
                    <a:pt x="697" y="62"/>
                    <a:pt x="720" y="0"/>
                  </a:cubicBezTo>
                </a:path>
              </a:pathLst>
            </a:custGeom>
            <a:noFill/>
            <a:ln w="15228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9"/>
            <p:cNvSpPr/>
            <p:nvPr/>
          </p:nvSpPr>
          <p:spPr>
            <a:xfrm>
              <a:off x="4211640" y="4942080"/>
              <a:ext cx="595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方正姚体"/>
                </a:rPr>
                <a:t>记叙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40"/>
          <p:cNvSpPr/>
          <p:nvPr/>
        </p:nvSpPr>
        <p:spPr>
          <a:xfrm>
            <a:off x="468360" y="24098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1"/>
          <p:cNvGrpSpPr/>
          <p:nvPr/>
        </p:nvGrpSpPr>
        <p:grpSpPr>
          <a:xfrm>
            <a:off x="0" y="3141720"/>
            <a:ext cx="1835280" cy="934920"/>
            <a:chOff x="0" y="3141720"/>
            <a:chExt cx="1835280" cy="934920"/>
          </a:xfrm>
        </p:grpSpPr>
        <p:sp>
          <p:nvSpPr>
            <p:cNvPr id="143" name="AutoShape 42"/>
            <p:cNvSpPr/>
            <p:nvPr/>
          </p:nvSpPr>
          <p:spPr>
            <a:xfrm>
              <a:off x="0" y="3141720"/>
              <a:ext cx="1835280" cy="934920"/>
            </a:xfrm>
            <a:prstGeom prst="cloudCallout">
              <a:avLst>
                <a:gd name="adj1" fmla="val 49569"/>
                <a:gd name="adj2" fmla="val 78861"/>
              </a:avLst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43"/>
            <p:cNvSpPr/>
            <p:nvPr/>
          </p:nvSpPr>
          <p:spPr>
            <a:xfrm>
              <a:off x="250920" y="335772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吐心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44"/>
          <p:cNvGrpSpPr/>
          <p:nvPr/>
        </p:nvGrpSpPr>
        <p:grpSpPr>
          <a:xfrm>
            <a:off x="395280" y="4365720"/>
            <a:ext cx="1654200" cy="1224000"/>
            <a:chOff x="395280" y="4365720"/>
            <a:chExt cx="1654200" cy="1224000"/>
          </a:xfrm>
        </p:grpSpPr>
        <p:sp>
          <p:nvSpPr>
            <p:cNvPr id="146" name="AutoShape 45"/>
            <p:cNvSpPr/>
            <p:nvPr/>
          </p:nvSpPr>
          <p:spPr>
            <a:xfrm>
              <a:off x="395280" y="4365720"/>
              <a:ext cx="1654200" cy="1224000"/>
            </a:xfrm>
            <a:prstGeom prst="cloudCallout">
              <a:avLst>
                <a:gd name="adj1" fmla="val 80231"/>
                <a:gd name="adj2" fmla="val -17314"/>
              </a:avLst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46"/>
            <p:cNvSpPr/>
            <p:nvPr/>
          </p:nvSpPr>
          <p:spPr>
            <a:xfrm>
              <a:off x="646200" y="4726080"/>
              <a:ext cx="11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后升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47"/>
          <p:cNvGrpSpPr/>
          <p:nvPr/>
        </p:nvGrpSpPr>
        <p:grpSpPr>
          <a:xfrm>
            <a:off x="6120000" y="3711240"/>
            <a:ext cx="2376720" cy="1669320"/>
            <a:chOff x="6120000" y="3711240"/>
            <a:chExt cx="2376720" cy="1669320"/>
          </a:xfrm>
        </p:grpSpPr>
        <p:sp>
          <p:nvSpPr>
            <p:cNvPr id="149" name="AutoShape 48"/>
            <p:cNvSpPr/>
            <p:nvPr/>
          </p:nvSpPr>
          <p:spPr>
            <a:xfrm rot="6163200">
              <a:off x="6696000" y="3465360"/>
              <a:ext cx="1224000" cy="2160360"/>
            </a:xfrm>
            <a:prstGeom prst="cloudCallout">
              <a:avLst>
                <a:gd name="adj1" fmla="val 38083"/>
                <a:gd name="adj2" fmla="val 89699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9"/>
            <p:cNvSpPr/>
            <p:nvPr/>
          </p:nvSpPr>
          <p:spPr>
            <a:xfrm rot="5400000">
              <a:off x="7264800" y="4233600"/>
              <a:ext cx="548640" cy="3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0"/>
          <p:cNvGrpSpPr/>
          <p:nvPr/>
        </p:nvGrpSpPr>
        <p:grpSpPr>
          <a:xfrm>
            <a:off x="4743360" y="4905720"/>
            <a:ext cx="1961640" cy="1077840"/>
            <a:chOff x="4743360" y="4905720"/>
            <a:chExt cx="1961640" cy="1077840"/>
          </a:xfrm>
        </p:grpSpPr>
        <p:sp>
          <p:nvSpPr>
            <p:cNvPr id="152" name="AutoShape 51"/>
            <p:cNvSpPr/>
            <p:nvPr/>
          </p:nvSpPr>
          <p:spPr>
            <a:xfrm rot="11205000">
              <a:off x="4787640" y="5012640"/>
              <a:ext cx="1873080" cy="863640"/>
            </a:xfrm>
            <a:prstGeom prst="cloudCallout">
              <a:avLst>
                <a:gd name="adj1" fmla="val -42120"/>
                <a:gd name="adj2" fmla="val 97402"/>
              </a:avLst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52"/>
            <p:cNvSpPr/>
            <p:nvPr/>
          </p:nvSpPr>
          <p:spPr>
            <a:xfrm rot="11205000">
              <a:off x="5095440" y="5234760"/>
              <a:ext cx="127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53"/>
          <p:cNvGrpSpPr/>
          <p:nvPr/>
        </p:nvGrpSpPr>
        <p:grpSpPr>
          <a:xfrm>
            <a:off x="6638760" y="5195520"/>
            <a:ext cx="2060280" cy="1505160"/>
            <a:chOff x="6638760" y="5195520"/>
            <a:chExt cx="2060280" cy="1505160"/>
          </a:xfrm>
        </p:grpSpPr>
        <p:sp>
          <p:nvSpPr>
            <p:cNvPr id="155" name="AutoShape 54"/>
            <p:cNvSpPr/>
            <p:nvPr/>
          </p:nvSpPr>
          <p:spPr>
            <a:xfrm rot="9472800">
              <a:off x="6732000" y="5515920"/>
              <a:ext cx="1873080" cy="863640"/>
            </a:xfrm>
            <a:prstGeom prst="cloudCallout">
              <a:avLst>
                <a:gd name="adj1" fmla="val -42120"/>
                <a:gd name="adj2" fmla="val 97402"/>
              </a:avLst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5"/>
            <p:cNvSpPr/>
            <p:nvPr/>
          </p:nvSpPr>
          <p:spPr>
            <a:xfrm rot="9472800">
              <a:off x="7032960" y="5734440"/>
              <a:ext cx="12776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6"/>
          <p:cNvSpPr/>
          <p:nvPr/>
        </p:nvSpPr>
        <p:spPr>
          <a:xfrm>
            <a:off x="6950160" y="4235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通文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7"/>
          <p:cNvSpPr/>
          <p:nvPr/>
        </p:nvSpPr>
        <p:spPr>
          <a:xfrm>
            <a:off x="5243040" y="515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勤思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8"/>
          <p:cNvSpPr/>
          <p:nvPr/>
        </p:nvSpPr>
        <p:spPr>
          <a:xfrm>
            <a:off x="7403760" y="573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究语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395280" y="549360"/>
            <a:ext cx="381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记叙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工具书  自预习  疏文句  通文意  勤思考  究语意  感人物  体感情  互交流  互启发  学品质  读写合  吐心声  后升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78A-AD02-4F8B-8929-E025501D8A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5919840" y="2924280"/>
            <a:ext cx="3139920" cy="3943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79280" y="260280"/>
            <a:ext cx="871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学习黄继光英雄的优秀品质，受到爱国主义、国际主义教育。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有感情地朗读课文。理解课文内容，了解课文叙述的顺序。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、体会比喻手法在表达上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11280" y="549360"/>
            <a:ext cx="820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小组合作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自由读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——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自然段，找出哪一个自然段是写黄继光主动请战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黄继光在什么时候，什么情况下主动请战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我军在进攻开始时，遇到了什么困难？画出相关的句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39640" y="2205000"/>
            <a:ext cx="71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黄继光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愤怒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注视着敌人的火力点，他转过身来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坚定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对指导员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指导员，请把这个任务交给我吧 。”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指导员紧握着黄继光的手，说：“好，我相信你一定能完成这个光荣而艰巨的任务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7"/>
          <p:cNvSpPr/>
          <p:nvPr/>
        </p:nvSpPr>
        <p:spPr>
          <a:xfrm>
            <a:off x="1187280" y="25639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dream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250920" y="484200"/>
            <a:ext cx="88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小组合作学习目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自由读（</a:t>
            </a: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1——5</a:t>
            </a: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）自然段，找出哪一个自然段是写黄继光主动请战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黄继光在什么时候，什么情况下主动请战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我军在进攻开始时，遇到了什么困难？画出相关的句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7g8t5gz9p9z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684360" y="620640"/>
            <a:ext cx="7991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黄继光所在的营持续战斗了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天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夜，第五天夜里接到上级的命令，要在黎明之前夺下敌人的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597.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高地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907560"/>
            <a:ext cx="5602320" cy="26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zh-CN" sz="4400" spc="-1" strike="noStrike">
                <a:solidFill>
                  <a:srgbClr val="080300"/>
                </a:solidFill>
                <a:latin typeface="Arial"/>
                <a:ea typeface="楷体"/>
              </a:rPr>
              <a:t>战士们屡次突击，都被比雨点还密的枪弹压了回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5370480" y="838080"/>
            <a:ext cx="3773520" cy="4687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036880" y="15717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比雨点还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18900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子比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321300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ccff"/>
                </a:solidFill>
                <a:latin typeface="Arial"/>
              </a:rPr>
              <a:t>、战士们屡次突击，都被敌人的枪弹压了回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348000" y="98100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300"/>
                </a:solidFill>
                <a:latin typeface="Arial"/>
                <a:ea typeface="楷体"/>
              </a:rPr>
              <a:t>黄继光带上两个战士，拿了手雷，喊了一声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：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"/>
              </a:rPr>
              <a:t>让祖国人民听我们胜利的消息吧！</a:t>
            </a:r>
            <a:r>
              <a:rPr b="1" lang="zh-CN" sz="4000" spc="-1" strike="noStrike">
                <a:solidFill>
                  <a:srgbClr val="ff3300"/>
                </a:solidFill>
                <a:latin typeface="楷体"/>
                <a:ea typeface="楷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3139920" cy="473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8:09:4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5:10Z</dcterms:modified>
  <cp:revision>2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