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FAF9-5A42-479E-BE94-7BB6942CC6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E1A3-133F-438C-B796-AEEF66644D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557-02C9-4B20-B021-C7C0067D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1CF-661F-489C-BD81-7AD319AE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08F-4927-4D37-B407-1531636D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02A-9B9F-402E-97DB-CE6D2E2B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2F2-6F9E-41B4-92A8-53CF2330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527-F79F-4A0A-BBCC-A7529E65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013-F361-45F6-ACF2-49BD8DA5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933-EBA3-4A4D-ADB9-3AA3C4E8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DB4-F8B8-4A86-9B94-73F56620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A60-949F-41D1-9F91-4785E41B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B56-8484-49C2-8EAE-C516CB0F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F0B-2A33-4F1F-B4DE-BB3F1346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834D-6AFD-42B9-807E-87CCC23FC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446040" y="1773360"/>
            <a:ext cx="360036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迷你简汉真广标"/>
              </a:rPr>
              <a:t>16 </a:t>
            </a:r>
            <a:r>
              <a:rPr b="1" i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迷你简汉真广标"/>
              </a:rPr>
              <a:t>贺 年 卡</a:t>
            </a:r>
            <a:endParaRPr b="1" i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迷你简汉真广标"/>
              <a:ea typeface="迷你简汉真广标"/>
            </a:endParaRPr>
          </a:p>
        </p:txBody>
      </p:sp>
      <p:pic>
        <p:nvPicPr>
          <p:cNvPr id="49" name="Picture 10" descr="6"/>
          <p:cNvPicPr/>
          <p:nvPr/>
        </p:nvPicPr>
        <p:blipFill>
          <a:blip r:embed="rId1"/>
          <a:stretch/>
        </p:blipFill>
        <p:spPr>
          <a:xfrm>
            <a:off x="4229280" y="652320"/>
            <a:ext cx="4806720" cy="536904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483920" y="6165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亲爱的小朋友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学习了生字，我们来读读这篇童话故事吧，首先看到这篇课文的标题，你们想知道什么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4500720" cy="41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4649760" y="2781360"/>
            <a:ext cx="4494240" cy="395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0" y="4941720"/>
            <a:ext cx="457200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4"/>
          <a:stretch/>
        </p:blipFill>
        <p:spPr>
          <a:xfrm>
            <a:off x="4572000" y="836640"/>
            <a:ext cx="4572000" cy="1944720"/>
          </a:xfrm>
          <a:prstGeom prst="rect">
            <a:avLst/>
          </a:prstGeom>
          <a:ln w="0">
            <a:noFill/>
          </a:ln>
        </p:spPr>
      </p:pic>
      <p:sp>
        <p:nvSpPr>
          <p:cNvPr id="89" name="WordArt 9"/>
          <p:cNvSpPr txBox="1"/>
          <p:nvPr/>
        </p:nvSpPr>
        <p:spPr>
          <a:xfrm>
            <a:off x="3419640" y="189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文欣赏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916360" y="549360"/>
            <a:ext cx="38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读 一 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826920" y="220500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i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124000" y="220500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k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780000" y="2276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j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948360" y="2276640"/>
            <a:ext cx="165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shē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692360" y="4005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yó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427640" y="4005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y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95280" y="2852640"/>
            <a:ext cx="32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贺  年  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780000" y="2852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几 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6732720" y="2852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出 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187280" y="4653000"/>
            <a:ext cx="29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绿 油 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427640" y="4653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已 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80280" y="404640"/>
            <a:ext cx="182628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小猫寄给小鸡的贺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6480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-496080" y="189000"/>
            <a:ext cx="1826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小鸡寄给小猫的贺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66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091200" cy="3961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2311920" y="5179680"/>
            <a:ext cx="4844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小鸡在什么时候收到了小猫的贺年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收到贺年卡小鸡是什么样的心情？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044720" y="333000"/>
            <a:ext cx="4321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亲爱的小鸡，春天就要到了，我很想你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99cc00"/>
                </a:solidFill>
                <a:latin typeface="Arial"/>
              </a:rPr>
              <a:t>亲爱的小猫，春天已经到了，我也很想你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541800" y="620280"/>
            <a:ext cx="37450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维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1916280"/>
            <a:ext cx="698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、小鸭、小狗、小马也给朋友写贺年片，它们会怎样写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、制作一张贺年片送给你的小伙伴，把新年的祝福送给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c_1_1_1_01_clip_image002_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9" descr="1 - 副本 - 副本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5 - 副本"/>
          <p:cNvPicPr/>
          <p:nvPr/>
        </p:nvPicPr>
        <p:blipFill>
          <a:blip r:embed="rId2"/>
          <a:stretch/>
        </p:blipFill>
        <p:spPr>
          <a:xfrm>
            <a:off x="4932360" y="0"/>
            <a:ext cx="47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58920" y="2060640"/>
            <a:ext cx="640872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新年到了，人们经常会用贺年片送上祝福。小朋友，你给谁送过贺年片呢？</a:t>
            </a:r>
            <a:br>
              <a:rPr sz="4800"/>
            </a:b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3 - 副本 - 副本"/>
          <p:cNvPicPr/>
          <p:nvPr/>
        </p:nvPicPr>
        <p:blipFill>
          <a:blip r:embed="rId1"/>
          <a:stretch/>
        </p:blipFill>
        <p:spPr>
          <a:xfrm>
            <a:off x="-252360" y="-24300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"/>
          <p:cNvSpPr/>
          <p:nvPr/>
        </p:nvSpPr>
        <p:spPr>
          <a:xfrm>
            <a:off x="-106200" y="6391440"/>
            <a:ext cx="60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692360" y="1341360"/>
            <a:ext cx="568944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，下次再见！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8E4A-24CB-4E8A-8613-9E5D277D94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142280" y="1557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>
            <a:hlinkClick r:id="rId2" action="ppaction://hlinksldjump"/>
          </p:cNvPr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408120" y="69228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142280" y="1557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>
            <a:hlinkClick r:id="rId2" action="ppaction://hlinksldjump"/>
          </p:cNvPr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72096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卡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142280" y="1557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>
            <a:hlinkClick r:id="rId2" action="ppaction://hlinksldjump"/>
          </p:cNvPr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72096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几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142280" y="1557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>
            <a:hlinkClick r:id="rId2" action="ppaction://hlinksldjump"/>
          </p:cNvPr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47976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声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142280" y="1557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>
            <a:hlinkClick r:id="rId2" action="ppaction://hlinksldjump"/>
          </p:cNvPr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33684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油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田"/>
          <p:cNvPicPr/>
          <p:nvPr/>
        </p:nvPicPr>
        <p:blipFill>
          <a:blip r:embed="rId1"/>
          <a:stretch/>
        </p:blipFill>
        <p:spPr>
          <a:xfrm>
            <a:off x="1908000" y="119700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142280" y="1557360"/>
            <a:ext cx="68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263720" y="170028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>
            <a:hlinkClick r:id="rId2" action="ppaction://hlinksldjump"/>
          </p:cNvPr>
          <p:cNvSpPr/>
          <p:nvPr/>
        </p:nvSpPr>
        <p:spPr>
          <a:xfrm>
            <a:off x="7162920" y="39625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336840" y="105264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已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5256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0" y="62064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一认，写一写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7:30:07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1:40:48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