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11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508D-9400-4510-87BB-CEBC68011D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FA41-F36D-476A-8FA4-7F8A56263D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B4C-85AC-443B-86E6-4910AE37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FDD6-0721-48A0-A8D3-9C14E6A9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2FC-8205-48C3-8DA8-B7EC631A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BDF-9746-4510-BB40-9D6609F9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7B9-0289-43CB-AA5A-1DE6D5B9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443-F1AB-41EC-8051-4AFE1707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33B-0686-443D-97F6-21EBCAC5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83E-75AD-437F-8F08-1A4FEDC6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956-82A2-46AE-87C8-7115E1CB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01D-A6D0-442D-BDF2-0B35028B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6E1-78F7-44CE-9A7B-EBCE1E75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32B0-1425-46CE-B75D-443CBF3A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4020-42C4-4F17-ADB2-0388894501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472120" y="1214280"/>
            <a:ext cx="420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</a:rPr>
              <a:t>25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课 和平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131960" y="4495680"/>
            <a:ext cx="6775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楷体_GB2312"/>
                <a:hlinkClick r:id="rId2" action="ppaction://hlinksldjump"/>
              </a:rPr>
              <a:t>●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hlinkClick r:id="rId3" action="ppaction://hlinksldjump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矩形 5" descr=""/>
          <p:cNvPicPr/>
          <p:nvPr/>
        </p:nvPicPr>
        <p:blipFill>
          <a:blip r:embed="rId4"/>
          <a:stretch/>
        </p:blipFill>
        <p:spPr>
          <a:xfrm>
            <a:off x="1781280" y="601992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791160" y="1690560"/>
            <a:ext cx="15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毕加索一边安慰伤心的老人，一边挥笔画了一只鸽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216160" y="380988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＿＿＿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＿＿＿＿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一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＿＿＿＿＿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611280" y="30481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毕加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002040" y="228924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画鸽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075280" y="22892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纪念孩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2133720" y="243828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5800" y="1905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1949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年，毕加索把这幅象征和平的画献给了世界和平大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6095880" y="2362320"/>
            <a:ext cx="22100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762120" y="2743200"/>
            <a:ext cx="990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11280" y="30481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毕加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002040" y="228924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画鸽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075280" y="22892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纪念孩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002040" y="38703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献鸽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075280" y="38703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象征和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2133720" y="243828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722240" y="129528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占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站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411880" y="129528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活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话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722240" y="342900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刀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力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411880" y="342900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边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这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607040" y="5335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比一比，再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665360" y="1136520"/>
            <a:ext cx="5895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鸽  攻  忧  念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371600" y="743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ɡ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102280" y="743040"/>
            <a:ext cx="9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yō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123680" y="76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n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484280" y="3935520"/>
            <a:ext cx="6467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杀  悲  痛  献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2193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h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179520" y="35053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ē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276720" y="7621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ɡō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000400" y="35053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ò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6940440" y="350532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hockwaveFlash1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ShockwaveFlash2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ShockwaveFlash3" descr=""/>
          <p:cNvPicPr/>
          <p:nvPr/>
        </p:nvPicPr>
        <p:blipFill>
          <a:blip r:embed="rId4"/>
          <a:stretch/>
        </p:blipFill>
        <p:spPr>
          <a:xfrm>
            <a:off x="52578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0" name="ShockwaveFlash4" descr=""/>
          <p:cNvPicPr/>
          <p:nvPr/>
        </p:nvPicPr>
        <p:blipFill>
          <a:blip r:embed="rId5"/>
          <a:stretch/>
        </p:blipFill>
        <p:spPr>
          <a:xfrm>
            <a:off x="71629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1" name="ShockwaveFlash6" descr=""/>
          <p:cNvPicPr/>
          <p:nvPr/>
        </p:nvPicPr>
        <p:blipFill>
          <a:blip r:embed="rId6"/>
          <a:stretch/>
        </p:blipFill>
        <p:spPr>
          <a:xfrm>
            <a:off x="13716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ShockwaveFlash7" descr=""/>
          <p:cNvPicPr/>
          <p:nvPr/>
        </p:nvPicPr>
        <p:blipFill>
          <a:blip r:embed="rId7"/>
          <a:stretch/>
        </p:blipFill>
        <p:spPr>
          <a:xfrm>
            <a:off x="32004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ShockwaveFlash8" descr=""/>
          <p:cNvPicPr/>
          <p:nvPr/>
        </p:nvPicPr>
        <p:blipFill>
          <a:blip r:embed="rId8"/>
          <a:stretch/>
        </p:blipFill>
        <p:spPr>
          <a:xfrm>
            <a:off x="518148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ShockwaveFlash9" descr=""/>
          <p:cNvPicPr/>
          <p:nvPr/>
        </p:nvPicPr>
        <p:blipFill>
          <a:blip r:embed="rId9"/>
          <a:stretch/>
        </p:blipFill>
        <p:spPr>
          <a:xfrm>
            <a:off x="7086600" y="51055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3733920" y="17064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毕加索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(188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197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西班牙画家。自幼喜好艺术，毕生致力于绘画革新。他利用西方现代哲学、心理学、自然科学的成果，并吸收民族民间艺术的营养，创造出了很有表现感的艺术语言；他的极端变形和夸张的艺术手法，在表现畸形的社会和扭曲了的人与人之间的关系方面，有独特的力量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代初，他积极参加保卫世界和平运动，他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平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被选为巴黎保卫世界和平大会会标。现巴黎建有毕加索博物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bjwwgwb2008102823"/>
          <p:cNvPicPr/>
          <p:nvPr/>
        </p:nvPicPr>
        <p:blipFill>
          <a:blip r:embed="rId1"/>
          <a:stretch/>
        </p:blipFill>
        <p:spPr>
          <a:xfrm>
            <a:off x="457200" y="1295280"/>
            <a:ext cx="3095640" cy="466740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1"/>
          <p:cNvSpPr/>
          <p:nvPr/>
        </p:nvSpPr>
        <p:spPr>
          <a:xfrm>
            <a:off x="1052640" y="627048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84ddd924f198bb0a4c088d9e"/>
          <p:cNvPicPr/>
          <p:nvPr/>
        </p:nvPicPr>
        <p:blipFill>
          <a:blip r:embed="rId1"/>
          <a:stretch/>
        </p:blipFill>
        <p:spPr>
          <a:xfrm>
            <a:off x="457200" y="304920"/>
            <a:ext cx="5486400" cy="4306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7d2144ed24f9d0d5b21cb145"/>
          <p:cNvPicPr/>
          <p:nvPr/>
        </p:nvPicPr>
        <p:blipFill>
          <a:blip r:embed="rId2"/>
          <a:stretch/>
        </p:blipFill>
        <p:spPr>
          <a:xfrm>
            <a:off x="6095880" y="4114800"/>
            <a:ext cx="2800440" cy="1990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2438640" y="5486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毕加索画的和平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7813-C6DC-49FA-9B63-61D4E1F304B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2"/>
          <p:cNvPicPr/>
          <p:nvPr/>
        </p:nvPicPr>
        <p:blipFill>
          <a:blip r:embed="rId1"/>
          <a:stretch/>
        </p:blipFill>
        <p:spPr>
          <a:xfrm>
            <a:off x="876240" y="380880"/>
            <a:ext cx="7391520" cy="5815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314600" y="624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鸽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223160" y="6248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平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01"/>
          <p:cNvPicPr/>
          <p:nvPr/>
        </p:nvPicPr>
        <p:blipFill>
          <a:blip r:embed="rId1"/>
          <a:stretch/>
        </p:blipFill>
        <p:spPr>
          <a:xfrm>
            <a:off x="2143080" y="304920"/>
            <a:ext cx="479124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71360" y="1755720"/>
            <a:ext cx="88012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194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月，希特勒法西斯匪徒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ɡōnɡ)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宋体"/>
                <a:hlinkClick r:id="rId2" action="ppaction://hlinksldjump"/>
              </a:rPr>
              <a:t>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zhà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了巴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一天，大画家毕加索忧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yōu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虑地坐在画室里。突然，邻居米什老伯捧着一只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3" action="ppaction://hlinksldjump"/>
              </a:rPr>
              <a:t>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sǐ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鸽子闯了进来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4" action="ppaction://hlinksldjump"/>
              </a:rPr>
              <a:t>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kū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诉着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我的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5" action="ppaction://hlinksldjump"/>
              </a:rPr>
              <a:t>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sū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子在给鸽子喂食时，被一群法西斯强盗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6" action="ppaction://hlinksldjump"/>
              </a:rPr>
              <a:t>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huó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活打死了，鸽子也死在他们的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7" action="ppaction://hlinksldjump"/>
              </a:rPr>
              <a:t>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āo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下。毕加索先生，求你画只鸽子，纪念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nià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我那惨遭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shā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害的小孙子吧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844080" y="304920"/>
            <a:ext cx="150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和平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ɡē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137160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28560" y="1266840"/>
            <a:ext cx="782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毕加索十分悲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bēi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ònɡ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，一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2" action="ppaction://hlinksldjump"/>
              </a:rPr>
              <a:t>边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biā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安慰伤心的老人，一边挥笔画了一只鸽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1949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年，毕加索把这幅象征和平的画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xià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给了世界和平大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57200" y="22860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194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月，希特勒法西斯匪徒攻占了巴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138560" y="6699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和平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5562720" y="3048120"/>
            <a:ext cx="2666880" cy="1523880"/>
          </a:xfrm>
          <a:prstGeom prst="cloudCallout">
            <a:avLst>
              <a:gd name="adj1" fmla="val 47560"/>
              <a:gd name="adj2" fmla="val 9489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你读懂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733920" y="119232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希特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889—1945)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德国纳粹党党魁，法西斯德国元首。是狂热的种族主义者和反犹主义者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被任命为德国总理，之后又确立法西斯独裁统治。他在执政后，在全国大搞白色恐怖，取缔除纳粹党外的一切政党，解散一切工会组织，大肆搜捕、迫害和屠杀共产党人、犹太人和一切反法西斯主义者。同时对外实行侵略政策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年占领捷克斯洛伐克，同年侵入波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挑起第二次世界大战，先后侵占北欧、西欧和东南欧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国。在德军占领区及德国本土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犹太人在他的指使下被杀，其他各族人民死于其屠刀下的不计其数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2—19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在斯大林格勒战役后德军节节败退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，希特勒自杀身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b3ba5d1655b7a46521a4e962"/>
          <p:cNvPicPr/>
          <p:nvPr/>
        </p:nvPicPr>
        <p:blipFill>
          <a:blip r:embed="rId1"/>
          <a:stretch/>
        </p:blipFill>
        <p:spPr>
          <a:xfrm>
            <a:off x="152280" y="1600200"/>
            <a:ext cx="350532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86200" y="277344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法西斯主义是一种最反动最野蛮的独裁制度和思想体系。对内实行恐怖统治，对外实行武力侵略和民族压迫。起源于意大利独裁者墨索里尼的法西斯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3fcf12f590cde624dcc4745c"/>
          <p:cNvPicPr/>
          <p:nvPr/>
        </p:nvPicPr>
        <p:blipFill>
          <a:blip r:embed="rId1"/>
          <a:stretch/>
        </p:blipFill>
        <p:spPr>
          <a:xfrm>
            <a:off x="457200" y="1562040"/>
            <a:ext cx="3191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04920" y="13906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一天，大画家毕加索忧虑地坐在画室里。突然，邻居米什老伯捧着一只死鸽子闯了进来，哭诉着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我的孙子在给鸽子喂食时，被一群法西斯强盗活活打死了，鸽子也死在他们的刀下。毕加索先生，求你画只鸽子，纪念我那惨遭杀害的小孙子吧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毕加索十分悲痛，一边安慰伤心的老人，一边挥笔画了一只鸽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5334120" y="0"/>
            <a:ext cx="2666880" cy="1523880"/>
          </a:xfrm>
          <a:prstGeom prst="cloudCallout">
            <a:avLst>
              <a:gd name="adj1" fmla="val 50773"/>
              <a:gd name="adj2" fmla="val 53541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说说毕加索为什么忧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3733920" y="182880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990720" y="3657600"/>
            <a:ext cx="2133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609480" y="4267080"/>
            <a:ext cx="2819520" cy="1447920"/>
          </a:xfrm>
          <a:prstGeom prst="wedgeRoundRectCallout">
            <a:avLst>
              <a:gd name="adj1" fmla="val -52703"/>
              <a:gd name="adj2" fmla="val 7247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“悲痛”是什么意思？“毕加索悲痛”与“毕加索十分悲痛”有什么区别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5867280" y="3733920"/>
            <a:ext cx="2667240" cy="1523880"/>
          </a:xfrm>
          <a:prstGeom prst="cloudCallout">
            <a:avLst>
              <a:gd name="adj1" fmla="val 50773"/>
              <a:gd name="adj2" fmla="val 53541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毕加索会怎样安慰老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3505320" y="3657600"/>
            <a:ext cx="5181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380880" y="403848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7:33:37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23:38:26Z</dcterms:modified>
  <cp:revision>1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