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8.jpeg" ContentType="image/jpeg"/>
  <Override PartName="/ppt/media/image5.png" ContentType="image/png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B048-04F4-4ED6-8BE8-E8EA064576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E12F-A6D1-4584-8BB7-29F02B64C9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502-D80E-4F5E-97B1-D3C42CB2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146-A97A-4517-A111-C51CF51D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BBA-241B-4F6A-93D8-D3708849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127-A92B-48BD-9F36-1DD6CCBA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454-0EB9-4ECA-B04B-E3D0B747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919-FF0C-4FA3-9258-11ED8D3E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264-894B-4F0B-A961-6A358AB7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D32-54D1-455D-987C-7305F0E8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F77-0EFE-4109-8822-EBBBA3FF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2BD-A6B4-4A28-BD35-FD78552A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9EC-2202-4D93-8CAF-85679C5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CAF-1138-4CB2-BAB2-BDE0C041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47C6-DB1D-4DE1-A1A5-5DDC34E49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山请请"/>
          <p:cNvPicPr/>
          <p:nvPr/>
        </p:nvPicPr>
        <p:blipFill>
          <a:blip r:embed="rId1"/>
          <a:srcRect l="0" t="47767" r="254" b="-544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27课-1"/>
          <p:cNvPicPr/>
          <p:nvPr/>
        </p:nvPicPr>
        <p:blipFill>
          <a:blip r:embed="rId2"/>
          <a:stretch/>
        </p:blipFill>
        <p:spPr>
          <a:xfrm>
            <a:off x="4606920" y="2924280"/>
            <a:ext cx="4537080" cy="3471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1647720" y="1773360"/>
            <a:ext cx="58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2060"/>
                </a:solidFill>
                <a:latin typeface="华文中宋"/>
                <a:ea typeface="华文中宋"/>
              </a:rPr>
              <a:t>好奇的孩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836360" y="60451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63640" y="1844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爱迪生小时候是一个什么样的孩子？用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画出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24000" y="18900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爱迪生小的时候，是一个对什么都好奇的孩子。他喜欢观察事物，又爱思考问题。他常常一个人坐在路旁，看大树怎样发出新芽，想枫叶为什么变红。他常常琢磨：为什么太阳总是从东方升起，在西边落下？为什么蓝色的天空中有朵朵白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476360" y="765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50920" y="1341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763640" y="1844640"/>
            <a:ext cx="71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从哪儿可以看出爱迪生喜欢观察事物，又爱思考问题？用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———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画出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24000" y="18900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爱迪生小的时候，是一个对什么都好奇的孩子。他喜欢观察事物，又爱思考问题。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常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一个人坐在路旁，看大树怎样发出新芽，想枫叶为什么变红。他常常琢磨：为什么太阳总是从东方升起，在西边落下？为什么蓝色的天空中有朵朵白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164360" y="21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50920" y="2708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———————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50920" y="4005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———————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95280" y="3429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———————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24000" y="4724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———————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24000" y="544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———————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24000" y="6093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922400" y="1690560"/>
            <a:ext cx="67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天，爱迪生突然不见了。爸爸急的四处寻找，后来才发现他蹲在鸡窝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0" y="184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③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在这儿干什么呢？”爸爸奇怪的问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0" y="29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在这儿孵小鸡呢。”爱迪生认真的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0" y="4365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爸爸笑着说：“傻孩子，你怎么能孵出小鸡呢？快出来吧！”爱迪生说：“母鸡能孵出小鸡，我为什么不能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80000" y="4797360"/>
            <a:ext cx="53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0" y="53006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755360" y="0"/>
            <a:ext cx="395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怎么能孵出小鸡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11280" y="692280"/>
            <a:ext cx="82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你不能孵出小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0" y="1557360"/>
            <a:ext cx="788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怎么能这样做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11280" y="242100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187280" y="242100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你不能这样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187280" y="2997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971640" y="371628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上课怎么能说话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468360" y="450864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187280" y="4581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你上课不能说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187280" y="5084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5651640" y="2205000"/>
            <a:ext cx="32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反问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山请请"/>
          <p:cNvPicPr/>
          <p:nvPr/>
        </p:nvPicPr>
        <p:blipFill>
          <a:blip r:embed="rId1"/>
          <a:srcRect l="0" t="47767" r="-562" b="-544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k3"/>
          <p:cNvPicPr/>
          <p:nvPr/>
        </p:nvPicPr>
        <p:blipFill>
          <a:blip r:embed="rId2"/>
          <a:stretch/>
        </p:blipFill>
        <p:spPr>
          <a:xfrm>
            <a:off x="1979640" y="3400560"/>
            <a:ext cx="4608360" cy="262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834920" y="3286080"/>
            <a:ext cx="5257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他喜欢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观察事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又爱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思考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duihua1"/>
          <p:cNvPicPr/>
          <p:nvPr/>
        </p:nvPicPr>
        <p:blipFill>
          <a:blip r:embed="rId3"/>
          <a:stretch/>
        </p:blipFill>
        <p:spPr>
          <a:xfrm>
            <a:off x="468360" y="4653000"/>
            <a:ext cx="1401840" cy="1768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uihua2"/>
          <p:cNvPicPr/>
          <p:nvPr/>
        </p:nvPicPr>
        <p:blipFill>
          <a:blip r:embed="rId4"/>
          <a:stretch/>
        </p:blipFill>
        <p:spPr>
          <a:xfrm>
            <a:off x="7408800" y="333360"/>
            <a:ext cx="1735200" cy="2590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k3"/>
          <p:cNvPicPr/>
          <p:nvPr/>
        </p:nvPicPr>
        <p:blipFill>
          <a:blip r:embed="rId5"/>
          <a:stretch/>
        </p:blipFill>
        <p:spPr>
          <a:xfrm>
            <a:off x="1979640" y="0"/>
            <a:ext cx="5257800" cy="3289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0920" y="981000"/>
            <a:ext cx="50421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爱迪生为什么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有那么多疑问？你从爱迪生身上学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"/>
          <p:cNvSpPr/>
          <p:nvPr/>
        </p:nvSpPr>
        <p:spPr>
          <a:xfrm>
            <a:off x="1870200" y="6492960"/>
            <a:ext cx="71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8_625_8b01949fea8ec9d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对话筐"/>
          <p:cNvPicPr/>
          <p:nvPr/>
        </p:nvPicPr>
        <p:blipFill>
          <a:blip r:embed="rId2"/>
          <a:stretch/>
        </p:blipFill>
        <p:spPr>
          <a:xfrm>
            <a:off x="900000" y="1628640"/>
            <a:ext cx="6840720" cy="4392720"/>
          </a:xfrm>
          <a:prstGeom prst="rect">
            <a:avLst/>
          </a:prstGeom>
          <a:ln w="0">
            <a:noFill/>
          </a:ln>
        </p:spPr>
      </p:pic>
      <p:sp>
        <p:nvSpPr>
          <p:cNvPr id="155" name="WordArt 8"/>
          <p:cNvSpPr txBox="1"/>
          <p:nvPr/>
        </p:nvSpPr>
        <p:spPr>
          <a:xfrm>
            <a:off x="2340000" y="1052640"/>
            <a:ext cx="4537080" cy="663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prstDash val="lgDashDotDot"/>
                  <a:round/>
                </a:ln>
                <a:solidFill>
                  <a:srgbClr val="ff6600"/>
                </a:solidFill>
                <a:latin typeface="宋体"/>
              </a:rPr>
              <a:t>小小讨论会</a:t>
            </a:r>
            <a:endParaRPr b="1" lang="en-US" sz="1800" spc="1" strike="noStrike">
              <a:ln w="9360">
                <a:solidFill>
                  <a:srgbClr val="ff0000"/>
                </a:solidFill>
                <a:prstDash val="lgDashDotDot"/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692360" y="321300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仿宋_GB2312"/>
              </a:rPr>
              <a:t>你认为爱迪生是傻还是聪明？他为什么能成为“发明大王”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老师刊头"/>
          <p:cNvPicPr/>
          <p:nvPr/>
        </p:nvPicPr>
        <p:blipFill>
          <a:blip r:embed="rId3"/>
          <a:stretch/>
        </p:blipFill>
        <p:spPr>
          <a:xfrm>
            <a:off x="6877080" y="4005360"/>
            <a:ext cx="205740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F8BC-6E92-4C5A-B9EE-97E3A54870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8c9646cb6e01a301be09e6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908000" y="2923920"/>
            <a:ext cx="68407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爱迪生（</a:t>
            </a:r>
            <a:r>
              <a:rPr b="1" lang="en-US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1847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1931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），美国著名的发明家，他八岁上学，只学习了三个月就退学了，但他从小热爱科学，通过刻苦钻研，勤于思考，爱迪生发明了电灯、电报、留声机、电影等两千多项发明，被誉为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发明大王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，为人类的文明和进步做出了巨大的贡献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F9QHGHMFP9P5XUK"/>
          <p:cNvPicPr/>
          <p:nvPr/>
        </p:nvPicPr>
        <p:blipFill>
          <a:blip r:embed="rId2"/>
          <a:stretch/>
        </p:blipFill>
        <p:spPr>
          <a:xfrm>
            <a:off x="-252360" y="0"/>
            <a:ext cx="377964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8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27370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学习提示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2204640"/>
            <a:ext cx="64087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借助拼音读课文，要求读准字 音，难读的句子和不理解的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子要多读几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圈出本课的生字，用自己喜欢的方式记一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想一想课文讲了什么内容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7"/>
          <p:cNvSpPr/>
          <p:nvPr/>
        </p:nvSpPr>
        <p:spPr>
          <a:xfrm>
            <a:off x="5219640" y="587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okhuoche"/>
          <p:cNvPicPr/>
          <p:nvPr/>
        </p:nvPicPr>
        <p:blipFill>
          <a:blip r:embed="rId1"/>
          <a:stretch/>
        </p:blipFill>
        <p:spPr>
          <a:xfrm>
            <a:off x="228600" y="4648320"/>
            <a:ext cx="7391520" cy="2209680"/>
          </a:xfrm>
          <a:prstGeom prst="rect">
            <a:avLst/>
          </a:prstGeom>
          <a:ln w="0">
            <a:noFill/>
          </a:ln>
        </p:spPr>
      </p:pic>
      <p:sp>
        <p:nvSpPr>
          <p:cNvPr id="60" name="WordArt 3"/>
          <p:cNvSpPr txBox="1"/>
          <p:nvPr/>
        </p:nvSpPr>
        <p:spPr>
          <a:xfrm>
            <a:off x="609480" y="457200"/>
            <a:ext cx="6477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火车，开起来！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4920" y="198108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楷体"/>
                <a:ea typeface="楷体"/>
              </a:rPr>
              <a:t>观察  思考  时候  发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楷体"/>
                <a:ea typeface="楷体"/>
              </a:rPr>
              <a:t>坐在  新芽  升起  不见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楷体"/>
                <a:ea typeface="楷体"/>
              </a:rPr>
              <a:t>后来  又是  怎么   好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1547640" y="692280"/>
            <a:ext cx="581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楷体"/>
                <a:ea typeface="楷体"/>
              </a:rPr>
              <a:t>时  察  思  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楷体"/>
                <a:ea typeface="楷体"/>
              </a:rPr>
              <a:t>坐  新  升  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楷体"/>
                <a:ea typeface="楷体"/>
              </a:rPr>
              <a:t>件  现  观  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" y="32004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观察        思考         时候          发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465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í  h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         (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ā  xià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             (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  kǎ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           (g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ān  ch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4038480"/>
            <a:ext cx="86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17524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04920" y="3581280"/>
            <a:ext cx="80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1143000" y="3733920"/>
            <a:ext cx="6553080" cy="106668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3200400" y="3733920"/>
            <a:ext cx="2438280" cy="1143000"/>
          </a:xfrm>
          <a:prstGeom prst="line">
            <a:avLst/>
          </a:prstGeom>
          <a:ln w="316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V="1">
            <a:off x="914400" y="3733560"/>
            <a:ext cx="4419720" cy="990360"/>
          </a:xfrm>
          <a:prstGeom prst="line">
            <a:avLst/>
          </a:prstGeom>
          <a:ln w="3168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V="1">
            <a:off x="3124080" y="3733560"/>
            <a:ext cx="4419720" cy="99036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k2"/>
          <p:cNvPicPr/>
          <p:nvPr/>
        </p:nvPicPr>
        <p:blipFill>
          <a:blip r:embed="rId1"/>
          <a:srcRect l="0" t="0" r="-47" b="0"/>
          <a:stretch/>
        </p:blipFill>
        <p:spPr>
          <a:xfrm>
            <a:off x="-57240" y="76212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17800" y="1676520"/>
            <a:ext cx="1277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找 朋 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duihua1"/>
          <p:cNvPicPr/>
          <p:nvPr/>
        </p:nvPicPr>
        <p:blipFill>
          <a:blip r:embed="rId2"/>
          <a:stretch/>
        </p:blipFill>
        <p:spPr>
          <a:xfrm>
            <a:off x="304920" y="5029200"/>
            <a:ext cx="1160280" cy="1463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286000" y="16765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505320" y="1676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867280" y="1676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7010280" y="16765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724280" y="1676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8001000" y="1660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724280" y="32004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286000" y="32004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8001000" y="31845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5867280" y="32004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69343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581280" y="32608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AutoShape 17"/>
          <p:cNvCxnSpPr>
            <a:stCxn id="83" idx="2"/>
            <a:endCxn id="83" idx="2"/>
          </p:cNvCxnSpPr>
          <p:nvPr/>
        </p:nvCxnSpPr>
        <p:spPr>
          <a:xfrm>
            <a:off x="8457840" y="3885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88" name="Line 18"/>
          <p:cNvSpPr/>
          <p:nvPr/>
        </p:nvSpPr>
        <p:spPr>
          <a:xfrm>
            <a:off x="4038480" y="2286000"/>
            <a:ext cx="3200400" cy="106668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 flipH="1">
            <a:off x="2742840" y="2133720"/>
            <a:ext cx="2438280" cy="121896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0"/>
          <p:cNvSpPr/>
          <p:nvPr/>
        </p:nvSpPr>
        <p:spPr>
          <a:xfrm flipH="1">
            <a:off x="4114800" y="2209680"/>
            <a:ext cx="2209680" cy="12193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7315200" y="2209680"/>
            <a:ext cx="1066680" cy="12193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 flipH="1">
            <a:off x="6172200" y="2209680"/>
            <a:ext cx="2209680" cy="114300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3"/>
          <p:cNvSpPr/>
          <p:nvPr/>
        </p:nvSpPr>
        <p:spPr>
          <a:xfrm>
            <a:off x="2590920" y="2286000"/>
            <a:ext cx="2361960" cy="9907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山水做低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大树"/>
          <p:cNvPicPr/>
          <p:nvPr/>
        </p:nvPicPr>
        <p:blipFill>
          <a:blip r:embed="rId2"/>
          <a:stretch/>
        </p:blipFill>
        <p:spPr>
          <a:xfrm rot="238800">
            <a:off x="3209760" y="0"/>
            <a:ext cx="8637840" cy="7248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533520" y="135576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时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68360" y="227016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68360" y="32846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看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286000" y="13557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观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68360" y="414972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坐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340000" y="417528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新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286000" y="22701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发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2286000" y="32608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升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12"/>
          <p:cNvSpPr txBox="1"/>
          <p:nvPr/>
        </p:nvSpPr>
        <p:spPr>
          <a:xfrm rot="21327000">
            <a:off x="380880" y="30492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摘苹果</a:t>
            </a:r>
            <a:endParaRPr b="0" lang="en-US" sz="1800" spc="1" strike="noStrike">
              <a:ln w="9360">
                <a:solidFill>
                  <a:srgbClr val="ff9900"/>
                </a:solidFill>
                <a:round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5" name="Picture 13" descr="未命名"/>
          <p:cNvPicPr/>
          <p:nvPr/>
        </p:nvPicPr>
        <p:blipFill>
          <a:blip r:embed="rId3"/>
          <a:stretch/>
        </p:blipFill>
        <p:spPr>
          <a:xfrm rot="427200">
            <a:off x="5508720" y="907920"/>
            <a:ext cx="1447560" cy="1022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未命名"/>
          <p:cNvPicPr/>
          <p:nvPr/>
        </p:nvPicPr>
        <p:blipFill>
          <a:blip r:embed="rId4"/>
          <a:stretch/>
        </p:blipFill>
        <p:spPr>
          <a:xfrm rot="190800">
            <a:off x="6877080" y="1413000"/>
            <a:ext cx="1447920" cy="1022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未命名"/>
          <p:cNvPicPr/>
          <p:nvPr/>
        </p:nvPicPr>
        <p:blipFill>
          <a:blip r:embed="rId5"/>
          <a:stretch/>
        </p:blipFill>
        <p:spPr>
          <a:xfrm>
            <a:off x="4572000" y="1844640"/>
            <a:ext cx="1447920" cy="1022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未命名"/>
          <p:cNvPicPr/>
          <p:nvPr/>
        </p:nvPicPr>
        <p:blipFill>
          <a:blip r:embed="rId6"/>
          <a:stretch/>
        </p:blipFill>
        <p:spPr>
          <a:xfrm rot="427200">
            <a:off x="5724000" y="1916280"/>
            <a:ext cx="1447920" cy="1022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未命名"/>
          <p:cNvPicPr/>
          <p:nvPr/>
        </p:nvPicPr>
        <p:blipFill>
          <a:blip r:embed="rId7"/>
          <a:stretch/>
        </p:blipFill>
        <p:spPr>
          <a:xfrm rot="427200">
            <a:off x="4038480" y="2971800"/>
            <a:ext cx="1447920" cy="1022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未命名"/>
          <p:cNvPicPr/>
          <p:nvPr/>
        </p:nvPicPr>
        <p:blipFill>
          <a:blip r:embed="rId8"/>
          <a:stretch/>
        </p:blipFill>
        <p:spPr>
          <a:xfrm rot="427200">
            <a:off x="6588000" y="2492280"/>
            <a:ext cx="1447920" cy="102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未命名"/>
          <p:cNvPicPr/>
          <p:nvPr/>
        </p:nvPicPr>
        <p:blipFill>
          <a:blip r:embed="rId9"/>
          <a:stretch/>
        </p:blipFill>
        <p:spPr>
          <a:xfrm rot="427200">
            <a:off x="5219640" y="3141720"/>
            <a:ext cx="1447920" cy="1022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未命名"/>
          <p:cNvPicPr/>
          <p:nvPr/>
        </p:nvPicPr>
        <p:blipFill>
          <a:blip r:embed="rId10"/>
          <a:stretch/>
        </p:blipFill>
        <p:spPr>
          <a:xfrm rot="427200">
            <a:off x="7019640" y="3357720"/>
            <a:ext cx="144756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evt="onNext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"/>
                            </p:stCondLst>
                            <p:childTnLst>
                              <p:par>
                                <p:cTn id="1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"/>
                            </p:stCondLst>
                            <p:childTnLst>
                              <p:par>
                                <p:cTn id="1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"/>
                            </p:stCondLst>
                            <p:childTnLst>
                              <p:par>
                                <p:cTn id="1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"/>
                            </p:stCondLst>
                            <p:childTnLst>
                              <p:par>
                                <p:cTn id="1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"/>
                            </p:stCondLst>
                            <p:childTnLst>
                              <p:par>
                                <p:cTn id="1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"/>
                            </p:stCondLst>
                            <p:childTnLst>
                              <p:par>
                                <p:cTn id="1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79280" y="333360"/>
            <a:ext cx="770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爱迪生小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时候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，是一个对什么都好奇的孩子。他喜欢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观察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事物，又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思考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问题。他常常一个人坐在路旁，看大树怎样发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新芽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，想枫叶为什么变红。他常常琢磨：为什么太阳总是从东方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升起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，在西边落下？为什么蓝色的天空中有朵朵白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8:06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1:37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