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35B93-9274-4C91-B734-7254C96A5A2B}" type="slidenum">
              <a:rPr b="1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68261-3E16-440A-B4C0-0A2D144A1DF5}" type="slidenum">
              <a:rPr b="1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A285-8B78-4AB1-9FBD-2AFF40878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888C-FD12-45D8-BB16-1698B6800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0680-4420-44A5-A5B7-9C4182ACA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EFAD-1005-4E01-A5F9-2CFB4AD13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53D7-F8C9-447E-95F5-A5729F77A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8838-0C9F-4B16-8A0C-0CB6474D0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22FE-C29E-4F1E-85AA-088929A02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FC0E-9A6A-4624-A0E2-5AC45934B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DAE9-1E73-4B65-A689-7658D7315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1956-D01A-4B64-95C1-5860D247C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2455-ECFB-4094-B7AC-31AAFD09A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FF42-1E06-497F-B434-2AA7C5E48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34EB5-B753-4C62-BF09-069B7FA532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2"/>
          <p:cNvSpPr/>
          <p:nvPr/>
        </p:nvSpPr>
        <p:spPr>
          <a:xfrm>
            <a:off x="990720" y="1523880"/>
            <a:ext cx="7086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华文隶书"/>
                <a:ea typeface="华文隶书"/>
              </a:rPr>
              <a:t>和时间赛跑</a:t>
            </a:r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1558800" y="4800600"/>
            <a:ext cx="4852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2"/>
          <p:cNvSpPr/>
          <p:nvPr/>
        </p:nvSpPr>
        <p:spPr>
          <a:xfrm>
            <a:off x="685800" y="914400"/>
            <a:ext cx="7696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思考：爸爸想告诉我什么？ 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476280" y="1905120"/>
            <a:ext cx="8381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800" spc="-1" strike="noStrike">
                <a:solidFill>
                  <a:srgbClr val="3333ff"/>
                </a:solidFill>
                <a:latin typeface="Arial"/>
              </a:rPr>
              <a:t>他是想告诉“我”总有一天我也会老去，也将会死去，我的心里非常害怕，所以有了一种说不出的滋味。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Text Box 3"/>
          <p:cNvSpPr/>
          <p:nvPr/>
        </p:nvSpPr>
        <p:spPr>
          <a:xfrm>
            <a:off x="539640" y="2205000"/>
            <a:ext cx="799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Arial"/>
                <a:ea typeface="楷体_GB2312"/>
              </a:rPr>
              <a:t>       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826920" y="1268280"/>
            <a:ext cx="7777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Arial"/>
                <a:ea typeface="楷体_GB2312"/>
              </a:rPr>
              <a:t>　你平时是怎样珍惜时间？今后，你准备怎样珍惜时间？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图片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3"/>
          <p:cNvSpPr/>
          <p:nvPr/>
        </p:nvSpPr>
        <p:spPr>
          <a:xfrm>
            <a:off x="539640" y="1600200"/>
            <a:ext cx="799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Arial"/>
                <a:ea typeface="楷体_GB2312"/>
              </a:rPr>
              <a:t>       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楷体_GB2312"/>
              </a:rPr>
              <a:t>你知道哪些关于时间的名人名言？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03DD7-FFF9-4832-8952-40E5FC167E1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028[1]"/>
          <p:cNvPicPr/>
          <p:nvPr/>
        </p:nvPicPr>
        <p:blipFill>
          <a:blip r:embed="rId1"/>
          <a:srcRect l="0" t="0" r="0" b="-18238"/>
          <a:stretch/>
        </p:blipFill>
        <p:spPr>
          <a:xfrm>
            <a:off x="0" y="0"/>
            <a:ext cx="9144000" cy="81090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3"/>
          <p:cNvSpPr/>
          <p:nvPr/>
        </p:nvSpPr>
        <p:spPr>
          <a:xfrm>
            <a:off x="533520" y="533520"/>
            <a:ext cx="6935760" cy="58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60093"/>
                </a:solidFill>
                <a:latin typeface="Arial"/>
                <a:ea typeface="楷体_GB2312"/>
              </a:rPr>
              <a:t>你认识我吗</a:t>
            </a:r>
            <a:r>
              <a:rPr b="1" lang="en-US" sz="4800" spc="-1" strike="noStrike">
                <a:solidFill>
                  <a:srgbClr val="d60093"/>
                </a:solidFill>
                <a:latin typeface="Arial"/>
                <a:ea typeface="楷体_GB2312"/>
              </a:rPr>
              <a:t>?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ff"/>
                </a:solidFill>
                <a:latin typeface="Arial"/>
                <a:ea typeface="楷体_GB2312"/>
              </a:rPr>
              <a:t>赛跑  草坪   分寸   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ff"/>
                </a:solidFill>
                <a:latin typeface="Arial"/>
                <a:ea typeface="楷体_GB2312"/>
              </a:rPr>
              <a:t>鸟巢  暑假   作业   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ff"/>
                </a:solidFill>
                <a:latin typeface="Arial"/>
                <a:ea typeface="楷体_GB2312"/>
              </a:rPr>
              <a:t>比赛  操场   安慰   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ff"/>
                </a:solidFill>
                <a:latin typeface="Arial"/>
                <a:ea typeface="楷体_GB2312"/>
              </a:rPr>
              <a:t>预习  受益匪浅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图片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2"/>
          <p:cNvSpPr/>
          <p:nvPr/>
        </p:nvSpPr>
        <p:spPr>
          <a:xfrm>
            <a:off x="304920" y="1523880"/>
            <a:ext cx="883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5400" spc="-1" strike="noStrike">
                <a:solidFill>
                  <a:srgbClr val="3333ff"/>
                </a:solidFill>
                <a:latin typeface="Arial"/>
              </a:rPr>
              <a:t>默读课文，结合有关语句，说说自己读懂了什么？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文本框 1"/>
          <p:cNvSpPr/>
          <p:nvPr/>
        </p:nvSpPr>
        <p:spPr>
          <a:xfrm>
            <a:off x="393840" y="5724360"/>
            <a:ext cx="750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课文中哪些地方给你留下深刻印象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图片 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矩形 7"/>
          <p:cNvSpPr/>
          <p:nvPr/>
        </p:nvSpPr>
        <p:spPr>
          <a:xfrm>
            <a:off x="5867280" y="548640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80520" y="685440"/>
            <a:ext cx="81536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昨天过去了，你再也不能回到昨天。爸爸以前和你一样，也是个孩子，现在想回到童年却办不到了。你将来会长得像爸爸一样大，向外祖母一样老。时间过去了，就永远不会回来了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图片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914400" y="685800"/>
            <a:ext cx="7391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太阳一寸一寸地落下去，明知道太阳还会升起来，但是今天永远不会回来了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5508720" y="5950080"/>
            <a:ext cx="115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图片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2"/>
          <p:cNvSpPr/>
          <p:nvPr/>
        </p:nvSpPr>
        <p:spPr>
          <a:xfrm>
            <a:off x="533520" y="137160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ff"/>
                </a:solidFill>
                <a:latin typeface="Arial"/>
              </a:rPr>
              <a:t>虽然知道明天太阳还会升起来，但是今天永远不会再来了。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685800" y="1219320"/>
            <a:ext cx="78976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人永远跑不过时间，但是人可以在自己拥有的时间里快跑几步。尽管那几步很小很小，作用却很大很大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2"/>
          <p:cNvSpPr/>
          <p:nvPr/>
        </p:nvSpPr>
        <p:spPr>
          <a:xfrm>
            <a:off x="533520" y="698400"/>
            <a:ext cx="815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照样子，在文中记下自己阅读时的感受。 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457200" y="2514600"/>
            <a:ext cx="8381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800" spc="-1" strike="noStrike">
                <a:solidFill>
                  <a:srgbClr val="3333ff"/>
                </a:solidFill>
                <a:latin typeface="Arial"/>
              </a:rPr>
              <a:t>从这里我体会到了作者看日出时的心情</a:t>
            </a:r>
            <a:r>
              <a:rPr b="1" lang="en-US" sz="4800" spc="-1" strike="noStrike">
                <a:solidFill>
                  <a:srgbClr val="3333ff"/>
                </a:solidFill>
                <a:latin typeface="Arial"/>
              </a:rPr>
              <a:t>……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08T03:08:25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23:38:30Z</dcterms:modified>
  <cp:revision>28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  <property fmtid="{D5CDD505-2E9C-101B-9397-08002B2CF9AE}" pid="3" name="Version">
    <vt:r8>1</vt:r8>
  </property>
</Properties>
</file>