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358D-8573-4B2E-8741-C146952BD7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5FB-E1AE-4AAA-A1ED-9D74A89341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499-54C3-48AE-87F8-59226BAD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48D-D8A3-443B-A232-E9E24284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DB7-F72A-49DF-BC14-CECA291B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6E8-9B15-4727-A726-0719FED1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981-4EE3-4A58-8258-E9F29366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E45-6453-4FCB-8D22-F57CA181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76C-2485-4DF0-8A9C-04886067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342-3036-4A8B-8203-E2B2FE29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FBB-2997-4438-9A7F-91F5C704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F05-D0C4-4BCB-B533-6AA8CEE1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0D0-FF07-490B-B399-7C24D678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F1A-DFAA-4E57-856A-F7E2AA73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63DC-982F-454A-AE03-83F8510C2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30240" y="1752480"/>
            <a:ext cx="5637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护士妈妈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0296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1371600"/>
            <a:ext cx="83818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文章要以“护士妈妈”为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轻的护士用无私的母爱拯救了小女孩的生命，虽然不是妈妈，但胜似妈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685800" y="2666880"/>
            <a:ext cx="7848720" cy="16002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66"/>
                </a:solidFill>
                <a:latin typeface="Arial"/>
                <a:ea typeface="楷体_GB2312"/>
              </a:rPr>
              <a:t>你想对这个护士说些什么</a:t>
            </a:r>
            <a:r>
              <a:rPr b="1" lang="en-US" sz="5000" spc="-1" strike="noStrike">
                <a:solidFill>
                  <a:srgbClr val="ff0066"/>
                </a:solidFill>
                <a:latin typeface="Arial"/>
                <a:ea typeface="楷体_GB2312"/>
              </a:rPr>
              <a:t>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3AD2-FF20-49BC-8DD4-248F957300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5680" y="236376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女孩是怎么样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80880" y="167544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病房里，有一个女孩，自住进医院的那天起，就一直昏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hūn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迷不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女孩在昏迷中不时喊着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妈妈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女孩的爸爸坐在病床前，神色凄楚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hǔ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地看着女儿，不知该如何帮助她，只是不停地哀求医生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救我女儿，救救我女儿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6560" y="5791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你从中体会到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5791320" y="5334120"/>
            <a:ext cx="3124080" cy="1295280"/>
          </a:xfrm>
          <a:prstGeom prst="wedgeRoundRectCallout">
            <a:avLst>
              <a:gd name="adj1" fmla="val -69365"/>
              <a:gd name="adj2" fmla="val -100680"/>
              <a:gd name="adj3" fmla="val 16667"/>
            </a:avLst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感受父亲的无助和绝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80880" y="2362320"/>
            <a:ext cx="861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医生该用的药都已用了，女孩能不能活下来，还要靠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kào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她自身，要看她对这个世界是否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fǒu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充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chōnɡ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满生的渴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kě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个护士问那个男人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的妈妈呢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男人埋着头，低声说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离婚很久了，我找不到她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152280" y="228600"/>
            <a:ext cx="6477120" cy="838080"/>
          </a:xfrm>
          <a:prstGeom prst="wedgeRoundRectCallout">
            <a:avLst>
              <a:gd name="adj1" fmla="val 449"/>
              <a:gd name="adj2" fmla="val 1140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体会到医生的无能为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124080" y="3429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76120" y="1902960"/>
            <a:ext cx="883944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护士皱（</a:t>
            </a: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zhòu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了皱眉头，默默地坐下来，轻轻握（</a:t>
            </a: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wò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住女孩凉凉的手，柔（</a:t>
            </a: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róu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声说：“女儿乖（</a:t>
            </a: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ɡuāi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，妈妈在，妈妈在。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　　男人抬起头，吃惊地看着比女儿大不了多少的护士，流着泪说：“谢谢，谢谢！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女孩唤一声“妈妈”，护士答应一声。女孩像落水者抓到了救生圈，她死死攥（</a:t>
            </a: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zuàn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紧护士的手，呼吸慢慢均（</a:t>
            </a: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jūn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匀下来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388960" y="57913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读了这个句子你明白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304920" y="4343400"/>
            <a:ext cx="8383320" cy="144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304920" y="4952880"/>
            <a:ext cx="8076960" cy="0"/>
          </a:xfrm>
          <a:prstGeom prst="line">
            <a:avLst/>
          </a:prstGeom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198160" y="1600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女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154200" y="1600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护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262320" y="2514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生病昏迷、喊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103080" y="2503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皱眉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007360" y="3494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死死攥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103080" y="3494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轻轻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007360" y="425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呼吸均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103080" y="4255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柔声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787320" y="5191200"/>
            <a:ext cx="84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54080" y="1294920"/>
            <a:ext cx="8839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在以后的日子里，那位还没有结婚的护士，像一位真正的妈妈那样，一有空就守在女孩病床前，握住她的手，跟她说话，还轻轻地给她唱歌，直到那女孩苏（</a:t>
            </a: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sū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醒过来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医生说：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能苏醒是个奇迹。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人们把赞扬的目光投向那位充满爱心的护士，护士的脸微微红了，说：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记得读过一句名言：母爱可以拯救一切。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2438280" y="4572000"/>
            <a:ext cx="3657600" cy="1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28600" y="4800600"/>
            <a:ext cx="876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护士那无私的母爱创造了奇迹，女孩苏醒来了，但人们把赞扬的目光投向她时，她怎么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626480" y="20574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护士的脸红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3360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奇迹表现在哪些地方？是谁创造了这个奇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心"/>
          <p:cNvPicPr/>
          <p:nvPr/>
        </p:nvPicPr>
        <p:blipFill>
          <a:blip r:embed="rId1"/>
          <a:stretch/>
        </p:blipFill>
        <p:spPr>
          <a:xfrm>
            <a:off x="1373040" y="216000"/>
            <a:ext cx="6782040" cy="6299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795760" y="144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女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43520" y="144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护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83680" y="2514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昏迷、喊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40240" y="2438280"/>
            <a:ext cx="17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皱眉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465280" y="3581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死死攥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716440" y="3505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轻轻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770200" y="4572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呼吸均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640480" y="4495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柔声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99000" y="289548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886200" y="2057400"/>
            <a:ext cx="685800" cy="685800"/>
          </a:xfrm>
          <a:prstGeom prst="line">
            <a:avLst/>
          </a:prstGeom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 flipH="1">
            <a:off x="4952520" y="1981080"/>
            <a:ext cx="762120" cy="762120"/>
          </a:xfrm>
          <a:prstGeom prst="line">
            <a:avLst/>
          </a:prstGeom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9:13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2:45Z</dcterms:modified>
  <cp:revision>1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