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3308-0263-4D03-B82C-E82AD7C4CB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3BF8-D926-465D-A3A5-C01DEA3AAD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4A5-0D1D-484B-9EFD-73057BFF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209-2F3C-4CAB-BA3C-E0844FAB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0944-D65C-4B03-B5A7-CEEE7622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F61-2E87-4146-A5A4-648E105F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412-C7AF-4B12-B781-4268C130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9D54-8054-4C8B-95A2-F6052909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74C-0C06-4B3F-AD72-7E5A2DB5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9CF6-B6F7-4704-B2A8-FC3D7850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9E89-CA52-4EA0-BFF1-BBB3BA92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BA9-E143-47BC-AB62-7A49BBE5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193D-342A-4F1B-8390-8543FC1F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241F-4901-40BC-AB6F-07A0DE14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020D-E69B-46F9-8555-664D111BA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0751714411681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 Box 3" descr=""/>
          <p:cNvPicPr/>
          <p:nvPr/>
        </p:nvPicPr>
        <p:blipFill>
          <a:blip r:embed="rId2"/>
          <a:stretch/>
        </p:blipFill>
        <p:spPr>
          <a:xfrm>
            <a:off x="2173320" y="2127240"/>
            <a:ext cx="4740120" cy="1940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76280" y="549360"/>
            <a:ext cx="6191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7" descr=""/>
          <p:cNvPicPr/>
          <p:nvPr/>
        </p:nvPicPr>
        <p:blipFill>
          <a:blip r:embed="rId3"/>
          <a:stretch/>
        </p:blipFill>
        <p:spPr>
          <a:xfrm>
            <a:off x="1730520" y="5880240"/>
            <a:ext cx="576900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200812702142439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84360" y="69228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三、品读第四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58920" y="1341360"/>
            <a:ext cx="59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258920" y="1341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指名读第四自然段，思考：用自己的话说说“异常强大的团结力”是什么意思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332000" y="263700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在本段中找出能体现“团结松”特点的词语或句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1692360" y="2133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这里指黄山松枝繁叶茂，多枝密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835280" y="314172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密切的偎傍着” 、“觉得像铁铸的一般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1332000" y="371628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小练笔：读一读“我想象着它们初生时的状态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所以生成这个样子”，把你的想象或者感受写下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图片1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"/>
          <p:cNvSpPr/>
          <p:nvPr/>
        </p:nvSpPr>
        <p:spPr>
          <a:xfrm>
            <a:off x="755640" y="9079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总结全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971640" y="155736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826920" y="1844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这篇课文从生长环境、生长姿态等方面分别介绍了黄山松扎根缝、姿态奇特的特点，赞颂了黄山松顽强的生命力和强大的凝聚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1116000" y="46530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20093250135723207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1258920" y="1197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拓展延伸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332000" y="191628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文课文后，你是不是觉得作者不仅仅是在写黄山松，而是还想说点其他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547640" y="306864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松树是坚韧顽强的，是团结的，人又何尝不应该如此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yks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638496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105520" y="762120"/>
            <a:ext cx="359712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迎客松姿态优美，枝干遒劲，虽然饱经风霜，却仍然郁郁苍苍，充满生机。它有一丛青翠的枝干斜伸出去，如同好客的主人伸出手臂，热情地欢迎宾客的到来。如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棵迎客松已经成为黄山奇松的代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乃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个黄山的象征了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yks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4711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5851440" y="838080"/>
            <a:ext cx="29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陪客松正对玉屏楼，如同一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绿色的巨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站在那儿，正陪同游人观赏美丽的黄山风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pks2"/>
          <p:cNvPicPr/>
          <p:nvPr/>
        </p:nvPicPr>
        <p:blipFill>
          <a:blip r:embed="rId1"/>
          <a:stretch/>
        </p:blipFill>
        <p:spPr>
          <a:xfrm>
            <a:off x="457200" y="762120"/>
            <a:ext cx="502920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4859280" y="1125360"/>
            <a:ext cx="40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客松姿态独特，枝干蟠曲，游人把它比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天然盆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它向山下伸出长长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好像在跟游客依依不舍地告别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sks3"/>
          <p:cNvPicPr/>
          <p:nvPr/>
        </p:nvPicPr>
        <p:blipFill>
          <a:blip r:embed="rId1"/>
          <a:stretch/>
        </p:blipFill>
        <p:spPr>
          <a:xfrm>
            <a:off x="419040" y="685800"/>
            <a:ext cx="4227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2011032923154562023"/>
          <p:cNvPicPr/>
          <p:nvPr/>
        </p:nvPicPr>
        <p:blipFill>
          <a:blip r:embed="rId1"/>
          <a:stretch/>
        </p:blipFill>
        <p:spPr>
          <a:xfrm>
            <a:off x="0" y="-2430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201103292316544506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2011032923172611230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200971775132922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042920" y="549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五岳归来不看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黄山归来不看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------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徐霞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3301920" y="3108240"/>
            <a:ext cx="55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黑虎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竖琴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送客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探海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B069-8794-4BE0-8AB7-7CACD30A82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6"/>
          <p:cNvSpPr txBox="1"/>
          <p:nvPr/>
        </p:nvSpPr>
        <p:spPr>
          <a:xfrm>
            <a:off x="2556000" y="2924280"/>
            <a:ext cx="3600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美丽的黄山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4920" y="3789000"/>
            <a:ext cx="820908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黄山被誉为“天下第一奇山”，以奇松、怪石、云海、温泉“四绝”闻名于世，而人们对黄山松更情有独钟，山顶上，陡崖边，处处都由它们潇洒、挺秀的身影。今天我们就一起走近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黄山松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ff632e86619d327ac75cc3cb"/>
          <p:cNvPicPr/>
          <p:nvPr/>
        </p:nvPicPr>
        <p:blipFill>
          <a:blip r:embed="rId3"/>
          <a:stretch/>
        </p:blipFill>
        <p:spPr>
          <a:xfrm>
            <a:off x="0" y="0"/>
            <a:ext cx="2556000" cy="2690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0614"/>
          <p:cNvPicPr/>
          <p:nvPr/>
        </p:nvPicPr>
        <p:blipFill>
          <a:blip r:embed="rId4"/>
          <a:stretch/>
        </p:blipFill>
        <p:spPr>
          <a:xfrm>
            <a:off x="2627280" y="0"/>
            <a:ext cx="1944720" cy="270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be60dbedad568f6a63d09f30"/>
          <p:cNvPicPr/>
          <p:nvPr/>
        </p:nvPicPr>
        <p:blipFill>
          <a:blip r:embed="rId5"/>
          <a:stretch/>
        </p:blipFill>
        <p:spPr>
          <a:xfrm>
            <a:off x="4643280" y="0"/>
            <a:ext cx="1922760" cy="2708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2011032923172611230"/>
          <p:cNvPicPr/>
          <p:nvPr/>
        </p:nvPicPr>
        <p:blipFill>
          <a:blip r:embed="rId6"/>
          <a:stretch/>
        </p:blipFill>
        <p:spPr>
          <a:xfrm>
            <a:off x="6659640" y="0"/>
            <a:ext cx="24843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200812100815695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01300001192738130319987075708"/>
          <p:cNvPicPr/>
          <p:nvPr/>
        </p:nvPicPr>
        <p:blipFill>
          <a:blip r:embed="rId2"/>
          <a:stretch/>
        </p:blipFill>
        <p:spPr>
          <a:xfrm>
            <a:off x="5508720" y="3284640"/>
            <a:ext cx="2200320" cy="3047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684360" y="692280"/>
            <a:ext cx="7272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作者简介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丰子恺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--197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原名丰润、丰仁，浙江崇德人。我国现代著名画家、文学家、美术音乐教育家、翻译家，是一位多方面卓有成就的文艺大师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1"/>
          <p:cNvSpPr/>
          <p:nvPr/>
        </p:nvSpPr>
        <p:spPr>
          <a:xfrm>
            <a:off x="4572000" y="836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00812702142439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116000" y="836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检查自学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755640" y="1916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看拼音写汉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042920" y="2637000"/>
            <a:ext cx="61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ó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ú  lún     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ì   cè    y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Arial"/>
              </a:rPr>
              <a:t>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 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ǎ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258920" y="321300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描   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囫   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臆  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窈 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187280" y="407664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g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g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g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g  shí 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ĭ  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ū  w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Arial"/>
              </a:rPr>
              <a:t>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1116000" y="49417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娉    娉   婷    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石   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须  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200932501357232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1547640" y="1125360"/>
            <a:ext cx="41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给下面多音字注意并组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908000" y="198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2195640" y="141300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2411280" y="155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197964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2700360" y="1557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ff0066"/>
                </a:solidFill>
                <a:latin typeface="宋体"/>
              </a:rPr>
              <a:t>à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3635280" y="1557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3851280" y="162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须 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3708360" y="2421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3924360" y="242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蔓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2771640" y="2349360"/>
            <a:ext cx="6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2627280" y="234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0066"/>
                </a:solidFill>
                <a:latin typeface="宋体"/>
              </a:rPr>
              <a:t>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1476360" y="3068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理解下面重要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6"/>
          <p:cNvSpPr/>
          <p:nvPr/>
        </p:nvSpPr>
        <p:spPr>
          <a:xfrm>
            <a:off x="1619280" y="3573360"/>
            <a:ext cx="26636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描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囫囵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臆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窈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娉娉婷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8"/>
          <p:cNvSpPr/>
          <p:nvPr/>
        </p:nvSpPr>
        <p:spPr>
          <a:xfrm>
            <a:off x="2771640" y="3573360"/>
            <a:ext cx="43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描绘，摹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9"/>
          <p:cNvSpPr/>
          <p:nvPr/>
        </p:nvSpPr>
        <p:spPr>
          <a:xfrm>
            <a:off x="4551480" y="4010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0"/>
          <p:cNvSpPr/>
          <p:nvPr/>
        </p:nvSpPr>
        <p:spPr>
          <a:xfrm>
            <a:off x="2771640" y="4005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完整，整个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2771640" y="44370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主观的推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2700360" y="4869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文静而美好的样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3"/>
          <p:cNvSpPr/>
          <p:nvPr/>
        </p:nvSpPr>
        <p:spPr>
          <a:xfrm>
            <a:off x="3132000" y="544500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4"/>
          <p:cNvSpPr/>
          <p:nvPr/>
        </p:nvSpPr>
        <p:spPr>
          <a:xfrm>
            <a:off x="3203640" y="537372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轻盈、美好的样子。形容女子姿态柔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200951502549129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042920" y="12682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初读课文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了解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258920" y="1844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初读课文，说说课文是从哪几个方面介绍黄山松的，并用一句简洁的话分别概括黄山松的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19280" y="2997360"/>
            <a:ext cx="61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619280" y="2852640"/>
            <a:ext cx="5905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）生长环境：扎根石缝，生命力顽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）生长姿态：姿态奇特，一心向着阳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）枝条长势：多枝密生，团结力强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19280" y="422100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给课文的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自然段分别加上小标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19280" y="4869000"/>
            <a:ext cx="6697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自然段：黄山松生命力顽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自然段：黄山松姿态奇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自然段：黄山松具有强大的团结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200812100815695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900000" y="836640"/>
            <a:ext cx="3959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精读感悟，体会写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258920" y="1628640"/>
            <a:ext cx="62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187280" y="1700280"/>
            <a:ext cx="6409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品读第二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学生齐读本段，边读边想：黄山松生长在怎样的环境里？它生长的怎么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217656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1042920" y="2781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1258920" y="386064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一个常用来形容人的品性的词来形容黄山松扎根石缝的这个特点。除了这个词以外，你还能想到什么词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1332000" y="292428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黄山松生长在恶劣的环境里，却能长得郁郁苍苍，娉娉婷婷，可见其生命力之顽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1835280" y="494172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顽强、坚强、坚忍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2d176025c66aaf548b82a1f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826920" y="836640"/>
            <a:ext cx="41054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二、品读第三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258920" y="1341360"/>
            <a:ext cx="62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指名读第三自然段，思考：从本段中找出一个高度概括黄山松这个特点的关键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835280" y="206064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姿态奇特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332000" y="25653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为了突出黄山松的这个特点，作者主要采用了哪种写作方法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1979640" y="3429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对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1619280" y="4005360"/>
            <a:ext cx="62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说说黄山松的这种生长姿态让你想到什么？谈谈你的感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763640" y="486900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从对待逆境的态度和行动去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03:29:0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4:48Z</dcterms:modified>
  <cp:revision>3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