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25.png" ContentType="image/png"/>
  <Override PartName="/ppt/media/image17.jpeg" ContentType="image/jpeg"/>
  <Override PartName="/ppt/media/image15.jpeg" ContentType="image/jpeg"/>
  <Override PartName="/ppt/media/image16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30.png" ContentType="image/png"/>
  <Override PartName="/ppt/media/image29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18.png" ContentType="image/png"/>
  <Override PartName="/ppt/media/image6.jpeg" ContentType="image/jpeg"/>
  <Override PartName="/ppt/media/type.wav" ContentType="audio/x-wav"/>
  <Override PartName="/ppt/media/image3.gif" ContentType="image/gi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685-CF99-46E2-AF9C-81EF949759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4DC1-43A2-4898-8757-F8C7E39D3C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FB9-0071-446C-8A5D-7A5443F3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53D-F0A8-42A9-B74D-4CB395D6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4AC-FABC-448C-B815-9882E914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404-5116-46FB-9CEB-88DE3BB7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C45E-ED12-4E09-A899-F204930C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3B3-AD5D-47C4-BA1F-8562E821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2B1-8E91-4557-9BAD-CFC1585F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A92-42FE-4299-8365-FD89388E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6DE-AC7A-4A4D-B380-B50A0CA1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A8D-0E07-4144-9584-4C252BE9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EF5-B372-43E4-BF17-3BFCFB42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F56-C9E4-4C95-81C7-51B46259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5EA3-6AAD-489E-80E2-224C82ADC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5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0.png"/><Relationship Id="rId9" Type="http://schemas.openxmlformats.org/officeDocument/2006/relationships/image" Target="../media/image33.jpeg"/><Relationship Id="rId10" Type="http://schemas.openxmlformats.org/officeDocument/2006/relationships/image" Target="../media/image25.pn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611230246581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" descr=""/>
          <p:cNvPicPr/>
          <p:nvPr/>
        </p:nvPicPr>
        <p:blipFill>
          <a:blip r:embed="rId2"/>
          <a:stretch/>
        </p:blipFill>
        <p:spPr>
          <a:xfrm>
            <a:off x="2263680" y="2205000"/>
            <a:ext cx="5235840" cy="186228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1576440" y="57848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200609080346524100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200731012354437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找出生字</a:t>
            </a:r>
            <a:r>
              <a:rPr b="1" lang="en-US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——</a:t>
            </a:r>
            <a:r>
              <a:rPr b="1" lang="zh-CN" sz="4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为生字找朋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檀（</a:t>
            </a: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tán    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盈（</a:t>
            </a: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yíng  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凶（</a:t>
            </a: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xiōng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庙（</a:t>
            </a: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miào 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惚（</a:t>
            </a: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hū     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紫檀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笑盈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凶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寺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恍恍惚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35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认识新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紫檀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笑盈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梨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百合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葡萄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凶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模一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恍恍惚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茄子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庙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24000" y="1219320"/>
            <a:ext cx="8820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火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云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猪     笑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盈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高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红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彤彤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百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合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子紫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跪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模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猛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静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门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着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镇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静       必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紫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色       </a:t>
            </a:r>
            <a:r>
              <a:rPr b="1" lang="zh-CN" sz="4400" spc="-1" strike="noStrike">
                <a:solidFill>
                  <a:srgbClr val="d60093"/>
                </a:solidFill>
                <a:latin typeface="Times New Roman"/>
              </a:rPr>
              <a:t>恍恍惚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347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238400" y="2943360"/>
            <a:ext cx="6940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这篇课文按照火烧云从上来到下去的顺序可以把课文分为几部分</a:t>
            </a:r>
            <a:r>
              <a:rPr b="1" lang="en-US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?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怎样分</a:t>
            </a:r>
            <a:r>
              <a:rPr b="1" lang="en-US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?</a:t>
            </a:r>
            <a:r>
              <a:rPr b="1" lang="zh-CN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每部分讲了什么</a:t>
            </a:r>
            <a:r>
              <a:rPr b="1" lang="en-US" sz="4800" spc="-1" strike="noStrike">
                <a:solidFill>
                  <a:srgbClr val="ffff00"/>
                </a:solidFill>
                <a:latin typeface="华文楷体"/>
                <a:ea typeface="华文楷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876240" y="603360"/>
            <a:ext cx="5329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小组合作学习</a:t>
            </a: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33cc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: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33cc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00720" y="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晚饭过后，火烧云上来了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霞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照得小孩子的脸红红的。大白狗变成红的了。红公鸡变成金的了。黑母鸡变成紫檀色的了。喂猪的老爷爷在墙根靠着，笑盈盈地看着他的两头小白猪变成小金猪了。他刚想说 “你们也变了”，旁边走来个乘凉的人对他说：“您老人家必要高寿，您老是金胡子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４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692360" y="476280"/>
            <a:ext cx="648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大白狗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变成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红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了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红公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变成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金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了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黑母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变成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紫檀色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了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900000" y="321300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99f7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像这样三个或三个以上结构相似、语言一致、意思紧密联系的短语或句子连成一串的修辞手法，叫“排比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3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WordArt 3" descr=""/>
          <p:cNvPicPr/>
          <p:nvPr/>
        </p:nvPicPr>
        <p:blipFill>
          <a:blip r:embed="rId2"/>
          <a:stretch/>
        </p:blipFill>
        <p:spPr>
          <a:xfrm>
            <a:off x="1209600" y="752400"/>
            <a:ext cx="6902640" cy="49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u=4071094404,4226321355&amp;gp=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-360" y="144000"/>
            <a:ext cx="8915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饭过后，火烧云上来了。霞光照得小孩子的脸红红的。大白狗变成红的了。红公鸡变成金的了。喂猪的老头儿在墙根靠着，笑盈盈地看着他的两头小白猪变成小金猪了。他刚想说：“你们也变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旁边走来了个乘凉的人对他说：“您老人家必要高寿，您老是金胡子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上的云从西边一直烧到东边，红彤彤的，好像是天空着了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地方的火烧云变化极多，一会儿红彤彤的，一会儿金灿灿的，一会儿半紫半黄，一会儿半灰半百合色。葡萄灰、梨黄、茄子紫，这些颜色天空都有。还有些说也说不出来、见也没见过的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250920" y="1268280"/>
            <a:ext cx="8610480" cy="5069160"/>
            <a:chOff x="250920" y="1268280"/>
            <a:chExt cx="8610480" cy="5069160"/>
          </a:xfrm>
        </p:grpSpPr>
        <p:grpSp>
          <p:nvGrpSpPr>
            <p:cNvPr id="52" name="Group 3"/>
            <p:cNvGrpSpPr/>
            <p:nvPr/>
          </p:nvGrpSpPr>
          <p:grpSpPr>
            <a:xfrm>
              <a:off x="250920" y="1268280"/>
              <a:ext cx="8610480" cy="5069160"/>
              <a:chOff x="250920" y="1268280"/>
              <a:chExt cx="8610480" cy="5069160"/>
            </a:xfrm>
          </p:grpSpPr>
          <p:sp>
            <p:nvSpPr>
              <p:cNvPr id="53" name="AutoShape 4"/>
              <p:cNvSpPr/>
              <p:nvPr/>
            </p:nvSpPr>
            <p:spPr>
              <a:xfrm>
                <a:off x="2340000" y="6165720"/>
                <a:ext cx="4537080" cy="171720"/>
              </a:xfrm>
              <a:custGeom>
                <a:avLst/>
                <a:gdLst>
                  <a:gd name="textAreaLeft" fmla="*/ 1134360 w 4537080"/>
                  <a:gd name="textAreaRight" fmla="*/ 3403080 w 4537080"/>
                  <a:gd name="textAreaTop" fmla="*/ 2124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25" y="0"/>
                    </a:lnTo>
                    <a:arcTo wR="675" hR="675" stAng="16200000" swAng="5400000"/>
                    <a:lnTo>
                      <a:pt x="8100" y="2700"/>
                    </a:lnTo>
                    <a:lnTo>
                      <a:pt x="13500" y="2700"/>
                    </a:lnTo>
                    <a:lnTo>
                      <a:pt x="13500" y="675"/>
                    </a:lnTo>
                    <a:arcTo wR="675" hR="675" stAng="10800000" swAng="5400000"/>
                    <a:lnTo>
                      <a:pt x="21600" y="0"/>
                    </a:lnTo>
                    <a:lnTo>
                      <a:pt x="18900" y="9450"/>
                    </a:lnTo>
                    <a:lnTo>
                      <a:pt x="21600" y="18900"/>
                    </a:lnTo>
                    <a:lnTo>
                      <a:pt x="16200" y="18900"/>
                    </a:lnTo>
                    <a:lnTo>
                      <a:pt x="16200" y="20925"/>
                    </a:lnTo>
                    <a:arcTo wR="675" hR="675" stAng="0" swAng="5400000"/>
                    <a:lnTo>
                      <a:pt x="6075" y="21600"/>
                    </a:lnTo>
                    <a:arcTo wR="675" hR="675" stAng="5400000" swAng="5400000"/>
                    <a:lnTo>
                      <a:pt x="5400" y="18900"/>
                    </a:lnTo>
                    <a:lnTo>
                      <a:pt x="0" y="18900"/>
                    </a:lnTo>
                    <a:lnTo>
                      <a:pt x="2700" y="9450"/>
                    </a:lnTo>
                    <a:close/>
                  </a:path>
                  <a:path fill="none" w="21600" h="21600">
                    <a:moveTo>
                      <a:pt x="8100" y="675"/>
                    </a:moveTo>
                    <a:arcTo wR="675" hR="675" stAng="0" swAng="5400000"/>
                    <a:lnTo>
                      <a:pt x="6075" y="1350"/>
                    </a:lnTo>
                    <a:arcTo wR="675" hR="675" stAng="16200000" swAng="-5400000"/>
                    <a:arcTo wR="675" hR="675" stAng="10800000" swAng="-5400000"/>
                    <a:lnTo>
                      <a:pt x="8100" y="2700"/>
                    </a:lnTo>
                  </a:path>
                  <a:path fill="none" w="21600" h="21600">
                    <a:moveTo>
                      <a:pt x="13500" y="675"/>
                    </a:moveTo>
                    <a:arcTo wR="675" hR="675" stAng="10800000" swAng="-5400000"/>
                    <a:lnTo>
                      <a:pt x="15525" y="1350"/>
                    </a:lnTo>
                    <a:arcTo wR="675" hR="675" stAng="16200000" swAng="5400000"/>
                    <a:arcTo wR="675" hR="675" stAng="0" swAng="5400000"/>
                    <a:lnTo>
                      <a:pt x="13500" y="2700"/>
                    </a:lnTo>
                  </a:path>
                  <a:path fill="none" w="21600" h="21600">
                    <a:moveTo>
                      <a:pt x="5400" y="2025"/>
                    </a:moveTo>
                    <a:lnTo>
                      <a:pt x="5400" y="18900"/>
                    </a:lnTo>
                  </a:path>
                  <a:path fill="none" w="21600" h="21600">
                    <a:moveTo>
                      <a:pt x="16200" y="2025"/>
                    </a:moveTo>
                    <a:lnTo>
                      <a:pt x="16200" y="1890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Group 5"/>
              <p:cNvGrpSpPr/>
              <p:nvPr/>
            </p:nvGrpSpPr>
            <p:grpSpPr>
              <a:xfrm>
                <a:off x="250920" y="1268280"/>
                <a:ext cx="8610480" cy="4876920"/>
                <a:chOff x="250920" y="1268280"/>
                <a:chExt cx="8610480" cy="4876920"/>
              </a:xfrm>
            </p:grpSpPr>
            <p:sp>
              <p:nvSpPr>
                <p:cNvPr id="55" name="AutoShape 6"/>
                <p:cNvSpPr/>
                <p:nvPr/>
              </p:nvSpPr>
              <p:spPr>
                <a:xfrm>
                  <a:off x="250920" y="1268280"/>
                  <a:ext cx="8610480" cy="4876920"/>
                </a:xfrm>
                <a:custGeom>
                  <a:avLst/>
                  <a:gdLst>
                    <a:gd name="textAreaLeft" fmla="*/ 574560 w 8610480"/>
                    <a:gd name="textAreaRight" fmla="*/ 8035920 w 8610480"/>
                    <a:gd name="textAreaTop" fmla="*/ 574560 h 4876920"/>
                    <a:gd name="textAreaBottom" fmla="*/ 4302360 h 4876920"/>
                  </a:gdLst>
                  <a:ahLst/>
                  <a:rect l="textAreaLeft" t="textAreaTop" r="textAreaRight" b="textAreaBottom"/>
                  <a:pathLst>
                    <a:path w="38135" h="21600">
                      <a:moveTo>
                        <a:pt x="3600" y="0"/>
                      </a:moveTo>
                      <a:arcTo wR="3600" hR="3600" stAng="0" swAng="5400000"/>
                      <a:lnTo>
                        <a:pt x="0" y="18000"/>
                      </a:lnTo>
                      <a:arcTo wR="3600" hR="3600" stAng="16200000" swAng="5400000"/>
                      <a:lnTo>
                        <a:pt x="34535" y="21600"/>
                      </a:lnTo>
                      <a:arcTo wR="3600" hR="3600" stAng="10800000" swAng="5400000"/>
                      <a:lnTo>
                        <a:pt x="38135" y="3600"/>
                      </a:lnTo>
                      <a:arcTo wR="3600" hR="3600" stAng="5400000" swAng="5400000"/>
                      <a:close/>
                    </a:path>
                  </a:pathLst>
                </a:custGeom>
                <a:solidFill>
                  <a:srgbClr val="ff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" name="Picture 7" descr="BD20657_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71640" y="1413000"/>
                  <a:ext cx="7162560" cy="514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8" descr="BD20657_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42920" y="5516640"/>
                  <a:ext cx="7162920" cy="514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58" name="Object 9" descr=""/>
            <p:cNvPicPr/>
            <p:nvPr/>
          </p:nvPicPr>
          <p:blipFill>
            <a:blip r:embed="rId3"/>
            <a:stretch/>
          </p:blipFill>
          <p:spPr>
            <a:xfrm>
              <a:off x="6732720" y="3645000"/>
              <a:ext cx="120312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Rectangle 10"/>
          <p:cNvSpPr/>
          <p:nvPr/>
        </p:nvSpPr>
        <p:spPr>
          <a:xfrm>
            <a:off x="0" y="307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627280" y="2492280"/>
            <a:ext cx="3960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700360" y="2133720"/>
            <a:ext cx="4176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上有个魔术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爱给大家变戏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变猪变羊又变马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看得大家笑哈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0" y="333360"/>
            <a:ext cx="2556000" cy="358920"/>
          </a:xfrm>
          <a:prstGeom prst="cloudCallout">
            <a:avLst>
              <a:gd name="adj1" fmla="val 67888"/>
              <a:gd name="adj2" fmla="val 202212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2700000"/>
          </a:gra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276720" y="549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    谜 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963720" y="911160"/>
            <a:ext cx="716112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90a74"/>
                </a:solidFill>
                <a:latin typeface="Times New Roman"/>
              </a:rPr>
              <a:t>作者从哪两方面讲了火烧云的变化</a:t>
            </a:r>
            <a:r>
              <a:rPr b="1" lang="en-US" sz="6600" spc="-1" strike="noStrike">
                <a:solidFill>
                  <a:srgbClr val="190a74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908000" y="3860640"/>
            <a:ext cx="53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颜色、  形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6半灰"/>
          <p:cNvPicPr/>
          <p:nvPr/>
        </p:nvPicPr>
        <p:blipFill>
          <a:blip r:embed="rId1"/>
          <a:stretch/>
        </p:blipFill>
        <p:spPr>
          <a:xfrm>
            <a:off x="0" y="3500280"/>
            <a:ext cx="3132000" cy="207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44039"/>
          <p:cNvPicPr/>
          <p:nvPr/>
        </p:nvPicPr>
        <p:blipFill>
          <a:blip r:embed="rId2"/>
          <a:stretch/>
        </p:blipFill>
        <p:spPr>
          <a:xfrm>
            <a:off x="3200400" y="35053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144357"/>
          <p:cNvPicPr/>
          <p:nvPr/>
        </p:nvPicPr>
        <p:blipFill>
          <a:blip r:embed="rId3"/>
          <a:stretch/>
        </p:blipFill>
        <p:spPr>
          <a:xfrm>
            <a:off x="0" y="0"/>
            <a:ext cx="3745080" cy="245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5半紫"/>
          <p:cNvPicPr/>
          <p:nvPr/>
        </p:nvPicPr>
        <p:blipFill>
          <a:blip r:embed="rId4"/>
          <a:stretch/>
        </p:blipFill>
        <p:spPr>
          <a:xfrm>
            <a:off x="4932360" y="0"/>
            <a:ext cx="421164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97344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金灿灿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260400" y="256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半紫半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8" descr="J0148849-p"/>
          <p:cNvPicPr/>
          <p:nvPr/>
        </p:nvPicPr>
        <p:blipFill>
          <a:blip r:embed="rId5"/>
          <a:stretch/>
        </p:blipFill>
        <p:spPr>
          <a:xfrm>
            <a:off x="6443640" y="3500280"/>
            <a:ext cx="2700360" cy="2089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891360" y="580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半灰半百合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398480" y="58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茄子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7576920" y="573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梨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3红通通"/>
          <p:cNvPicPr/>
          <p:nvPr/>
        </p:nvPicPr>
        <p:blipFill>
          <a:blip r:embed="rId1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J0144357"/>
          <p:cNvPicPr/>
          <p:nvPr/>
        </p:nvPicPr>
        <p:blipFill>
          <a:blip r:embed="rId2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5半紫"/>
          <p:cNvPicPr/>
          <p:nvPr/>
        </p:nvPicPr>
        <p:blipFill>
          <a:blip r:embed="rId3"/>
          <a:srcRect l="2381" t="0" r="1563" b="0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6半灰"/>
          <p:cNvPicPr/>
          <p:nvPr/>
        </p:nvPicPr>
        <p:blipFill>
          <a:blip r:embed="rId4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0099"/>
          <p:cNvPicPr/>
          <p:nvPr/>
        </p:nvPicPr>
        <p:blipFill>
          <a:blip r:embed="rId5"/>
          <a:srcRect l="3144" t="1535" r="2360" b="0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148849-p"/>
          <p:cNvPicPr/>
          <p:nvPr/>
        </p:nvPicPr>
        <p:blipFill>
          <a:blip r:embed="rId6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8"/>
          <p:cNvGrpSpPr/>
          <p:nvPr/>
        </p:nvGrpSpPr>
        <p:grpSpPr>
          <a:xfrm>
            <a:off x="0" y="0"/>
            <a:ext cx="9144000" cy="4580640"/>
            <a:chOff x="0" y="0"/>
            <a:chExt cx="9144000" cy="4580640"/>
          </a:xfrm>
        </p:grpSpPr>
        <p:grpSp>
          <p:nvGrpSpPr>
            <p:cNvPr id="120" name="Group 9"/>
            <p:cNvGrpSpPr/>
            <p:nvPr/>
          </p:nvGrpSpPr>
          <p:grpSpPr>
            <a:xfrm>
              <a:off x="0" y="0"/>
              <a:ext cx="9144000" cy="4580640"/>
              <a:chOff x="0" y="0"/>
              <a:chExt cx="9144000" cy="4580640"/>
            </a:xfrm>
          </p:grpSpPr>
          <p:grpSp>
            <p:nvGrpSpPr>
              <p:cNvPr id="121" name="Group 10"/>
              <p:cNvGrpSpPr/>
              <p:nvPr/>
            </p:nvGrpSpPr>
            <p:grpSpPr>
              <a:xfrm>
                <a:off x="0" y="2219400"/>
                <a:ext cx="9144000" cy="2361240"/>
                <a:chOff x="0" y="2219400"/>
                <a:chExt cx="9144000" cy="2361240"/>
              </a:xfrm>
            </p:grpSpPr>
            <p:grpSp>
              <p:nvGrpSpPr>
                <p:cNvPr id="122" name="Group 11"/>
                <p:cNvGrpSpPr/>
                <p:nvPr/>
              </p:nvGrpSpPr>
              <p:grpSpPr>
                <a:xfrm>
                  <a:off x="0" y="2219400"/>
                  <a:ext cx="6372360" cy="2361240"/>
                  <a:chOff x="0" y="2219400"/>
                  <a:chExt cx="6372360" cy="2361240"/>
                </a:xfrm>
              </p:grpSpPr>
              <p:pic>
                <p:nvPicPr>
                  <p:cNvPr id="123" name="Picture 12" descr="6半灰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2219400"/>
                    <a:ext cx="3132000" cy="23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4" name="Picture 13" descr="0099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2337480"/>
                    <a:ext cx="324036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25" name="Picture 14" descr="J0148849-p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00720" y="2337480"/>
                  <a:ext cx="2843280" cy="224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6" name="Picture 15" descr="5半紫"/>
              <p:cNvPicPr/>
              <p:nvPr/>
            </p:nvPicPr>
            <p:blipFill>
              <a:blip r:embed="rId10"/>
              <a:stretch/>
            </p:blipFill>
            <p:spPr>
              <a:xfrm>
                <a:off x="6300720" y="0"/>
                <a:ext cx="2843280" cy="2337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6"/>
            <p:cNvGrpSpPr/>
            <p:nvPr/>
          </p:nvGrpSpPr>
          <p:grpSpPr>
            <a:xfrm>
              <a:off x="0" y="0"/>
              <a:ext cx="6335640" cy="2456640"/>
              <a:chOff x="0" y="0"/>
              <a:chExt cx="6335640" cy="2456640"/>
            </a:xfrm>
          </p:grpSpPr>
          <p:pic>
            <p:nvPicPr>
              <p:cNvPr id="128" name="Picture 17" descr="J0144357"/>
              <p:cNvPicPr/>
              <p:nvPr/>
            </p:nvPicPr>
            <p:blipFill>
              <a:blip r:embed="rId11"/>
              <a:stretch/>
            </p:blipFill>
            <p:spPr>
              <a:xfrm>
                <a:off x="3203640" y="0"/>
                <a:ext cx="3132000" cy="245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8" descr="3红通通"/>
              <p:cNvPicPr/>
              <p:nvPr/>
            </p:nvPicPr>
            <p:blipFill>
              <a:blip r:embed="rId12"/>
              <a:stretch/>
            </p:blipFill>
            <p:spPr>
              <a:xfrm>
                <a:off x="0" y="0"/>
                <a:ext cx="3203640" cy="2456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0" name="Text Box 19"/>
          <p:cNvSpPr/>
          <p:nvPr/>
        </p:nvSpPr>
        <p:spPr>
          <a:xfrm>
            <a:off x="900000" y="5229360"/>
            <a:ext cx="71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0" y="465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这 地方的火烧云变化极多，一会儿红彤彤的，一会儿金灿灿的，一会儿半紫半黄， 一会儿半灰半百合色。葡萄灰，梨黄，茄子紫，这些颜色天空都有，还有些说也说不出来、见也没见过的颜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3"/>
          <p:cNvSpPr txBox="1"/>
          <p:nvPr/>
        </p:nvSpPr>
        <p:spPr>
          <a:xfrm>
            <a:off x="755640" y="155736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中宋"/>
              </a:rPr>
              <a:t>火烧云的变化极多</a:t>
            </a:r>
            <a:endParaRPr b="1" i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u=4071094404,4226321355&amp;gp=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会儿，天空出现一匹马，马头向南，马尾向西。马是跪着的，像等人骑上它的背，它才站起来似的。过了两三秒钟，那匹马大起来了，腿伸开了，脖子也长了，尾巴可不见了。看的人正在寻找马尾巴，那匹马变模糊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忽然又来了一条大狗。那条大狗十分凶猛，在向前跑，后边似乎还跟着好几条小狗。跑这跑着，小狗不知哪里去了，大狗也不见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接着又来了一头大狮子，跟庙门前的石头狮子一模一样，也那么大，也那样蹲着，很威武很镇静的蹲着。可是一转眼就变了，再也找不着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397080" y="1699920"/>
            <a:ext cx="633708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马是跪着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">
            <a:hlinkClick r:id="rId1" action="ppaction://hlinksldjump"/>
          </p:cNvPr>
          <p:cNvSpPr/>
          <p:nvPr/>
        </p:nvSpPr>
        <p:spPr>
          <a:xfrm>
            <a:off x="8675640" y="6021360"/>
            <a:ext cx="217440" cy="287280"/>
          </a:xfrm>
          <a:custGeom>
            <a:avLst/>
            <a:gdLst>
              <a:gd name="textAreaLeft" fmla="*/ 14040 w 217440"/>
              <a:gd name="textAreaRight" fmla="*/ 203400 w 217440"/>
              <a:gd name="textAreaTop" fmla="*/ 14040 h 287280"/>
              <a:gd name="textAreaBottom" fmla="*/ 273240 h 287280"/>
            </a:gdLst>
            <a:ahLst/>
            <a:rect l="textAreaLeft" t="textAreaTop" r="textAreaRight" b="textAreaBottom"/>
            <a:pathLst>
              <a:path w="21600" h="28526">
                <a:moveTo>
                  <a:pt x="0" y="0"/>
                </a:moveTo>
                <a:lnTo>
                  <a:pt x="21600" y="0"/>
                </a:lnTo>
                <a:lnTo>
                  <a:pt x="21600" y="28526"/>
                </a:lnTo>
                <a:lnTo>
                  <a:pt x="0" y="28526"/>
                </a:lnTo>
                <a:close/>
              </a:path>
              <a:path fill="lightenLess" w="21600" h="285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526">
                <a:moveTo>
                  <a:pt x="21600" y="0"/>
                </a:moveTo>
                <a:lnTo>
                  <a:pt x="21600" y="28526"/>
                </a:lnTo>
                <a:lnTo>
                  <a:pt x="20200" y="27126"/>
                </a:lnTo>
                <a:lnTo>
                  <a:pt x="20200" y="1400"/>
                </a:lnTo>
                <a:close/>
              </a:path>
              <a:path fill="darkenLess" w="21600" h="28526">
                <a:moveTo>
                  <a:pt x="21600" y="28526"/>
                </a:moveTo>
                <a:lnTo>
                  <a:pt x="0" y="28526"/>
                </a:lnTo>
                <a:lnTo>
                  <a:pt x="1400" y="27126"/>
                </a:lnTo>
                <a:lnTo>
                  <a:pt x="20200" y="27126"/>
                </a:lnTo>
                <a:close/>
              </a:path>
              <a:path fill="lighten" w="21600" h="28526">
                <a:moveTo>
                  <a:pt x="0" y="285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126"/>
                </a:lnTo>
                <a:close/>
              </a:path>
              <a:path fill="darken" w="21600" h="28526">
                <a:moveTo>
                  <a:pt x="14299" y="14263"/>
                </a:moveTo>
                <a:lnTo>
                  <a:pt x="3794" y="21270"/>
                </a:lnTo>
                <a:lnTo>
                  <a:pt x="3794" y="7257"/>
                </a:lnTo>
                <a:close/>
              </a:path>
              <a:path fill="darken" w="21600" h="28526">
                <a:moveTo>
                  <a:pt x="16144" y="7257"/>
                </a:moveTo>
                <a:lnTo>
                  <a:pt x="16144" y="21270"/>
                </a:lnTo>
                <a:lnTo>
                  <a:pt x="17806" y="21270"/>
                </a:lnTo>
                <a:lnTo>
                  <a:pt x="17806" y="72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783080" y="4446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比较下列两个句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185200" y="3095640"/>
            <a:ext cx="497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马是跪着的，像等人骑上它的背，它才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来似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145880" y="914400"/>
            <a:ext cx="6795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作者描写火烧云，主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抓住了火烧云的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(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              </a:t>
            </a: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、和（               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的特点来进行描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204880" y="3809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变化极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380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1041120" y="2514600"/>
            <a:ext cx="6049800" cy="2212200"/>
            <a:chOff x="1041120" y="2514600"/>
            <a:chExt cx="6049800" cy="2212200"/>
          </a:xfrm>
        </p:grpSpPr>
        <p:sp>
          <p:nvSpPr>
            <p:cNvPr id="144" name="Text Box 6"/>
            <p:cNvSpPr/>
            <p:nvPr/>
          </p:nvSpPr>
          <p:spPr>
            <a:xfrm>
              <a:off x="6596280" y="2514600"/>
              <a:ext cx="49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</a:rPr>
                <a:t>颜色、形状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1041120" y="38098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Times New Roman"/>
                </a:rPr>
                <a:t>极多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chimes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=4071094404,4226321355&amp;gp=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0" y="12949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时恍恍惚惚的，天空里又像这个又像那个，其实什么也不像，什么也看不清了，必须低下头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揉一揉眼睛，沉静一会儿再看。可是天空偏偏不等待那些爱好它的孩子。一会儿工夫，火烧云下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0920" y="1268280"/>
            <a:ext cx="7846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二、按课文原句填空，想一想所填词语的作用，把自己思考的结果说给同学听听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天上的云从西边一直（烧）东边，红通通的，好像是（天空着了火 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这地方的火烧云（变化极多 ），　一　会　儿　　（红彤彤），　一会儿　（金烂烂的），　一　会　儿　（半紫半黄），一会儿（半灰白半百合色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三、摘录课文中描写火烧云颜色多，而且变化快的句子，边抄边想，作者为什么能把火烧云描写得那样生动具体，你从中学到了哪些观察的方法？在小组中交流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四、在作者的眼里火烧云是那么好看，那么有趣，你从中受到什么启示。把自己的想法与同学交流，再简要地写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395280" y="404640"/>
            <a:ext cx="309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宋体"/>
              </a:rPr>
              <a:t>想想说说做做：</a:t>
            </a:r>
            <a:endParaRPr b="1" lang="en-US" sz="2000" spc="1" strike="noStrike">
              <a:ln w="9360">
                <a:solidFill>
                  <a:srgbClr val="ff9900"/>
                </a:solidFill>
                <a:round/>
              </a:ln>
              <a:solidFill>
                <a:srgbClr val="ff9900"/>
              </a:soli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AutoShape 4">
            <a:hlinkClick r:id="rId1" action="ppaction://hlinksldjump"/>
          </p:cNvPr>
          <p:cNvSpPr/>
          <p:nvPr/>
        </p:nvSpPr>
        <p:spPr>
          <a:xfrm>
            <a:off x="8459640" y="6093000"/>
            <a:ext cx="217800" cy="287280"/>
          </a:xfrm>
          <a:custGeom>
            <a:avLst/>
            <a:gdLst>
              <a:gd name="textAreaLeft" fmla="*/ 14040 w 217800"/>
              <a:gd name="textAreaRight" fmla="*/ 203760 w 217800"/>
              <a:gd name="textAreaTop" fmla="*/ 14040 h 287280"/>
              <a:gd name="textAreaBottom" fmla="*/ 273240 h 287280"/>
            </a:gdLst>
            <a:ahLst/>
            <a:rect l="textAreaLeft" t="textAreaTop" r="textAreaRight" b="textAreaBottom"/>
            <a:pathLst>
              <a:path w="21600" h="28479">
                <a:moveTo>
                  <a:pt x="0" y="0"/>
                </a:moveTo>
                <a:lnTo>
                  <a:pt x="21600" y="0"/>
                </a:lnTo>
                <a:lnTo>
                  <a:pt x="21600" y="28479"/>
                </a:lnTo>
                <a:lnTo>
                  <a:pt x="0" y="28479"/>
                </a:lnTo>
                <a:close/>
              </a:path>
              <a:path fill="lightenLess" w="21600" h="284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79">
                <a:moveTo>
                  <a:pt x="21600" y="0"/>
                </a:moveTo>
                <a:lnTo>
                  <a:pt x="21600" y="28479"/>
                </a:lnTo>
                <a:lnTo>
                  <a:pt x="20200" y="27079"/>
                </a:lnTo>
                <a:lnTo>
                  <a:pt x="20200" y="1400"/>
                </a:lnTo>
                <a:close/>
              </a:path>
              <a:path fill="darkenLess" w="21600" h="28479">
                <a:moveTo>
                  <a:pt x="21600" y="28479"/>
                </a:moveTo>
                <a:lnTo>
                  <a:pt x="0" y="28479"/>
                </a:lnTo>
                <a:lnTo>
                  <a:pt x="1400" y="27079"/>
                </a:lnTo>
                <a:lnTo>
                  <a:pt x="20200" y="27079"/>
                </a:lnTo>
                <a:close/>
              </a:path>
              <a:path fill="lighten" w="21600" h="28479">
                <a:moveTo>
                  <a:pt x="0" y="284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79"/>
                </a:lnTo>
                <a:close/>
              </a:path>
              <a:path fill="darken" w="21600" h="28479">
                <a:moveTo>
                  <a:pt x="14299" y="14240"/>
                </a:moveTo>
                <a:lnTo>
                  <a:pt x="3794" y="21246"/>
                </a:lnTo>
                <a:lnTo>
                  <a:pt x="3794" y="7233"/>
                </a:lnTo>
                <a:close/>
              </a:path>
              <a:path fill="darken" w="21600" h="28479">
                <a:moveTo>
                  <a:pt x="16144" y="7233"/>
                </a:moveTo>
                <a:lnTo>
                  <a:pt x="16144" y="21246"/>
                </a:lnTo>
                <a:lnTo>
                  <a:pt x="17806" y="21246"/>
                </a:lnTo>
                <a:lnTo>
                  <a:pt x="17806" y="723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5076720" y="1989000"/>
            <a:ext cx="432000" cy="2876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195640" y="2276640"/>
            <a:ext cx="1584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00720" y="2565360"/>
            <a:ext cx="1295280" cy="35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258920" y="2924280"/>
            <a:ext cx="107964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643280" y="2924280"/>
            <a:ext cx="12240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332000" y="3284640"/>
            <a:ext cx="12240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4356000" y="3284640"/>
            <a:ext cx="2160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u=4071094404,4226321355&amp;gp=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33"/>
                </a:solidFill>
                <a:latin typeface="Times New Roman"/>
              </a:rPr>
              <a:t>段落大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4920" y="19890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自然段：写火烧云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自然段：写叫火烧云的原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自然段：写火烧云各种各样的颜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4-6</a:t>
            </a: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自然段：写火烧云的各种形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第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2060"/>
                </a:solidFill>
                <a:latin typeface="Times New Roman"/>
              </a:rPr>
              <a:t>自然段：写火烧云下去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GZ157_7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ff33"/>
                </a:solidFill>
                <a:latin typeface="Times New Roman"/>
              </a:rPr>
              <a:t>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红霞（红彤彤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imes New Roman"/>
                <a:ea typeface="黑体"/>
              </a:rPr>
              <a:t>霞（云霞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彩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霞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五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</a:rPr>
              <a:t>彩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缤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纷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朝霞（早晨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4000" spc="-1" strike="noStrike" u="sng">
                <a:solidFill>
                  <a:srgbClr val="ffff66"/>
                </a:solidFill>
                <a:uFillTx/>
                <a:latin typeface="Times New Roman"/>
              </a:rPr>
              <a:t>晚霞（晚上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809880" y="2819520"/>
            <a:ext cx="152640" cy="2514600"/>
          </a:xfrm>
          <a:custGeom>
            <a:avLst/>
            <a:gdLst>
              <a:gd name="textAreaLeft" fmla="*/ 97560 w 152640"/>
              <a:gd name="textAreaRight" fmla="*/ 153000 w 1526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1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全文中心意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者以火烧云“上来了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—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变化着”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——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下去了”的先后顺序，描写了火烧云缤纷的色彩，变幻的形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311040" y="6095880"/>
            <a:ext cx="81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9"/>
          <p:cNvPicPr/>
          <p:nvPr/>
        </p:nvPicPr>
        <p:blipFill>
          <a:blip r:embed="rId1"/>
          <a:stretch/>
        </p:blipFill>
        <p:spPr>
          <a:xfrm>
            <a:off x="9360" y="3240"/>
            <a:ext cx="9134640" cy="6850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900000" y="2421000"/>
            <a:ext cx="65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以“烟花”为内容，想象它的颜色，按照“出现、变化、消失”这一顺序写一段话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250920" y="333360"/>
            <a:ext cx="374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4883-B693-475D-8A25-3E77142C7C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964820220070625214350014_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为什么人们又叫晚霞</a:t>
            </a:r>
            <a:r>
              <a:rPr b="0" i="1" lang="zh-CN" sz="4800" spc="-1" strike="noStrike">
                <a:solidFill>
                  <a:srgbClr val="ff00ff"/>
                </a:solidFill>
                <a:latin typeface="Times New Roman"/>
              </a:rPr>
              <a:t>火烧云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12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天上的云从西边一直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到东边，红彤彤的，好像是天空着了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</a:rPr>
              <a:t>火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2006112302465810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00605031104568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0076181028538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61227_dc_skill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3l8ORmAC"/>
          <p:cNvPicPr/>
          <p:nvPr/>
        </p:nvPicPr>
        <p:blipFill>
          <a:blip r:embed="rId1"/>
          <a:stretch/>
        </p:blipFill>
        <p:spPr>
          <a:xfrm>
            <a:off x="-3200400" y="-2400480"/>
            <a:ext cx="15544800" cy="11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0:34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1:40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