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265E-8697-47E3-92CB-32F8D0915C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D0BD-ECD2-46FC-91C9-D2958ACA75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523-E41F-4D47-ABF9-39D30C60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137-DC29-48A5-83D0-3442C4EA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6A4-D08C-42E1-B065-4F60EC7A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E31-593A-46F8-8D5A-65A6DB00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BFE-3F5D-4727-9CA8-9811C03E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B60-8F9F-4093-9AE8-D4CFDC5C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8DC-942F-4CDB-B632-645A0900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C4B-D1A3-4BEE-A89B-EB067772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CCD-2405-4FAF-8E71-484764C8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064-AC22-42DF-991D-BFFBB575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DDD-CE95-41A7-9BE0-EED4D81C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F07-45C6-4DB4-A9D0-53E2DCD7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41F3-8C91-49B6-B3D5-4450D29CF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49440" y="2436840"/>
            <a:ext cx="6048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6600cc"/>
                </a:solidFill>
                <a:latin typeface="华文隶书"/>
                <a:ea typeface="华文隶书"/>
              </a:rPr>
              <a:t>海滩上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9602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80880" y="1197000"/>
            <a:ext cx="8367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海滩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金色的海滩上，藏着无数彩色的小贝壳，这里一个，那里一个，多像彩色的小花朵！我捡哪捡哪，捡起了大海美丽的景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金色的海滩上，留下我的小脚窝，这里一个，那里一个，也像美丽的小花朵。我走哇走哇，走进了童年的欢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脚印2"/>
          <p:cNvPicPr/>
          <p:nvPr/>
        </p:nvPicPr>
        <p:blipFill>
          <a:blip r:embed="rId1"/>
          <a:stretch/>
        </p:blipFill>
        <p:spPr>
          <a:xfrm>
            <a:off x="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总结回味，拓展延伸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349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们的童年真让人羡慕啊，感谢你们把我带回了美好的童年，和我一起分享童年的欢乐！请同学们将你童年的快乐画下来或写下来，记录到小本本中去，当你当你翻开它、读起它时，快乐就会来到你的身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258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Times New Roman"/>
              </a:rPr>
              <a:t>再见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631800" y="5573880"/>
            <a:ext cx="64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99E2-4A6F-4AB6-AB70-B31D30C3F1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2781000"/>
            <a:ext cx="777240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正确、流利的朗读课文，背诵课文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诵读中体会大海景色的美丽，体会海边孩子的快乐，激发热爱家乡、热爱生活的情感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正确认读本课生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57720" y="1219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海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148640" y="1219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金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7010280" y="1219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无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267080" y="2514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贝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014920" y="29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这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705720" y="3200400"/>
            <a:ext cx="11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留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945160" y="47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脚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977440" y="4648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童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大海4"/>
          <p:cNvPicPr/>
          <p:nvPr/>
        </p:nvPicPr>
        <p:blipFill>
          <a:blip r:embed="rId1"/>
          <a:stretch/>
        </p:blipFill>
        <p:spPr>
          <a:xfrm>
            <a:off x="5003640" y="350028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main"/>
          <p:cNvPicPr/>
          <p:nvPr/>
        </p:nvPicPr>
        <p:blipFill>
          <a:blip r:embed="rId2"/>
          <a:stretch/>
        </p:blipFill>
        <p:spPr>
          <a:xfrm>
            <a:off x="4932360" y="404640"/>
            <a:ext cx="3780000" cy="251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贝壳1"/>
          <p:cNvPicPr/>
          <p:nvPr/>
        </p:nvPicPr>
        <p:blipFill>
          <a:blip r:embed="rId3"/>
          <a:stretch/>
        </p:blipFill>
        <p:spPr>
          <a:xfrm>
            <a:off x="971640" y="3500280"/>
            <a:ext cx="3600360" cy="2648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4283303_4"/>
          <p:cNvPicPr/>
          <p:nvPr/>
        </p:nvPicPr>
        <p:blipFill>
          <a:blip r:embed="rId4"/>
          <a:stretch/>
        </p:blipFill>
        <p:spPr>
          <a:xfrm>
            <a:off x="900000" y="404640"/>
            <a:ext cx="3598920" cy="2541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4"/>
          <p:cNvSpPr/>
          <p:nvPr/>
        </p:nvSpPr>
        <p:spPr>
          <a:xfrm>
            <a:off x="3348000" y="5373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同学们，你们看过大海吗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6044ac9467084404d31b7004"/>
          <p:cNvPicPr/>
          <p:nvPr/>
        </p:nvPicPr>
        <p:blipFill>
          <a:blip r:embed="rId1"/>
          <a:stretch/>
        </p:blipFill>
        <p:spPr>
          <a:xfrm>
            <a:off x="1763640" y="1916280"/>
            <a:ext cx="5681880" cy="4260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贝壳"/>
          <p:cNvPicPr/>
          <p:nvPr/>
        </p:nvPicPr>
        <p:blipFill>
          <a:blip r:embed="rId1"/>
          <a:stretch/>
        </p:blipFill>
        <p:spPr>
          <a:xfrm>
            <a:off x="1547640" y="1844640"/>
            <a:ext cx="5793120" cy="4345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900000" y="4762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当我们光着小脚丫，踩在松软的海滩上，你最想干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27636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3429000" cy="2257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贝壳6"/>
          <p:cNvPicPr/>
          <p:nvPr/>
        </p:nvPicPr>
        <p:blipFill>
          <a:blip r:embed="rId1"/>
          <a:stretch/>
        </p:blipFill>
        <p:spPr>
          <a:xfrm>
            <a:off x="762120" y="3429000"/>
            <a:ext cx="4057560" cy="302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3887640" cy="2549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组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640" y="285228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海滩上除了这些美丽的小贝壳外，为什么说捡起了大海美丽的景色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看到这些美丽的景色，你想说些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3:31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9:16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